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png" ContentType="image/png"/>
  <Override PartName="/ppt/media/chimes.wav" ContentType="audio/x-wav"/>
  <Override PartName="/ppt/media/image27.png" ContentType="image/png"/>
  <Override PartName="/ppt/media/image30.wmf" ContentType="image/x-wmf"/>
  <Override PartName="/ppt/media/image34.gif" ContentType="image/gif"/>
  <Override PartName="/ppt/media/image22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10.jpeg" ContentType="image/jpeg"/>
  <Override PartName="/ppt/media/image24.png" ContentType="image/png"/>
  <Override PartName="/ppt/media/image31.gif" ContentType="image/gif"/>
  <Override PartName="/ppt/media/image1.png" ContentType="image/png"/>
  <Override PartName="/ppt/media/image23.wmf" ContentType="image/x-wmf"/>
  <Override PartName="/ppt/media/image9.jpeg" ContentType="image/jpeg"/>
  <Override PartName="/ppt/media/image11.png" ContentType="image/png"/>
  <Override PartName="/ppt/media/image26.png" ContentType="image/png"/>
  <Override PartName="/ppt/media/image33.gif" ContentType="image/gif"/>
  <Override PartName="/ppt/media/image3.png" ContentType="image/png"/>
  <Override PartName="/ppt/media/image25.png" ContentType="image/png"/>
  <Override PartName="/ppt/media/image42.jpeg" ContentType="image/jpeg"/>
  <Override PartName="/ppt/media/image2.png" ContentType="image/png"/>
  <Override PartName="/ppt/media/image32.png" ContentType="image/png"/>
  <Override PartName="/ppt/media/image36.png" ContentType="image/png"/>
  <Override PartName="/ppt/media/image37.jpeg" ContentType="image/jpeg"/>
  <Override PartName="/ppt/media/image50.png" ContentType="image/png"/>
  <Override PartName="/ppt/media/image13.png" ContentType="image/png"/>
  <Override PartName="/ppt/media/image40.jpeg" ContentType="image/jpeg"/>
  <Override PartName="/ppt/media/image44.jpeg" ContentType="image/jpeg"/>
  <Override PartName="/ppt/media/image41.jpeg" ContentType="image/jpeg"/>
  <Override PartName="/ppt/media/image47.jpeg" ContentType="image/jpeg"/>
  <Override PartName="/ppt/media/image48.jpeg" ContentType="image/jpeg"/>
  <Override PartName="/ppt/media/image49.jpeg" ContentType="image/jpeg"/>
  <Override PartName="/ppt/media/image12.png" ContentType="image/png"/>
  <Override PartName="/ppt/media/image51.png" ContentType="image/png"/>
  <Override PartName="/ppt/media/image52.png" ContentType="image/png"/>
  <Override PartName="/ppt/media/image46.jpeg" ContentType="image/jpeg"/>
  <Override PartName="/ppt/media/image53.gif" ContentType="image/gif"/>
  <Override PartName="/ppt/media/image43.jpeg" ContentType="image/jpeg"/>
  <Override PartName="/ppt/media/image35.png" ContentType="image/png"/>
  <Override PartName="/ppt/media/image39.jpeg" ContentType="image/jpeg"/>
  <Override PartName="/ppt/media/image38.png" ContentType="image/png"/>
  <Override PartName="/ppt/media/image8.jpeg" ContentType="image/jpeg"/>
  <Override PartName="/ppt/media/image20.png" ContentType="image/png"/>
  <Override PartName="/ppt/media/image18.png" ContentType="image/png"/>
  <Override PartName="/ppt/media/image6.jpeg" ContentType="image/jpeg"/>
  <Override PartName="/ppt/media/image28.png" ContentType="image/png"/>
  <Override PartName="/ppt/media/image7.jpeg" ContentType="image/jpeg"/>
  <Override PartName="/ppt/media/image5.gif" ContentType="image/gif"/>
  <Override PartName="/ppt/media/image45.jpeg" ContentType="image/jpeg"/>
  <Override PartName="/ppt/media/image16.wmf" ContentType="image/x-wmf"/>
  <Override PartName="/ppt/media/image4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2ADF6-5C24-41D9-9352-1F63055F3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95FDC-98D0-4B82-BAE4-58B947F67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7094F-2BFC-4F66-860C-D336C3CBA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15463-5A05-4CDA-9A7E-B2F6A5D08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7CE83-AADA-4FB5-A93C-0B168C75F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03276-DE8E-4153-824F-2A915803C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FDC85-5DC2-4015-BBEF-4EBEF6C06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8F0DB-0373-4601-AD73-E85D265C4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BE462-B00B-42E6-80F4-EFD2E1DAC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D99F1-AE83-48F8-9A4F-ED7F0B29F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A2260-1C6C-4572-879D-A613E2275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11C70-6DB8-4AB6-A138-135ADF3D9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EC9FC-782C-4267-97A1-9E955A417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CD0BC-5D70-46C1-B914-AF81BE9A0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60DB4-B31D-4E60-B219-9E119AA5F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29B79-75D1-4C48-A361-7DB52159B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DB767-56C6-48F9-A573-D62AA300C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12DA6-FC29-4AC3-9250-51DD874F8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5EC4C-C620-460C-A728-E0C734185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32477-8B47-49C9-903E-5C2DDDA93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C0BA2-8D30-45EB-AD9E-0AA0A9C52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67347-8E68-4363-9971-DAEEDBB6D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5F75D-9B5E-42D6-9F09-616FE11D6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6FF15-3234-4F4E-9B3B-06BD616D1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7572C-80E5-4CD9-8AC0-F2284448F489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81CE2-2D99-44FA-A29C-425048C3C097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image" Target="../media/image15.png"/><Relationship Id="rId11" Type="http://schemas.openxmlformats.org/officeDocument/2006/relationships/image" Target="../media/image15.png"/><Relationship Id="rId12" Type="http://schemas.openxmlformats.org/officeDocument/2006/relationships/image" Target="../media/image15.png"/><Relationship Id="rId1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3.wmf"/><Relationship Id="rId8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image" Target="../media/image29.png"/><Relationship Id="rId7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gi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gi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audio" Target="file:///tmp/home/.config/libreoffice/4/user/gallery/chimes.wav" TargetMode="External"/><Relationship Id="rId3" Type="http://schemas.microsoft.com/office/2007/relationships/media" Target="file:///tmp/home/.config/libreoffice/4/user/gallery/chimes.wav" TargetMode="External"/><Relationship Id="rId4" Type="http://schemas.openxmlformats.org/officeDocument/2006/relationships/image" Target="../media/image35.png"/><Relationship Id="rId5" Type="http://schemas.openxmlformats.org/officeDocument/2006/relationships/image" Target="../media/image36.png"/><Relationship Id="rId6" Type="http://schemas.openxmlformats.org/officeDocument/2006/relationships/image" Target="../media/image36.png"/><Relationship Id="rId7" Type="http://schemas.openxmlformats.org/officeDocument/2006/relationships/image" Target="../media/image36.png"/><Relationship Id="rId8" Type="http://schemas.openxmlformats.org/officeDocument/2006/relationships/image" Target="../media/image36.png"/><Relationship Id="rId9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8.png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1.gif"/><Relationship Id="rId2" Type="http://schemas.openxmlformats.org/officeDocument/2006/relationships/image" Target="../media/image51.png"/><Relationship Id="rId3" Type="http://schemas.openxmlformats.org/officeDocument/2006/relationships/image" Target="../media/image52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3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ff0000"/>
                </a:solidFill>
                <a:latin typeface="Comic Sans MS"/>
              </a:rPr>
              <a:t>Тема: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uk-UA" sz="4000" spc="-1" strike="noStrike">
                <a:solidFill>
                  <a:srgbClr val="0000ff"/>
                </a:solidFill>
                <a:latin typeface="Times New Roman"/>
              </a:rPr>
              <a:t>Розв`язування задач з теми: «</a:t>
            </a:r>
            <a:r>
              <a:rPr b="1" lang="ru-RU" sz="4000" spc="-1" strike="noStrike">
                <a:solidFill>
                  <a:srgbClr val="0000ff"/>
                </a:solidFill>
                <a:latin typeface="Times New Roman"/>
              </a:rPr>
              <a:t>Квадратична функц</a:t>
            </a:r>
            <a:r>
              <a:rPr b="1" lang="uk-UA" sz="4000" spc="-1" strike="noStrike">
                <a:solidFill>
                  <a:srgbClr val="0000ff"/>
                </a:solidFill>
                <a:latin typeface="Times New Roman"/>
              </a:rPr>
              <a:t>ія, її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ff"/>
                </a:solidFill>
                <a:latin typeface="Times New Roman"/>
              </a:rPr>
              <a:t>            </a:t>
            </a:r>
            <a:r>
              <a:rPr b="1" lang="uk-UA" sz="4000" spc="-1" strike="noStrike">
                <a:solidFill>
                  <a:srgbClr val="0000ff"/>
                </a:solidFill>
                <a:latin typeface="Times New Roman"/>
              </a:rPr>
              <a:t>графік і властивості»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000000"/>
                </a:solidFill>
                <a:latin typeface="Arial Black"/>
              </a:rPr>
              <a:t>9 клас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7485120" y="3657600"/>
            <a:ext cx="1658880" cy="32004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4" descr="dd36efffaaed"/>
          <p:cNvPicPr/>
          <p:nvPr/>
        </p:nvPicPr>
        <p:blipFill>
          <a:blip r:embed="rId2"/>
          <a:stretch/>
        </p:blipFill>
        <p:spPr>
          <a:xfrm>
            <a:off x="0" y="333360"/>
            <a:ext cx="183528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2"/>
          <p:cNvSpPr/>
          <p:nvPr/>
        </p:nvSpPr>
        <p:spPr>
          <a:xfrm>
            <a:off x="2195640" y="260280"/>
            <a:ext cx="6769080" cy="15130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f0f0f0"/>
              </a:gs>
              <a:gs pos="100000">
                <a:srgbClr val="c0c0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На одному з рисунків зображено графі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               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функції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           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Вкажіть номер цього рисунк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3"/>
          <p:cNvSpPr/>
          <p:nvPr/>
        </p:nvSpPr>
        <p:spPr>
          <a:xfrm>
            <a:off x="179280" y="260280"/>
            <a:ext cx="1800360" cy="1513080"/>
          </a:xfrm>
          <a:prstGeom prst="rect">
            <a:avLst/>
          </a:prstGeom>
          <a:gradFill rotWithShape="0">
            <a:gsLst>
              <a:gs pos="0">
                <a:srgbClr val="cc99ff"/>
              </a:gs>
              <a:gs pos="50000">
                <a:srgbClr val="efdeff"/>
              </a:gs>
              <a:gs pos="100000">
                <a:srgbClr val="cc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2" name="Object 15"/>
              <p:cNvSpPr txBox="1"/>
              <p:nvPr/>
            </p:nvSpPr>
            <p:spPr>
              <a:xfrm>
                <a:off x="5003640" y="692280"/>
                <a:ext cx="2376720" cy="58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у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х</m:t>
                    </m:r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3" name="Rectangle 18"/>
          <p:cNvSpPr/>
          <p:nvPr/>
        </p:nvSpPr>
        <p:spPr>
          <a:xfrm>
            <a:off x="0" y="12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4" name="Object 17"/>
          <p:cNvGraphicFramePr/>
          <p:nvPr/>
        </p:nvGraphicFramePr>
        <p:xfrm>
          <a:off x="6512040" y="1773360"/>
          <a:ext cx="2631960" cy="482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5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12040" y="1773360"/>
                    <a:ext cx="2631960" cy="482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6" name="Rectangle 20"/>
          <p:cNvSpPr/>
          <p:nvPr/>
        </p:nvSpPr>
        <p:spPr>
          <a:xfrm>
            <a:off x="0" y="12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7" name="Object 19"/>
          <p:cNvGraphicFramePr/>
          <p:nvPr/>
        </p:nvGraphicFramePr>
        <p:xfrm>
          <a:off x="2340000" y="3141720"/>
          <a:ext cx="2736720" cy="2952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8" name="Object 1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3141720"/>
                    <a:ext cx="2736720" cy="295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9" name="Rectangle 22"/>
          <p:cNvSpPr/>
          <p:nvPr/>
        </p:nvSpPr>
        <p:spPr>
          <a:xfrm>
            <a:off x="0" y="160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0" name="Object 21"/>
          <p:cNvGraphicFramePr/>
          <p:nvPr/>
        </p:nvGraphicFramePr>
        <p:xfrm>
          <a:off x="4140360" y="2060640"/>
          <a:ext cx="2663640" cy="2924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61" name="Object 2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140360" y="2060640"/>
                    <a:ext cx="2663640" cy="29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2" name="Rectangle 24"/>
          <p:cNvSpPr/>
          <p:nvPr/>
        </p:nvSpPr>
        <p:spPr>
          <a:xfrm>
            <a:off x="0" y="160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3" name="Object 23"/>
          <p:cNvGraphicFramePr/>
          <p:nvPr/>
        </p:nvGraphicFramePr>
        <p:xfrm>
          <a:off x="0" y="1916280"/>
          <a:ext cx="2627280" cy="4941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64" name="Object 23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1916280"/>
                    <a:ext cx="2627280" cy="49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5" name="AutoShape 25"/>
          <p:cNvSpPr/>
          <p:nvPr/>
        </p:nvSpPr>
        <p:spPr>
          <a:xfrm>
            <a:off x="1116000" y="5084640"/>
            <a:ext cx="576360" cy="432000"/>
          </a:xfrm>
          <a:custGeom>
            <a:avLst/>
            <a:gdLst>
              <a:gd name="textAreaLeft" fmla="*/ 27720 w 576360"/>
              <a:gd name="textAreaRight" fmla="*/ 548640 w 57636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8812" h="21600">
                <a:moveTo>
                  <a:pt x="0" y="0"/>
                </a:moveTo>
                <a:lnTo>
                  <a:pt x="28812" y="0"/>
                </a:lnTo>
                <a:lnTo>
                  <a:pt x="28812" y="21600"/>
                </a:lnTo>
                <a:lnTo>
                  <a:pt x="0" y="21600"/>
                </a:lnTo>
                <a:close/>
              </a:path>
              <a:path fill="lightenLess" w="28812" h="21600">
                <a:moveTo>
                  <a:pt x="0" y="0"/>
                </a:moveTo>
                <a:lnTo>
                  <a:pt x="28812" y="0"/>
                </a:lnTo>
                <a:lnTo>
                  <a:pt x="27412" y="1400"/>
                </a:lnTo>
                <a:lnTo>
                  <a:pt x="1400" y="1400"/>
                </a:lnTo>
                <a:close/>
              </a:path>
              <a:path fill="darken" w="28812" h="21600">
                <a:moveTo>
                  <a:pt x="28812" y="0"/>
                </a:moveTo>
                <a:lnTo>
                  <a:pt x="28812" y="21600"/>
                </a:lnTo>
                <a:lnTo>
                  <a:pt x="27412" y="20200"/>
                </a:lnTo>
                <a:lnTo>
                  <a:pt x="27412" y="1400"/>
                </a:lnTo>
                <a:close/>
              </a:path>
              <a:path fill="darkenLess" w="28812" h="21600">
                <a:moveTo>
                  <a:pt x="288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2" y="20200"/>
                </a:lnTo>
                <a:close/>
              </a:path>
              <a:path fill="lighten" w="288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9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AutoShape 26"/>
          <p:cNvSpPr/>
          <p:nvPr/>
        </p:nvSpPr>
        <p:spPr>
          <a:xfrm>
            <a:off x="3348000" y="6237360"/>
            <a:ext cx="576360" cy="431640"/>
          </a:xfrm>
          <a:custGeom>
            <a:avLst/>
            <a:gdLst>
              <a:gd name="textAreaLeft" fmla="*/ 27720 w 576360"/>
              <a:gd name="textAreaRight" fmla="*/ 548640 w 57636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36" h="21600">
                <a:moveTo>
                  <a:pt x="0" y="0"/>
                </a:moveTo>
                <a:lnTo>
                  <a:pt x="28836" y="0"/>
                </a:lnTo>
                <a:lnTo>
                  <a:pt x="28836" y="21600"/>
                </a:lnTo>
                <a:lnTo>
                  <a:pt x="0" y="21600"/>
                </a:lnTo>
                <a:close/>
              </a:path>
              <a:path fill="lightenLess" w="28836" h="21600">
                <a:moveTo>
                  <a:pt x="0" y="0"/>
                </a:moveTo>
                <a:lnTo>
                  <a:pt x="28836" y="0"/>
                </a:lnTo>
                <a:lnTo>
                  <a:pt x="27436" y="1400"/>
                </a:lnTo>
                <a:lnTo>
                  <a:pt x="1400" y="1400"/>
                </a:lnTo>
                <a:close/>
              </a:path>
              <a:path fill="darken" w="28836" h="21600">
                <a:moveTo>
                  <a:pt x="28836" y="0"/>
                </a:moveTo>
                <a:lnTo>
                  <a:pt x="28836" y="21600"/>
                </a:lnTo>
                <a:lnTo>
                  <a:pt x="27436" y="20200"/>
                </a:lnTo>
                <a:lnTo>
                  <a:pt x="27436" y="1400"/>
                </a:lnTo>
                <a:close/>
              </a:path>
              <a:path fill="darkenLess" w="28836" h="21600">
                <a:moveTo>
                  <a:pt x="288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36" y="20200"/>
                </a:lnTo>
                <a:close/>
              </a:path>
              <a:path fill="lighten" w="288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0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AutoShape 27"/>
          <p:cNvSpPr/>
          <p:nvPr/>
        </p:nvSpPr>
        <p:spPr>
          <a:xfrm>
            <a:off x="7596360" y="6237360"/>
            <a:ext cx="576000" cy="431640"/>
          </a:xfrm>
          <a:custGeom>
            <a:avLst/>
            <a:gdLst>
              <a:gd name="textAreaLeft" fmla="*/ 27720 w 576000"/>
              <a:gd name="textAreaRight" fmla="*/ 548280 w 576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18" h="21600">
                <a:moveTo>
                  <a:pt x="0" y="0"/>
                </a:moveTo>
                <a:lnTo>
                  <a:pt x="28818" y="0"/>
                </a:lnTo>
                <a:lnTo>
                  <a:pt x="28818" y="21600"/>
                </a:lnTo>
                <a:lnTo>
                  <a:pt x="0" y="21600"/>
                </a:lnTo>
                <a:close/>
              </a:path>
              <a:path fill="lightenLess" w="28818" h="21600">
                <a:moveTo>
                  <a:pt x="0" y="0"/>
                </a:moveTo>
                <a:lnTo>
                  <a:pt x="28818" y="0"/>
                </a:lnTo>
                <a:lnTo>
                  <a:pt x="27418" y="1400"/>
                </a:lnTo>
                <a:lnTo>
                  <a:pt x="1400" y="1400"/>
                </a:lnTo>
                <a:close/>
              </a:path>
              <a:path fill="darken" w="28818" h="21600">
                <a:moveTo>
                  <a:pt x="28818" y="0"/>
                </a:moveTo>
                <a:lnTo>
                  <a:pt x="28818" y="21600"/>
                </a:lnTo>
                <a:lnTo>
                  <a:pt x="27418" y="20200"/>
                </a:lnTo>
                <a:lnTo>
                  <a:pt x="27418" y="1400"/>
                </a:lnTo>
                <a:close/>
              </a:path>
              <a:path fill="darkenLess" w="28818" h="21600">
                <a:moveTo>
                  <a:pt x="288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8" y="20200"/>
                </a:lnTo>
                <a:close/>
              </a:path>
              <a:path fill="lighten" w="288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AutoShape 28"/>
          <p:cNvSpPr/>
          <p:nvPr/>
        </p:nvSpPr>
        <p:spPr>
          <a:xfrm>
            <a:off x="5435640" y="5157720"/>
            <a:ext cx="576360" cy="432000"/>
          </a:xfrm>
          <a:custGeom>
            <a:avLst/>
            <a:gdLst>
              <a:gd name="textAreaLeft" fmla="*/ 27720 w 576360"/>
              <a:gd name="textAreaRight" fmla="*/ 548640 w 57636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8812" h="21600">
                <a:moveTo>
                  <a:pt x="0" y="0"/>
                </a:moveTo>
                <a:lnTo>
                  <a:pt x="28812" y="0"/>
                </a:lnTo>
                <a:lnTo>
                  <a:pt x="28812" y="21600"/>
                </a:lnTo>
                <a:lnTo>
                  <a:pt x="0" y="21600"/>
                </a:lnTo>
                <a:close/>
              </a:path>
              <a:path fill="lightenLess" w="28812" h="21600">
                <a:moveTo>
                  <a:pt x="0" y="0"/>
                </a:moveTo>
                <a:lnTo>
                  <a:pt x="28812" y="0"/>
                </a:lnTo>
                <a:lnTo>
                  <a:pt x="27412" y="1400"/>
                </a:lnTo>
                <a:lnTo>
                  <a:pt x="1400" y="1400"/>
                </a:lnTo>
                <a:close/>
              </a:path>
              <a:path fill="darken" w="28812" h="21600">
                <a:moveTo>
                  <a:pt x="28812" y="0"/>
                </a:moveTo>
                <a:lnTo>
                  <a:pt x="28812" y="21600"/>
                </a:lnTo>
                <a:lnTo>
                  <a:pt x="27412" y="20200"/>
                </a:lnTo>
                <a:lnTo>
                  <a:pt x="27412" y="1400"/>
                </a:lnTo>
                <a:close/>
              </a:path>
              <a:path fill="darkenLess" w="28812" h="21600">
                <a:moveTo>
                  <a:pt x="288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2" y="20200"/>
                </a:lnTo>
                <a:close/>
              </a:path>
              <a:path fill="lighten" w="288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fill="hold">
                      <p:stCondLst>
                        <p:cond delay="0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2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3" restart="whenNotActive" nodeType="interactiveSeq" fill="hold">
                <p:stCondLst>
                  <p:cond evt="onClick">
                    <p:tgtEl>
                      <p:spTgt spid="265"/>
                    </p:tgtEl>
                  </p:cond>
                </p:stCondLst>
                <p:childTnLst>
                  <p:par>
                    <p:cTn id="484" fill="hold">
                      <p:stCondLst>
                        <p:cond evt="onClick">
                          <p:tgtEl>
                            <p:spTgt spid="265"/>
                          </p:tgtEl>
                        </p:cond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87" dur="1000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000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89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1" restart="whenNotActive" nodeType="interactiveSeq" fill="hold">
                <p:stCondLst>
                  <p:cond evt="onClick">
                    <p:tgtEl>
                      <p:spTgt spid="266"/>
                    </p:tgtEl>
                  </p:cond>
                </p:stCondLst>
                <p:childTnLst>
                  <p:par>
                    <p:cTn id="492" fill="hold">
                      <p:stCondLst>
                        <p:cond evt="onClick">
                          <p:tgtEl>
                            <p:spTgt spid="266"/>
                          </p:tgtEl>
                        </p:cond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95" dur="1000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97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9" restart="whenNotActive" nodeType="interactiveSeq" fill="hold">
                <p:stCondLst>
                  <p:cond evt="onClick">
                    <p:tgtEl>
                      <p:spTgt spid="268"/>
                    </p:tgtEl>
                  </p:cond>
                </p:stCondLst>
                <p:childTnLst>
                  <p:par>
                    <p:cTn id="500" fill="hold">
                      <p:stCondLst>
                        <p:cond evt="onClick">
                          <p:tgtEl>
                            <p:spTgt spid="268"/>
                          </p:tgtEl>
                        </p:cond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03" dur="1000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0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05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7" restart="whenNotActive" nodeType="interactiveSeq" fill="hold">
                <p:stCondLst>
                  <p:cond evt="onClick">
                    <p:tgtEl>
                      <p:spTgt spid="267"/>
                    </p:tgtEl>
                  </p:cond>
                </p:stCondLst>
                <p:childTnLst>
                  <p:par>
                    <p:cTn id="508" fill="hold">
                      <p:stCondLst>
                        <p:cond evt="onClick">
                          <p:tgtEl>
                            <p:spTgt spid="267"/>
                          </p:tgtEl>
                        </p:cond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1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12" dur="250" autoRev="1" fill="hold"/>
                                        <p:tgtEl>
                                          <p:spTgt spid="25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13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14" dur="1000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000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16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8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19" dur="1000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1000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21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3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24" dur="1000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26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4"/>
          <p:cNvSpPr/>
          <p:nvPr/>
        </p:nvSpPr>
        <p:spPr>
          <a:xfrm>
            <a:off x="2195640" y="260280"/>
            <a:ext cx="6769080" cy="15130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f0f0f0"/>
              </a:gs>
              <a:gs pos="100000">
                <a:srgbClr val="c0c0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Який графік із наведенних нижче функці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зображений на рисунку?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5"/>
          <p:cNvSpPr/>
          <p:nvPr/>
        </p:nvSpPr>
        <p:spPr>
          <a:xfrm>
            <a:off x="179280" y="260280"/>
            <a:ext cx="106560" cy="1513080"/>
          </a:xfrm>
          <a:prstGeom prst="rect">
            <a:avLst/>
          </a:prstGeom>
          <a:gradFill rotWithShape="0">
            <a:gsLst>
              <a:gs pos="0">
                <a:srgbClr val="cc99ff"/>
              </a:gs>
              <a:gs pos="50000">
                <a:srgbClr val="efdeff"/>
              </a:gs>
              <a:gs pos="100000">
                <a:srgbClr val="cc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1" name="Object 18"/>
          <p:cNvGraphicFramePr/>
          <p:nvPr/>
        </p:nvGraphicFramePr>
        <p:xfrm>
          <a:off x="0" y="1844640"/>
          <a:ext cx="3446640" cy="5013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2" name="Object 1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844640"/>
                    <a:ext cx="3446640" cy="501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3" name="AutoShape 20"/>
          <p:cNvSpPr/>
          <p:nvPr/>
        </p:nvSpPr>
        <p:spPr>
          <a:xfrm>
            <a:off x="8028000" y="2708280"/>
            <a:ext cx="576360" cy="431640"/>
          </a:xfrm>
          <a:custGeom>
            <a:avLst/>
            <a:gdLst>
              <a:gd name="textAreaLeft" fmla="*/ 27720 w 576360"/>
              <a:gd name="textAreaRight" fmla="*/ 548640 w 57636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36" h="21600">
                <a:moveTo>
                  <a:pt x="0" y="0"/>
                </a:moveTo>
                <a:lnTo>
                  <a:pt x="28836" y="0"/>
                </a:lnTo>
                <a:lnTo>
                  <a:pt x="28836" y="21600"/>
                </a:lnTo>
                <a:lnTo>
                  <a:pt x="0" y="21600"/>
                </a:lnTo>
                <a:close/>
              </a:path>
              <a:path fill="lightenLess" w="28836" h="21600">
                <a:moveTo>
                  <a:pt x="0" y="0"/>
                </a:moveTo>
                <a:lnTo>
                  <a:pt x="28836" y="0"/>
                </a:lnTo>
                <a:lnTo>
                  <a:pt x="27436" y="1400"/>
                </a:lnTo>
                <a:lnTo>
                  <a:pt x="1400" y="1400"/>
                </a:lnTo>
                <a:close/>
              </a:path>
              <a:path fill="darken" w="28836" h="21600">
                <a:moveTo>
                  <a:pt x="28836" y="0"/>
                </a:moveTo>
                <a:lnTo>
                  <a:pt x="28836" y="21600"/>
                </a:lnTo>
                <a:lnTo>
                  <a:pt x="27436" y="20200"/>
                </a:lnTo>
                <a:lnTo>
                  <a:pt x="27436" y="1400"/>
                </a:lnTo>
                <a:close/>
              </a:path>
              <a:path fill="darkenLess" w="28836" h="21600">
                <a:moveTo>
                  <a:pt x="288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36" y="20200"/>
                </a:lnTo>
                <a:close/>
              </a:path>
              <a:path fill="lighten" w="288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AutoShape 21"/>
          <p:cNvSpPr/>
          <p:nvPr/>
        </p:nvSpPr>
        <p:spPr>
          <a:xfrm>
            <a:off x="8028000" y="3645000"/>
            <a:ext cx="576360" cy="431640"/>
          </a:xfrm>
          <a:custGeom>
            <a:avLst/>
            <a:gdLst>
              <a:gd name="textAreaLeft" fmla="*/ 27720 w 576360"/>
              <a:gd name="textAreaRight" fmla="*/ 548640 w 57636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36" h="21600">
                <a:moveTo>
                  <a:pt x="0" y="0"/>
                </a:moveTo>
                <a:lnTo>
                  <a:pt x="28836" y="0"/>
                </a:lnTo>
                <a:lnTo>
                  <a:pt x="28836" y="21600"/>
                </a:lnTo>
                <a:lnTo>
                  <a:pt x="0" y="21600"/>
                </a:lnTo>
                <a:close/>
              </a:path>
              <a:path fill="lightenLess" w="28836" h="21600">
                <a:moveTo>
                  <a:pt x="0" y="0"/>
                </a:moveTo>
                <a:lnTo>
                  <a:pt x="28836" y="0"/>
                </a:lnTo>
                <a:lnTo>
                  <a:pt x="27436" y="1400"/>
                </a:lnTo>
                <a:lnTo>
                  <a:pt x="1400" y="1400"/>
                </a:lnTo>
                <a:close/>
              </a:path>
              <a:path fill="darken" w="28836" h="21600">
                <a:moveTo>
                  <a:pt x="28836" y="0"/>
                </a:moveTo>
                <a:lnTo>
                  <a:pt x="28836" y="21600"/>
                </a:lnTo>
                <a:lnTo>
                  <a:pt x="27436" y="20200"/>
                </a:lnTo>
                <a:lnTo>
                  <a:pt x="27436" y="1400"/>
                </a:lnTo>
                <a:close/>
              </a:path>
              <a:path fill="darkenLess" w="28836" h="21600">
                <a:moveTo>
                  <a:pt x="288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36" y="20200"/>
                </a:lnTo>
                <a:close/>
              </a:path>
              <a:path fill="lighten" w="288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AutoShape 22"/>
          <p:cNvSpPr/>
          <p:nvPr/>
        </p:nvSpPr>
        <p:spPr>
          <a:xfrm>
            <a:off x="8028000" y="4581360"/>
            <a:ext cx="576360" cy="432000"/>
          </a:xfrm>
          <a:custGeom>
            <a:avLst/>
            <a:gdLst>
              <a:gd name="textAreaLeft" fmla="*/ 27720 w 576360"/>
              <a:gd name="textAreaRight" fmla="*/ 548640 w 57636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8812" h="21600">
                <a:moveTo>
                  <a:pt x="0" y="0"/>
                </a:moveTo>
                <a:lnTo>
                  <a:pt x="28812" y="0"/>
                </a:lnTo>
                <a:lnTo>
                  <a:pt x="28812" y="21600"/>
                </a:lnTo>
                <a:lnTo>
                  <a:pt x="0" y="21600"/>
                </a:lnTo>
                <a:close/>
              </a:path>
              <a:path fill="lightenLess" w="28812" h="21600">
                <a:moveTo>
                  <a:pt x="0" y="0"/>
                </a:moveTo>
                <a:lnTo>
                  <a:pt x="28812" y="0"/>
                </a:lnTo>
                <a:lnTo>
                  <a:pt x="27412" y="1400"/>
                </a:lnTo>
                <a:lnTo>
                  <a:pt x="1400" y="1400"/>
                </a:lnTo>
                <a:close/>
              </a:path>
              <a:path fill="darken" w="28812" h="21600">
                <a:moveTo>
                  <a:pt x="28812" y="0"/>
                </a:moveTo>
                <a:lnTo>
                  <a:pt x="28812" y="21600"/>
                </a:lnTo>
                <a:lnTo>
                  <a:pt x="27412" y="20200"/>
                </a:lnTo>
                <a:lnTo>
                  <a:pt x="27412" y="1400"/>
                </a:lnTo>
                <a:close/>
              </a:path>
              <a:path fill="darkenLess" w="28812" h="21600">
                <a:moveTo>
                  <a:pt x="288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2" y="20200"/>
                </a:lnTo>
                <a:close/>
              </a:path>
              <a:path fill="lighten" w="288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AutoShape 23"/>
          <p:cNvSpPr/>
          <p:nvPr/>
        </p:nvSpPr>
        <p:spPr>
          <a:xfrm>
            <a:off x="8028000" y="5445000"/>
            <a:ext cx="576360" cy="432000"/>
          </a:xfrm>
          <a:custGeom>
            <a:avLst/>
            <a:gdLst>
              <a:gd name="textAreaLeft" fmla="*/ 27720 w 576360"/>
              <a:gd name="textAreaRight" fmla="*/ 548640 w 57636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8812" h="21600">
                <a:moveTo>
                  <a:pt x="0" y="0"/>
                </a:moveTo>
                <a:lnTo>
                  <a:pt x="28812" y="0"/>
                </a:lnTo>
                <a:lnTo>
                  <a:pt x="28812" y="21600"/>
                </a:lnTo>
                <a:lnTo>
                  <a:pt x="0" y="21600"/>
                </a:lnTo>
                <a:close/>
              </a:path>
              <a:path fill="lightenLess" w="28812" h="21600">
                <a:moveTo>
                  <a:pt x="0" y="0"/>
                </a:moveTo>
                <a:lnTo>
                  <a:pt x="28812" y="0"/>
                </a:lnTo>
                <a:lnTo>
                  <a:pt x="27412" y="1400"/>
                </a:lnTo>
                <a:lnTo>
                  <a:pt x="1400" y="1400"/>
                </a:lnTo>
                <a:close/>
              </a:path>
              <a:path fill="darken" w="28812" h="21600">
                <a:moveTo>
                  <a:pt x="28812" y="0"/>
                </a:moveTo>
                <a:lnTo>
                  <a:pt x="28812" y="21600"/>
                </a:lnTo>
                <a:lnTo>
                  <a:pt x="27412" y="20200"/>
                </a:lnTo>
                <a:lnTo>
                  <a:pt x="27412" y="1400"/>
                </a:lnTo>
                <a:close/>
              </a:path>
              <a:path fill="darkenLess" w="28812" h="21600">
                <a:moveTo>
                  <a:pt x="288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2" y="20200"/>
                </a:lnTo>
                <a:close/>
              </a:path>
              <a:path fill="lighten" w="288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7" name="Object 25"/>
              <p:cNvSpPr txBox="1"/>
              <p:nvPr/>
            </p:nvSpPr>
            <p:spPr>
              <a:xfrm>
                <a:off x="4788000" y="2637000"/>
                <a:ext cx="290664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у</m:t>
                    </m:r>
                    <m:r>
                      <m:t xml:space="preserve">=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х</m:t>
                    </m:r>
                    <m:r>
                      <m:t xml:space="preserve">+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8" name="Object 27"/>
              <p:cNvSpPr txBox="1"/>
              <p:nvPr/>
            </p:nvSpPr>
            <p:spPr>
              <a:xfrm>
                <a:off x="4356000" y="3573360"/>
                <a:ext cx="338472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у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х</m:t>
                    </m:r>
                    <m:r>
                      <m:t xml:space="preserve">+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9" name="Object 29"/>
              <p:cNvSpPr txBox="1"/>
              <p:nvPr/>
            </p:nvSpPr>
            <p:spPr>
              <a:xfrm>
                <a:off x="4427640" y="4437000"/>
                <a:ext cx="3330360" cy="69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у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х</m:t>
                    </m:r>
                    <m:r>
                      <m:t xml:space="preserve">+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0" name="Object 31"/>
              <p:cNvSpPr txBox="1"/>
              <p:nvPr/>
            </p:nvSpPr>
            <p:spPr>
              <a:xfrm>
                <a:off x="4500720" y="5373720"/>
                <a:ext cx="3260520" cy="67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у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х</m:t>
                    </m:r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0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7" restart="whenNotActive" nodeType="interactiveSeq" fill="hold">
                <p:stCondLst>
                  <p:cond evt="onClick">
                    <p:tgtEl>
                      <p:spTgt spid="273"/>
                    </p:tgtEl>
                  </p:cond>
                </p:stCondLst>
                <p:childTnLst>
                  <p:par>
                    <p:cTn id="538" fill="hold">
                      <p:stCondLst>
                        <p:cond evt="onClick">
                          <p:tgtEl>
                            <p:spTgt spid="273"/>
                          </p:tgtEl>
                        </p:cond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41" dur="1000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000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43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5" restart="whenNotActive" nodeType="interactiveSeq" fill="hold">
                <p:stCondLst>
                  <p:cond evt="onClick">
                    <p:tgtEl>
                      <p:spTgt spid="275"/>
                    </p:tgtEl>
                  </p:cond>
                </p:stCondLst>
                <p:childTnLst>
                  <p:par>
                    <p:cTn id="546" fill="hold">
                      <p:stCondLst>
                        <p:cond evt="onClick">
                          <p:tgtEl>
                            <p:spTgt spid="275"/>
                          </p:tgtEl>
                        </p:cond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49" dur="1000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000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51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3" restart="whenNotActive" nodeType="interactiveSeq" fill="hold">
                <p:stCondLst>
                  <p:cond evt="onClick">
                    <p:tgtEl>
                      <p:spTgt spid="276"/>
                    </p:tgtEl>
                  </p:cond>
                </p:stCondLst>
                <p:childTnLst>
                  <p:par>
                    <p:cTn id="554" fill="hold">
                      <p:stCondLst>
                        <p:cond evt="onClick">
                          <p:tgtEl>
                            <p:spTgt spid="276"/>
                          </p:tgtEl>
                        </p:cond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5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59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1" restart="whenNotActive" nodeType="interactiveSeq" fill="hold">
                <p:stCondLst>
                  <p:cond evt="onClick">
                    <p:tgtEl>
                      <p:spTgt spid="274"/>
                    </p:tgtEl>
                  </p:cond>
                </p:stCondLst>
                <p:childTnLst>
                  <p:par>
                    <p:cTn id="562" fill="hold">
                      <p:stCondLst>
                        <p:cond evt="onClick">
                          <p:tgtEl>
                            <p:spTgt spid="274"/>
                          </p:tgtEl>
                        </p:cond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5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66" dur="250" autoRev="1" fill="hold"/>
                                        <p:tgtEl>
                                          <p:spTgt spid="27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67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6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70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2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73" dur="1000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1000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75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7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78" dur="1000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1000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80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440" y="549360"/>
            <a:ext cx="6870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Comic Sans MS"/>
              </a:rPr>
              <a:t>Конкурс</a:t>
            </a:r>
            <a:r>
              <a:rPr b="1" lang="uk-UA" sz="2800" spc="-1" strike="noStrike">
                <a:solidFill>
                  <a:srgbClr val="ff0000"/>
                </a:solidFill>
                <a:latin typeface="Comic Sans MS"/>
              </a:rPr>
              <a:t> знавців квадратичної функції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468360" y="1413000"/>
            <a:ext cx="2158920" cy="187164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3203640" y="1413000"/>
            <a:ext cx="2305080" cy="180000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3"/>
          <a:stretch/>
        </p:blipFill>
        <p:spPr>
          <a:xfrm>
            <a:off x="6443640" y="1413000"/>
            <a:ext cx="2232000" cy="1871640"/>
          </a:xfrm>
          <a:prstGeom prst="rect">
            <a:avLst/>
          </a:prstGeom>
          <a:ln w="0">
            <a:noFill/>
          </a:ln>
        </p:spPr>
      </p:pic>
      <p:pic>
        <p:nvPicPr>
          <p:cNvPr id="285" name="" descr=""/>
          <p:cNvPicPr/>
          <p:nvPr/>
        </p:nvPicPr>
        <p:blipFill>
          <a:blip r:embed="rId4"/>
          <a:stretch/>
        </p:blipFill>
        <p:spPr>
          <a:xfrm>
            <a:off x="611280" y="3933720"/>
            <a:ext cx="2160360" cy="2233800"/>
          </a:xfrm>
          <a:prstGeom prst="rect">
            <a:avLst/>
          </a:prstGeom>
          <a:ln w="0">
            <a:noFill/>
          </a:ln>
        </p:spPr>
      </p:pic>
      <p:pic>
        <p:nvPicPr>
          <p:cNvPr id="286" name="" descr=""/>
          <p:cNvPicPr/>
          <p:nvPr/>
        </p:nvPicPr>
        <p:blipFill>
          <a:blip r:embed="rId5"/>
          <a:stretch/>
        </p:blipFill>
        <p:spPr>
          <a:xfrm>
            <a:off x="3419640" y="3860640"/>
            <a:ext cx="2232000" cy="2305080"/>
          </a:xfrm>
          <a:prstGeom prst="rect">
            <a:avLst/>
          </a:prstGeom>
          <a:ln w="0">
            <a:noFill/>
          </a:ln>
        </p:spPr>
      </p:pic>
      <p:pic>
        <p:nvPicPr>
          <p:cNvPr id="287" name="" descr=""/>
          <p:cNvPicPr/>
          <p:nvPr/>
        </p:nvPicPr>
        <p:blipFill>
          <a:blip r:embed="rId6"/>
          <a:stretch/>
        </p:blipFill>
        <p:spPr>
          <a:xfrm>
            <a:off x="6300720" y="3933720"/>
            <a:ext cx="2303640" cy="2232000"/>
          </a:xfrm>
          <a:prstGeom prst="rect">
            <a:avLst/>
          </a:prstGeom>
          <a:ln w="0">
            <a:noFill/>
          </a:ln>
        </p:spPr>
      </p:pic>
      <p:grpSp>
        <p:nvGrpSpPr>
          <p:cNvPr id="288" name="Group 15"/>
          <p:cNvGrpSpPr/>
          <p:nvPr/>
        </p:nvGrpSpPr>
        <p:grpSpPr>
          <a:xfrm>
            <a:off x="5435640" y="476280"/>
            <a:ext cx="2725560" cy="2597040"/>
            <a:chOff x="5435640" y="476280"/>
            <a:chExt cx="2725560" cy="2597040"/>
          </a:xfrm>
        </p:grpSpPr>
        <p:pic>
          <p:nvPicPr>
            <p:cNvPr id="289" name="Picture 16" descr="MCj04244440000[1]"/>
            <p:cNvPicPr/>
            <p:nvPr/>
          </p:nvPicPr>
          <p:blipFill>
            <a:blip r:embed="rId7"/>
            <a:stretch/>
          </p:blipFill>
          <p:spPr>
            <a:xfrm>
              <a:off x="5435640" y="1123920"/>
              <a:ext cx="1227960" cy="194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0" name="AutoShape 17"/>
            <p:cNvSpPr/>
            <p:nvPr/>
          </p:nvSpPr>
          <p:spPr>
            <a:xfrm>
              <a:off x="6265080" y="476280"/>
              <a:ext cx="1896120" cy="898560"/>
            </a:xfrm>
            <a:prstGeom prst="wedgeEllipseCallout">
              <a:avLst>
                <a:gd name="adj1" fmla="val -45481"/>
                <a:gd name="adj2" fmla="val 142226"/>
              </a:avLst>
            </a:prstGeom>
            <a:solidFill>
              <a:srgbClr val="ffff99"/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ПОДУМАЙ!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1" name=""/>
          <p:cNvSpPr/>
          <p:nvPr/>
        </p:nvSpPr>
        <p:spPr>
          <a:xfrm>
            <a:off x="1814040" y="2971440"/>
            <a:ext cx="5517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omic Sans MS"/>
              </a:rPr>
              <a:t>1. Вказати знак першого коефіцієнт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omic Sans MS"/>
              </a:rPr>
              <a:t>2. Вказати знак дискримінант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omic Sans MS"/>
              </a:rPr>
              <a:t>3. Вказати, чому дорівнює знак вільного член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258560" y="293040"/>
            <a:ext cx="629604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1"/>
          <a:stretch/>
        </p:blipFill>
        <p:spPr>
          <a:xfrm>
            <a:off x="539640" y="1484280"/>
            <a:ext cx="2382840" cy="208908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2"/>
          <a:stretch/>
        </p:blipFill>
        <p:spPr>
          <a:xfrm>
            <a:off x="2843280" y="1916280"/>
            <a:ext cx="2628720" cy="208908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/>
          <p:cNvPicPr/>
          <p:nvPr/>
        </p:nvPicPr>
        <p:blipFill>
          <a:blip r:embed="rId3"/>
          <a:stretch/>
        </p:blipFill>
        <p:spPr>
          <a:xfrm>
            <a:off x="6516720" y="1341360"/>
            <a:ext cx="1800360" cy="237672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/>
          <p:cNvPicPr/>
          <p:nvPr/>
        </p:nvPicPr>
        <p:blipFill>
          <a:blip r:embed="rId4"/>
          <a:stretch/>
        </p:blipFill>
        <p:spPr>
          <a:xfrm>
            <a:off x="1258920" y="4005360"/>
            <a:ext cx="2305080" cy="247464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"/>
          <p:cNvPicPr/>
          <p:nvPr/>
        </p:nvPicPr>
        <p:blipFill>
          <a:blip r:embed="rId5"/>
          <a:stretch/>
        </p:blipFill>
        <p:spPr>
          <a:xfrm>
            <a:off x="3059280" y="4076640"/>
            <a:ext cx="2808000" cy="2549520"/>
          </a:xfrm>
          <a:prstGeom prst="rect">
            <a:avLst/>
          </a:prstGeom>
          <a:ln w="0">
            <a:noFill/>
          </a:ln>
        </p:spPr>
      </p:pic>
      <p:pic>
        <p:nvPicPr>
          <p:cNvPr id="298" name="" descr=""/>
          <p:cNvPicPr/>
          <p:nvPr/>
        </p:nvPicPr>
        <p:blipFill>
          <a:blip r:embed="rId6"/>
          <a:stretch/>
        </p:blipFill>
        <p:spPr>
          <a:xfrm>
            <a:off x="6443640" y="3716280"/>
            <a:ext cx="2374920" cy="2895480"/>
          </a:xfrm>
          <a:prstGeom prst="rect">
            <a:avLst/>
          </a:prstGeom>
          <a:ln w="0">
            <a:noFill/>
          </a:ln>
        </p:spPr>
      </p:pic>
      <p:sp>
        <p:nvSpPr>
          <p:cNvPr id="299" name=""/>
          <p:cNvSpPr/>
          <p:nvPr/>
        </p:nvSpPr>
        <p:spPr>
          <a:xfrm>
            <a:off x="217440" y="259920"/>
            <a:ext cx="8709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0000"/>
                </a:solidFill>
                <a:latin typeface="Comic Sans MS"/>
              </a:rPr>
              <a:t>Встановіть  відповідність між графіками функцій і формулами, які їх задаю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omic Sans MS"/>
              </a:rPr>
              <a:t>у= х²-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omic Sans MS"/>
              </a:rPr>
              <a:t>у= х² +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omic Sans MS"/>
              </a:rPr>
              <a:t>у= 4 - х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omic Sans MS"/>
              </a:rPr>
              <a:t>у= (х-4)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omic Sans MS"/>
              </a:rPr>
              <a:t>у= (х- 4)² -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omic Sans MS"/>
              </a:rPr>
              <a:t>у= (х- 2)² +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0000"/>
                </a:solidFill>
                <a:latin typeface="Comic Sans MS"/>
              </a:rPr>
              <a:t>Відповіді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Comic Sans MS"/>
              </a:rPr>
              <a:t>11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2844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Comic Sans MS"/>
              </a:rPr>
              <a:t>26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2844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Comic Sans MS"/>
              </a:rPr>
              <a:t>33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2844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Comic Sans MS"/>
              </a:rPr>
              <a:t>45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2844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Comic Sans MS"/>
              </a:rPr>
              <a:t>52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2844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Comic Sans MS"/>
              </a:rPr>
              <a:t>64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02" name="Picture 4" descr="dd36efffaaed"/>
          <p:cNvPicPr/>
          <p:nvPr/>
        </p:nvPicPr>
        <p:blipFill>
          <a:blip r:embed="rId1"/>
          <a:stretch/>
        </p:blipFill>
        <p:spPr>
          <a:xfrm>
            <a:off x="324000" y="260280"/>
            <a:ext cx="242856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4" name=""/>
          <p:cNvGraphicFramePr/>
          <p:nvPr/>
        </p:nvGraphicFramePr>
        <p:xfrm>
          <a:off x="179280" y="981000"/>
          <a:ext cx="5097600" cy="5877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981000"/>
                    <a:ext cx="5097600" cy="587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6" name=""/>
          <p:cNvSpPr/>
          <p:nvPr/>
        </p:nvSpPr>
        <p:spPr>
          <a:xfrm>
            <a:off x="1613880" y="404640"/>
            <a:ext cx="522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Georgia"/>
              </a:rPr>
              <a:t>Знайти відповідніст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8" name=""/>
              <p:cNvSpPr txBox="1"/>
              <p:nvPr/>
            </p:nvSpPr>
            <p:spPr>
              <a:xfrm>
                <a:off x="5292720" y="1515960"/>
                <a:ext cx="1808280" cy="62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у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9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0" name=""/>
              <p:cNvSpPr txBox="1"/>
              <p:nvPr/>
            </p:nvSpPr>
            <p:spPr>
              <a:xfrm>
                <a:off x="5292720" y="2492280"/>
                <a:ext cx="17272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у</m:t>
                    </m:r>
                    <m:r>
                      <m:t xml:space="preserve">=</m:t>
                    </m:r>
                    <m:r>
                      <m:t xml:space="preserve">0,3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11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2" name=""/>
              <p:cNvSpPr txBox="1"/>
              <p:nvPr/>
            </p:nvSpPr>
            <p:spPr>
              <a:xfrm>
                <a:off x="5292720" y="3429000"/>
                <a:ext cx="244800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у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х</m:t>
                    </m:r>
                    <m:r>
                      <m:t xml:space="preserve">−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13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5148360" y="4365720"/>
                <a:ext cx="291600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у</m:t>
                    </m:r>
                    <m:r>
                      <m:t xml:space="preserve">=</m:t>
                    </m:r>
                    <m:r>
                      <m:t xml:space="preserve">−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х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15" name=""/>
          <p:cNvSpPr txBox="1"/>
          <p:nvPr/>
        </p:nvSpPr>
        <p:spPr>
          <a:xfrm>
            <a:off x="5508720" y="5229360"/>
            <a:ext cx="3095640" cy="162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Georgia"/>
              </a:rPr>
              <a:t>Добре!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Georgia"/>
              <a:ea typeface="Georgia"/>
            </a:endParaRPr>
          </a:p>
        </p:txBody>
      </p:sp>
      <p:sp>
        <p:nvSpPr>
          <p:cNvPr id="316" name=""/>
          <p:cNvSpPr/>
          <p:nvPr/>
        </p:nvSpPr>
        <p:spPr>
          <a:xfrm>
            <a:off x="8101080" y="1484280"/>
            <a:ext cx="790560" cy="792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8101080" y="2421000"/>
            <a:ext cx="790560" cy="792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8101080" y="3357720"/>
            <a:ext cx="790560" cy="7920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8101080" y="4292640"/>
            <a:ext cx="790560" cy="79200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2" dur="indefinite" restart="never" nodeType="tmRoot">
          <p:childTnLst>
            <p:seq>
              <p:cTn id="583" dur="indefinite" nodeType="mainSeq">
                <p:childTnLst>
                  <p:par>
                    <p:cTn id="584" fill="hold">
                      <p:stCondLst>
                        <p:cond delay="0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2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fill="hold">
                            <p:stCondLst>
                              <p:cond delay="1450"/>
                            </p:stCondLst>
                            <p:childTnLst>
                              <p:par>
                                <p:cTn id="594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8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500"/>
                            </p:stCondLst>
                            <p:childTnLst>
                              <p:par>
                                <p:cTn id="608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fill="hold">
                            <p:stCondLst>
                              <p:cond delay="1000"/>
                            </p:stCondLst>
                            <p:childTnLst>
                              <p:par>
                                <p:cTn id="61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1500"/>
                            </p:stCondLst>
                            <p:childTnLst>
                              <p:par>
                                <p:cTn id="622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32" dur="2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37" dur="2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42" dur="2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47" dur="2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8" fill="hold">
                            <p:stCondLst>
                              <p:cond delay="2000"/>
                            </p:stCondLst>
                            <p:childTnLst>
                              <p:par>
                                <p:cTn id="64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1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0000"/>
                </a:solidFill>
                <a:latin typeface="Times New Roman"/>
              </a:rPr>
              <a:t>Робота з підручником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Bodoni MT Black"/>
              </a:rPr>
              <a:t>В парах виконати №</a:t>
            </a:r>
            <a:r>
              <a:rPr b="0" lang="uk-UA" sz="3200" spc="-1" strike="noStrike">
                <a:solidFill>
                  <a:srgbClr val="000000"/>
                </a:solidFill>
                <a:latin typeface="Bodoni MT Black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439 (2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22" name="Рисунок 9" descr="gallery_2_99_8610.gif"/>
          <p:cNvPicPr/>
          <p:nvPr/>
        </p:nvPicPr>
        <p:blipFill>
          <a:blip r:embed="rId1"/>
          <a:stretch/>
        </p:blipFill>
        <p:spPr>
          <a:xfrm rot="304800">
            <a:off x="4757400" y="3493800"/>
            <a:ext cx="3247920" cy="25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6699ff"/>
                </a:solidFill>
                <a:latin typeface="Comic Sans MS"/>
              </a:rPr>
              <a:t>Хвилинка релаксії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24" name="Рисунок 3" descr="2222.png"/>
          <p:cNvPicPr/>
          <p:nvPr/>
        </p:nvPicPr>
        <p:blipFill>
          <a:blip r:embed="rId1"/>
          <a:stretch/>
        </p:blipFill>
        <p:spPr>
          <a:xfrm>
            <a:off x="0" y="1628640"/>
            <a:ext cx="8028000" cy="522936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5" descr="AG00208_"/>
          <p:cNvPicPr/>
          <p:nvPr/>
        </p:nvPicPr>
        <p:blipFill>
          <a:blip r:embed="rId2"/>
          <a:stretch/>
        </p:blipFill>
        <p:spPr>
          <a:xfrm>
            <a:off x="6877080" y="189000"/>
            <a:ext cx="2095560" cy="27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27" name="Picture 5" descr="F:\41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28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329" name="" descr=""/>
          <p:cNvPicPr/>
          <p:nvPr/>
        </p:nvPicPr>
        <p:blipFill>
          <a:blip r:embed="rId5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330" name="" descr=""/>
          <p:cNvPicPr/>
          <p:nvPr/>
        </p:nvPicPr>
        <p:blipFill>
          <a:blip r:embed="rId6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331" name="" descr=""/>
          <p:cNvPicPr/>
          <p:nvPr/>
        </p:nvPicPr>
        <p:blipFill>
          <a:blip r:embed="rId7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332" name="" descr=""/>
          <p:cNvPicPr/>
          <p:nvPr/>
        </p:nvPicPr>
        <p:blipFill>
          <a:blip r:embed="rId8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4" dur="indefinite" restart="never" nodeType="tmRoot">
          <p:childTnLst>
            <p:seq>
              <p:cTn id="655" dur="indefinite" nodeType="mainSeq">
                <p:childTnLst>
                  <p:par>
                    <p:cTn id="656" fill="hold">
                      <p:stCondLst>
                        <p:cond delay="0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59" dur="131772" fill="hold"/>
                                        <p:tgtEl>
                                          <p:spTgt spid="32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131772"/>
                            </p:stCondLst>
                            <p:childTnLst>
                              <p:par>
                                <p:cTn id="66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2" dur="131772" fill="hold"/>
                                        <p:tgtEl>
                                          <p:spTgt spid="3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328"/>
                </p:tgtEl>
              </p:cMediaNode>
            </p:audio>
            <p:seq>
              <p:cTn id="663" restart="whenNotActive" nodeType="interactiveSeq" fill="hold">
                <p:stCondLst>
                  <p:cond evt="onClick">
                    <p:tgtEl>
                      <p:spTgt spid="329"/>
                    </p:tgtEl>
                  </p:cond>
                </p:stCondLst>
                <p:childTnLst>
                  <p:par>
                    <p:cTn id="664" fill="hold">
                      <p:stCondLst>
                        <p:cond evt="onClick">
                          <p:tgtEl>
                            <p:spTgt spid="329"/>
                          </p:tgtEl>
                        </p:cond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7" dur="131772" fill="hold"/>
                                        <p:tgtEl>
                                          <p:spTgt spid="3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8" restart="whenNotActive" nodeType="interactiveSeq" fill="hold">
                <p:stCondLst>
                  <p:cond evt="onClick">
                    <p:tgtEl>
                      <p:spTgt spid="330"/>
                    </p:tgtEl>
                  </p:cond>
                </p:stCondLst>
                <p:childTnLst>
                  <p:par>
                    <p:cTn id="669" fill="hold">
                      <p:stCondLst>
                        <p:cond evt="onClick">
                          <p:tgtEl>
                            <p:spTgt spid="330"/>
                          </p:tgtEl>
                        </p:cond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72" dur="131772" fill="hold"/>
                                        <p:tgtEl>
                                          <p:spTgt spid="3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3" restart="whenNotActive" nodeType="interactiveSeq" fill="hold">
                <p:stCondLst>
                  <p:cond evt="onClick">
                    <p:tgtEl>
                      <p:spTgt spid="332"/>
                    </p:tgtEl>
                  </p:cond>
                </p:stCondLst>
                <p:childTnLst>
                  <p:par>
                    <p:cTn id="674" fill="hold">
                      <p:stCondLst>
                        <p:cond evt="onClick">
                          <p:tgtEl>
                            <p:spTgt spid="332"/>
                          </p:tgtEl>
                        </p:cond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77" dur="131772" fill="hold"/>
                                        <p:tgtEl>
                                          <p:spTgt spid="3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0000"/>
                </a:solidFill>
                <a:latin typeface="Times New Roman"/>
              </a:rPr>
              <a:t>Параболи в житті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mic Sans MS"/>
              </a:rPr>
              <a:t>Математику всім потрібно любити і знати, в житті всім вона потрібна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0000"/>
                </a:solidFill>
                <a:latin typeface="Comic Sans MS"/>
              </a:rPr>
              <a:t>На що схожа ця дуга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mic Sans MS"/>
              </a:rPr>
              <a:t>На  гору, міст, фонтан, рибалку,усмішку смайлика  чи маску театральну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split dir="in" orient="vert"/>
  </p:transition>
  <p:timing>
    <p:tnLst>
      <p:par>
        <p:cTn id="678" dur="indefinite" restart="never" nodeType="tmRoot">
          <p:childTnLst>
            <p:seq>
              <p:cTn id="679" dur="indefinite" nodeType="mainSeq">
                <p:childTnLst>
                  <p:par>
                    <p:cTn id="680" fill="hold">
                      <p:stCondLst>
                        <p:cond delay="0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4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6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1" dur="1000" fill="hold"/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1000" fill="hold"/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3" dur="1000"/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8" dur="1000" fill="hold"/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1000" fill="hold"/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0" dur="1000"/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5" dur="1000" fill="hold"/>
                                        <p:tgtEl>
                                          <p:spTgt spid="3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1000" fill="hold"/>
                                        <p:tgtEl>
                                          <p:spTgt spid="3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7" dur="1000"/>
                                        <p:tgtEl>
                                          <p:spTgt spid="3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2" dur="500"/>
                                        <p:tgtEl>
                                          <p:spTgt spid="3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620640"/>
            <a:ext cx="687060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0000"/>
                </a:solidFill>
                <a:latin typeface="Times New Roman"/>
              </a:rPr>
              <a:t>МЕТА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440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uk-UA" sz="28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формувати вміння  аналізувати, контролювати та  оцінювати результати своєї навчальної діяльності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- формувати вміння аргументувати та відстоювати  власну позицію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-  сприяти  самовихованню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толерантності,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озвивати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вагу, мислення,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п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м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'ять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ультуру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атематичного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овлення</a:t>
            </a:r>
            <a:r>
              <a:rPr b="0" lang="uk-UA" sz="2800" spc="-1" strike="noStrike">
                <a:solidFill>
                  <a:srgbClr val="000000"/>
                </a:solidFill>
                <a:latin typeface="Candar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7485120" y="3657600"/>
            <a:ext cx="16588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4479840" y="3570120"/>
            <a:ext cx="108000" cy="174960"/>
          </a:xfrm>
          <a:prstGeom prst="rect">
            <a:avLst/>
          </a:prstGeom>
          <a:ln w="0">
            <a:noFill/>
          </a:ln>
        </p:spPr>
      </p:pic>
      <p:pic>
        <p:nvPicPr>
          <p:cNvPr id="337" name="" descr=""/>
          <p:cNvPicPr/>
          <p:nvPr/>
        </p:nvPicPr>
        <p:blipFill>
          <a:blip r:embed="rId2"/>
          <a:stretch/>
        </p:blipFill>
        <p:spPr>
          <a:xfrm>
            <a:off x="102430440" y="100279080"/>
            <a:ext cx="15479640" cy="1548000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4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uk-UA" sz="4000" spc="-1" strike="noStrike">
                <a:solidFill>
                  <a:srgbClr val="ff0000"/>
                </a:solidFill>
                <a:latin typeface="Times New Roman"/>
              </a:rPr>
              <a:t>Мости з поворотом </a:t>
            </a:r>
            <a:br>
              <a:rPr sz="4000"/>
            </a:br>
            <a:r>
              <a:rPr b="1" lang="uk-UA" sz="4000" spc="-1" strike="noStrike">
                <a:solidFill>
                  <a:srgbClr val="ff0000"/>
                </a:solidFill>
                <a:latin typeface="Times New Roman"/>
              </a:rPr>
              <a:t>навколо осі</a:t>
            </a:r>
            <a:r>
              <a:rPr b="1" lang="uk-UA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44" name="" descr=""/>
          <p:cNvPicPr/>
          <p:nvPr/>
        </p:nvPicPr>
        <p:blipFill>
          <a:blip r:embed="rId1"/>
          <a:stretch/>
        </p:blipFill>
        <p:spPr>
          <a:xfrm>
            <a:off x="0" y="1700280"/>
            <a:ext cx="9144000" cy="51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0000"/>
                </a:solidFill>
                <a:latin typeface="Times New Roman"/>
              </a:rPr>
              <a:t>На рибалці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46" name="" descr=""/>
          <p:cNvPicPr/>
          <p:nvPr/>
        </p:nvPicPr>
        <p:blipFill>
          <a:blip r:embed="rId1"/>
          <a:stretch/>
        </p:blipFill>
        <p:spPr>
          <a:xfrm>
            <a:off x="3313080" y="1484280"/>
            <a:ext cx="3274920" cy="2486160"/>
          </a:xfrm>
          <a:prstGeom prst="rect">
            <a:avLst/>
          </a:prstGeom>
          <a:ln w="0">
            <a:noFill/>
          </a:ln>
        </p:spPr>
      </p:pic>
      <p:pic>
        <p:nvPicPr>
          <p:cNvPr id="347" name="" descr=""/>
          <p:cNvPicPr/>
          <p:nvPr/>
        </p:nvPicPr>
        <p:blipFill>
          <a:blip r:embed="rId2"/>
          <a:stretch/>
        </p:blipFill>
        <p:spPr>
          <a:xfrm>
            <a:off x="0" y="981000"/>
            <a:ext cx="9144000" cy="58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" descr=""/>
          <p:cNvPicPr/>
          <p:nvPr/>
        </p:nvPicPr>
        <p:blipFill>
          <a:blip r:embed="rId1"/>
          <a:stretch/>
        </p:blipFill>
        <p:spPr>
          <a:xfrm>
            <a:off x="1187280" y="404640"/>
            <a:ext cx="6840720" cy="604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0000"/>
                </a:solidFill>
                <a:latin typeface="Times New Roman"/>
              </a:rPr>
              <a:t>Параболична  антена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56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105840"/>
            <a:ext cx="6870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8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7485120" y="3505320"/>
            <a:ext cx="16588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352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3" name=""/>
            <p:cNvSpPr txBox="1"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0000"/>
                </a:solidFill>
                <a:latin typeface="Times New Roman"/>
              </a:rPr>
              <a:t>Посмішка смайлик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55" name="" descr=""/>
          <p:cNvPicPr/>
          <p:nvPr/>
        </p:nvPicPr>
        <p:blipFill>
          <a:blip r:embed="rId1"/>
          <a:stretch/>
        </p:blipFill>
        <p:spPr>
          <a:xfrm>
            <a:off x="0" y="1341360"/>
            <a:ext cx="9144000" cy="55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0000"/>
                </a:solidFill>
                <a:latin typeface="Comic Sans MS"/>
              </a:rPr>
              <a:t>Малюємо графіками функцій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57" name="" descr=""/>
          <p:cNvPicPr/>
          <p:nvPr/>
        </p:nvPicPr>
        <p:blipFill>
          <a:blip r:embed="rId1"/>
          <a:stretch/>
        </p:blipFill>
        <p:spPr>
          <a:xfrm>
            <a:off x="0" y="1268280"/>
            <a:ext cx="9144000" cy="558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0000"/>
                </a:solidFill>
                <a:latin typeface="Comic Sans MS"/>
              </a:rPr>
              <a:t>Продовжіть фразу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0" name="Rectangle 6"/>
          <p:cNvSpPr/>
          <p:nvPr/>
        </p:nvSpPr>
        <p:spPr>
          <a:xfrm rot="1097400">
            <a:off x="2575800" y="3565080"/>
            <a:ext cx="562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« Сьогодні на конференції я повторив…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7"/>
          <p:cNvSpPr/>
          <p:nvPr/>
        </p:nvSpPr>
        <p:spPr>
          <a:xfrm>
            <a:off x="4859280" y="2565360"/>
            <a:ext cx="344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« Сьогодні на конференції я закріпив..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8"/>
          <p:cNvSpPr/>
          <p:nvPr/>
        </p:nvSpPr>
        <p:spPr>
          <a:xfrm rot="19493400">
            <a:off x="3570120" y="5130360"/>
            <a:ext cx="354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Сьогодні на конференції я дізнався..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3" name="Рисунок 9" descr="gallery_2_99_8610.gif"/>
          <p:cNvPicPr/>
          <p:nvPr/>
        </p:nvPicPr>
        <p:blipFill>
          <a:blip r:embed="rId1"/>
          <a:stretch/>
        </p:blipFill>
        <p:spPr>
          <a:xfrm rot="304800">
            <a:off x="6543720" y="712800"/>
            <a:ext cx="1519200" cy="1778040"/>
          </a:xfrm>
          <a:prstGeom prst="rect">
            <a:avLst/>
          </a:prstGeom>
          <a:ln w="0">
            <a:noFill/>
          </a:ln>
        </p:spPr>
      </p:pic>
      <p:pic>
        <p:nvPicPr>
          <p:cNvPr id="364" name="Рисунок 10" descr="егне.bmp"/>
          <p:cNvPicPr/>
          <p:nvPr/>
        </p:nvPicPr>
        <p:blipFill>
          <a:blip r:embed="rId2"/>
          <a:stretch/>
        </p:blipFill>
        <p:spPr>
          <a:xfrm rot="21296400">
            <a:off x="666360" y="1989000"/>
            <a:ext cx="1800360" cy="2590920"/>
          </a:xfrm>
          <a:prstGeom prst="rect">
            <a:avLst/>
          </a:prstGeom>
          <a:ln w="0">
            <a:noFill/>
          </a:ln>
        </p:spPr>
      </p:pic>
      <p:pic>
        <p:nvPicPr>
          <p:cNvPr id="365" name="Рисунок 11" descr="C41-07copy.gif"/>
          <p:cNvPicPr/>
          <p:nvPr/>
        </p:nvPicPr>
        <p:blipFill>
          <a:blip r:embed="rId3"/>
          <a:stretch/>
        </p:blipFill>
        <p:spPr>
          <a:xfrm>
            <a:off x="7572240" y="3573360"/>
            <a:ext cx="1571760" cy="2592360"/>
          </a:xfrm>
          <a:prstGeom prst="rect">
            <a:avLst/>
          </a:prstGeom>
          <a:ln w="0">
            <a:noFill/>
          </a:ln>
        </p:spPr>
      </p:pic>
      <p:sp>
        <p:nvSpPr>
          <p:cNvPr id="366" name="Rectangle 12"/>
          <p:cNvSpPr/>
          <p:nvPr/>
        </p:nvSpPr>
        <p:spPr>
          <a:xfrm rot="20154000">
            <a:off x="595800" y="4568400"/>
            <a:ext cx="414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     “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Сьогодні на конференції  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познайомився..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3" dur="indefinite" restart="never" nodeType="tmRoot">
          <p:childTnLst>
            <p:seq>
              <p:cTn id="714" dur="indefinite" nodeType="mainSeq">
                <p:childTnLst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Text Box 2"/>
          <p:cNvSpPr/>
          <p:nvPr/>
        </p:nvSpPr>
        <p:spPr>
          <a:xfrm>
            <a:off x="838080" y="228600"/>
            <a:ext cx="7467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400" spc="-1" strike="noStrike">
                <a:solidFill>
                  <a:srgbClr val="ff0000"/>
                </a:solidFill>
                <a:latin typeface="Arial"/>
              </a:rPr>
              <a:t>Домашнє завдання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Рисунок 11" descr="C41-07copy.gif"/>
          <p:cNvPicPr/>
          <p:nvPr/>
        </p:nvPicPr>
        <p:blipFill>
          <a:blip r:embed="rId1"/>
          <a:stretch/>
        </p:blipFill>
        <p:spPr>
          <a:xfrm>
            <a:off x="762120" y="1981080"/>
            <a:ext cx="1571400" cy="2592360"/>
          </a:xfrm>
          <a:prstGeom prst="rect">
            <a:avLst/>
          </a:prstGeom>
          <a:ln w="0">
            <a:noFill/>
          </a:ln>
        </p:spPr>
      </p:pic>
      <p:sp>
        <p:nvSpPr>
          <p:cNvPr id="369" name=""/>
          <p:cNvSpPr/>
          <p:nvPr/>
        </p:nvSpPr>
        <p:spPr>
          <a:xfrm>
            <a:off x="3143160" y="2700360"/>
            <a:ext cx="48578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400" spc="-1" strike="noStrike">
                <a:solidFill>
                  <a:srgbClr val="000000"/>
                </a:solidFill>
                <a:latin typeface="Arial Black"/>
              </a:rPr>
              <a:t>§11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400" spc="-1" strike="noStrike">
                <a:solidFill>
                  <a:srgbClr val="000000"/>
                </a:solidFill>
                <a:latin typeface="Arial Black"/>
              </a:rPr>
              <a:t>№</a:t>
            </a:r>
            <a:r>
              <a:rPr b="0" lang="uk-UA" sz="5400" spc="-1" strike="noStrike">
                <a:solidFill>
                  <a:srgbClr val="000000"/>
                </a:solidFill>
                <a:latin typeface="Arial Black"/>
              </a:rPr>
              <a:t>440, №449</a:t>
            </a:r>
            <a:r>
              <a:rPr b="0" lang="uk-UA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uk-UA" sz="18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  <p:sndAc>
      <p:stSnd>
        <p:snd r:embed="rId2" name="chimes.wav"/>
      </p:stSnd>
    </p:sndAc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WordArt 8"/>
          <p:cNvSpPr txBox="1"/>
          <p:nvPr/>
        </p:nvSpPr>
        <p:spPr>
          <a:xfrm>
            <a:off x="1042920" y="2205000"/>
            <a:ext cx="7643880" cy="392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пасибі    за    урок!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71" name="Рисунок 4" descr="j0354403.gif"/>
          <p:cNvPicPr/>
          <p:nvPr/>
        </p:nvPicPr>
        <p:blipFill>
          <a:blip r:embed="rId1"/>
          <a:stretch/>
        </p:blipFill>
        <p:spPr>
          <a:xfrm>
            <a:off x="3708360" y="584280"/>
            <a:ext cx="2087640" cy="20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9" dur="indefinite" restart="never" nodeType="tmRoot">
          <p:childTnLst>
            <p:seq>
              <p:cTn id="750" dur="indefinite" nodeType="mainSeq">
                <p:childTnLst>
                  <p:par>
                    <p:cTn id="751" nodeType="clickEffect" fill="hold">
                      <p:stCondLst>
                        <p:cond delay="indefinite"/>
                      </p:stCondLst>
                      <p:childTnLst>
                        <p:par>
                          <p:cTn id="7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AutoShape 98"/>
          <p:cNvSpPr/>
          <p:nvPr/>
        </p:nvSpPr>
        <p:spPr>
          <a:xfrm>
            <a:off x="449280" y="130320"/>
            <a:ext cx="8245440" cy="6597360"/>
          </a:xfrm>
          <a:prstGeom prst="verticalScroll">
            <a:avLst>
              <a:gd name="adj" fmla="val 1250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6000" spc="-1" strike="noStrike">
                <a:solidFill>
                  <a:srgbClr val="ff0000"/>
                </a:solidFill>
                <a:latin typeface="Comic Sans MS"/>
              </a:rPr>
              <a:t>Те, що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6000" spc="-1" strike="noStrike">
                <a:solidFill>
                  <a:srgbClr val="ff0000"/>
                </a:solidFill>
                <a:latin typeface="Comic Sans MS"/>
              </a:rPr>
              <a:t>незрозуміло,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6000" spc="-1" strike="noStrike">
                <a:solidFill>
                  <a:srgbClr val="ff0000"/>
                </a:solidFill>
                <a:latin typeface="Comic Sans MS"/>
              </a:rPr>
              <a:t>потрібно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60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i="1" lang="uk-UA" sz="6000" spc="-1" strike="noStrike">
                <a:solidFill>
                  <a:srgbClr val="ff0000"/>
                </a:solidFill>
                <a:latin typeface="Comic Sans MS"/>
              </a:rPr>
              <a:t>з'ясувати</a:t>
            </a:r>
            <a:r>
              <a:rPr b="0" i="1" lang="uk-UA" sz="4000" spc="-1" strike="noStrike">
                <a:solidFill>
                  <a:srgbClr val="ff0000"/>
                </a:solidFill>
                <a:latin typeface="Comic Sans MS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i="1" lang="uk-UA" sz="1800" spc="-1" strike="noStrike">
                <a:solidFill>
                  <a:srgbClr val="ff0000"/>
                </a:solidFill>
                <a:latin typeface="Comic Sans MS"/>
              </a:rPr>
              <a:t>Конфуці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4" descr="dd36efffaaed"/>
          <p:cNvPicPr/>
          <p:nvPr/>
        </p:nvPicPr>
        <p:blipFill>
          <a:blip r:embed="rId2"/>
          <a:stretch/>
        </p:blipFill>
        <p:spPr>
          <a:xfrm>
            <a:off x="0" y="2637000"/>
            <a:ext cx="242892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-390960"/>
            <a:ext cx="6870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3" name="Picture 87" descr="9e0c372df10c"/>
          <p:cNvPicPr/>
          <p:nvPr/>
        </p:nvPicPr>
        <p:blipFill>
          <a:blip r:embed="rId1"/>
          <a:stretch/>
        </p:blipFill>
        <p:spPr>
          <a:xfrm>
            <a:off x="0" y="0"/>
            <a:ext cx="5165640" cy="68580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85" descr=""/>
          <p:cNvPicPr/>
          <p:nvPr/>
        </p:nvPicPr>
        <p:blipFill>
          <a:blip r:embed="rId2"/>
          <a:stretch/>
        </p:blipFill>
        <p:spPr>
          <a:xfrm>
            <a:off x="1219320" y="1844640"/>
            <a:ext cx="2651040" cy="388620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435280" y="1341360"/>
            <a:ext cx="3708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0000"/>
                </a:solidFill>
                <a:latin typeface="Comic Sans MS"/>
              </a:rPr>
              <a:t>КОНФУЦІЙ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КУН   ЦЮ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uk-UA" sz="3200" spc="-1" strike="noStrike">
                <a:solidFill>
                  <a:srgbClr val="000000"/>
                </a:solidFill>
                <a:latin typeface="Comic Sans MS"/>
              </a:rPr>
              <a:t>551 до н.е-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uk-UA" sz="3200" spc="-1" strike="noStrike">
                <a:solidFill>
                  <a:srgbClr val="000000"/>
                </a:solidFill>
                <a:latin typeface="Comic Sans MS"/>
              </a:rPr>
              <a:t>479 до н.е.-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uk-UA" sz="3200" spc="-1" strike="noStrike">
                <a:solidFill>
                  <a:srgbClr val="000000"/>
                </a:solidFill>
                <a:latin typeface="Comic Sans MS"/>
              </a:rPr>
              <a:t>Китайський мислитель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uk-UA" sz="3200" spc="-1" strike="noStrike">
                <a:solidFill>
                  <a:srgbClr val="000000"/>
                </a:solidFill>
                <a:latin typeface="Comic Sans MS"/>
              </a:rPr>
              <a:t>та філософ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0000"/>
                </a:solidFill>
                <a:latin typeface="Times New Roman"/>
              </a:rPr>
              <a:t>Запитання журналістів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50920" y="980640"/>
            <a:ext cx="842472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1. Дайте означення квадратичної функції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2. Що є графіком квадратичної функції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3. Як визначити напрям гілок параболи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4. Можливі способи побудови графіка функції у = ах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²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+ вх+с, (а≠0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5. Назвіть формули для обчислення вершин параболи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6. Вісь симетрії параболи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7. Як знайти точки перетину параболи з осями  координат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8. Назвіть область визначення функції (а&gt;0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9. Назвіть область визначення функції (а&lt;0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10.Назвіть проміжки зростання та спадання функцій (а&gt;0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11. Назвіть проміжки зростання та спадання функцій (а&lt;0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12. Назвіть проміжки знакосталості функцій (рис. 3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13. Нулі функції рис.3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14. Назвіть проміжки знакосталості функцій (рис. 4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15. Нулі функції рис.4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9" name="Рисунок 1" descr=""/>
          <p:cNvPicPr/>
          <p:nvPr/>
        </p:nvPicPr>
        <p:blipFill>
          <a:blip r:embed="rId1"/>
          <a:stretch/>
        </p:blipFill>
        <p:spPr>
          <a:xfrm>
            <a:off x="1187280" y="1844640"/>
            <a:ext cx="1872000" cy="1944720"/>
          </a:xfrm>
          <a:prstGeom prst="rect">
            <a:avLst/>
          </a:prstGeom>
          <a:ln w="0">
            <a:noFill/>
          </a:ln>
        </p:spPr>
      </p:pic>
      <p:pic>
        <p:nvPicPr>
          <p:cNvPr id="170" name="Рисунок 2" descr=""/>
          <p:cNvPicPr/>
          <p:nvPr/>
        </p:nvPicPr>
        <p:blipFill>
          <a:blip r:embed="rId2"/>
          <a:stretch/>
        </p:blipFill>
        <p:spPr>
          <a:xfrm>
            <a:off x="4572000" y="2133720"/>
            <a:ext cx="1871640" cy="1726920"/>
          </a:xfrm>
          <a:prstGeom prst="rect">
            <a:avLst/>
          </a:prstGeom>
          <a:ln w="0">
            <a:noFill/>
          </a:ln>
        </p:spPr>
      </p:pic>
      <p:pic>
        <p:nvPicPr>
          <p:cNvPr id="171" name="Рисунок 3" descr=""/>
          <p:cNvPicPr/>
          <p:nvPr/>
        </p:nvPicPr>
        <p:blipFill>
          <a:blip r:embed="rId3"/>
          <a:stretch/>
        </p:blipFill>
        <p:spPr>
          <a:xfrm>
            <a:off x="2124000" y="4797360"/>
            <a:ext cx="1790640" cy="1065240"/>
          </a:xfrm>
          <a:prstGeom prst="rect">
            <a:avLst/>
          </a:prstGeom>
          <a:ln w="0">
            <a:noFill/>
          </a:ln>
        </p:spPr>
      </p:pic>
      <p:pic>
        <p:nvPicPr>
          <p:cNvPr id="172" name="Рисунок 4" descr=""/>
          <p:cNvPicPr/>
          <p:nvPr/>
        </p:nvPicPr>
        <p:blipFill>
          <a:blip r:embed="rId4"/>
          <a:stretch/>
        </p:blipFill>
        <p:spPr>
          <a:xfrm>
            <a:off x="5435640" y="4724280"/>
            <a:ext cx="1741320" cy="97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476280"/>
            <a:ext cx="6870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68000" y="1267920"/>
            <a:ext cx="8675640" cy="5256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3600" spc="-1" strike="noStrike">
                <a:solidFill>
                  <a:srgbClr val="0000ff"/>
                </a:solidFill>
                <a:latin typeface="Times New Roman"/>
              </a:rPr>
              <a:t>Згадаємо: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Квадратичною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функцією називається </a:t>
            </a:r>
            <a:r>
              <a:rPr b="0" lang="ru-RU" sz="3600" spc="-1" strike="noStrike">
                <a:solidFill>
                  <a:srgbClr val="703dff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функція, яку можна задати формулою вигляду у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²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bx +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лгоритм побудови параболи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(x) = a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²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bx + c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прямок  віток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ершина   (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-b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∕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2a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;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 = f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). 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ісь симетрії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аблиця значень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будова  графіка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"/>
          <p:cNvSpPr/>
          <p:nvPr/>
        </p:nvSpPr>
        <p:spPr>
          <a:xfrm>
            <a:off x="3059280" y="4437000"/>
            <a:ext cx="71280" cy="142920"/>
          </a:xfrm>
          <a:prstGeom prst="ellipse">
            <a:avLst/>
          </a:prstGeom>
          <a:solidFill>
            <a:srgbClr val="00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500720" y="4508640"/>
            <a:ext cx="71280" cy="142560"/>
          </a:xfrm>
          <a:prstGeom prst="ellipse">
            <a:avLst/>
          </a:prstGeom>
          <a:solidFill>
            <a:srgbClr val="00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5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" dur="5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619280" y="189000"/>
            <a:ext cx="6121440" cy="95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Приклад  побудови графіка квадратичної  функції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4608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(x)= 2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²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+ 8x +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) Вітки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2)  х  = 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∕ 2a= -8∕ 2•2= -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y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=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f(x )= 2•(-2)² + 8•(-2)+2= -6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O (-2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-6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3)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4)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1547640" y="2060640"/>
            <a:ext cx="0" cy="288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42920" y="2637000"/>
            <a:ext cx="73080" cy="71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965160" y="3946680"/>
          <a:ext cx="1954080" cy="639720"/>
        </p:xfrm>
        <a:graphic>
          <a:graphicData uri="http://schemas.openxmlformats.org/drawingml/2006/table">
            <a:tbl>
              <a:tblPr/>
              <a:tblGrid>
                <a:gridCol w="489960"/>
                <a:gridCol w="487080"/>
                <a:gridCol w="489600"/>
                <a:gridCol w="4874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2" name=""/>
          <p:cNvSpPr/>
          <p:nvPr/>
        </p:nvSpPr>
        <p:spPr>
          <a:xfrm>
            <a:off x="971640" y="3068640"/>
            <a:ext cx="71280" cy="73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6084720" y="1844280"/>
            <a:ext cx="0" cy="446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994920" y="4076640"/>
            <a:ext cx="4248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435640" y="191772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8099280" y="414972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938920" y="4149720"/>
            <a:ext cx="71280" cy="144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867280" y="400536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651640" y="400536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435640" y="400536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219640" y="400536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003640" y="400536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788000" y="400536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570560" y="400536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354560" y="400536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138560" y="400536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299280" y="400536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515280" y="400536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730920" y="400536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946920" y="400536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162920" y="400536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378560" y="400536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7596360" y="400536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7812000" y="400536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8028000" y="400536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012000" y="429408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012000" y="451008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012000" y="472608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012000" y="494172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012000" y="515772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012000" y="537372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012000" y="558972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012000" y="580536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012000" y="602136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012000" y="213372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012000" y="234936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012000" y="256536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012000" y="278136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012000" y="299736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012000" y="3213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012000" y="342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012000" y="3645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012000" y="386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435640" y="4221000"/>
            <a:ext cx="4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651640" y="5229360"/>
            <a:ext cx="5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580000" y="5300640"/>
            <a:ext cx="142920" cy="1443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651640" y="2060640"/>
            <a:ext cx="0" cy="388764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148360" y="3573360"/>
            <a:ext cx="144360" cy="1447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012000" y="3573360"/>
            <a:ext cx="144360" cy="1447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364000" y="4869000"/>
            <a:ext cx="144720" cy="1443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796000" y="4869000"/>
            <a:ext cx="142920" cy="1443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300720" y="400536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516720" y="400536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732720" y="400536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948360" y="400536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164360" y="400536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380360" y="400536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597800" y="400536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813800" y="400536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8029440" y="400536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013440" y="429408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013440" y="451008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013440" y="472608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013440" y="494172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013440" y="515772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013440" y="537372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3440" y="580536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013440" y="602136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08280"/>
            <a:ext cx="1008000" cy="2666880"/>
          </a:xfrm>
          <a:custGeom>
            <a:avLst/>
            <a:gdLst/>
            <a:ahLst/>
            <a:rect l="l" t="t" r="r" b="b"/>
            <a:pathLst>
              <a:path w="635" h="1680">
                <a:moveTo>
                  <a:pt x="0" y="0"/>
                </a:moveTo>
                <a:cubicBezTo>
                  <a:pt x="7" y="178"/>
                  <a:pt x="15" y="356"/>
                  <a:pt x="45" y="590"/>
                </a:cubicBezTo>
                <a:cubicBezTo>
                  <a:pt x="75" y="824"/>
                  <a:pt x="150" y="1242"/>
                  <a:pt x="181" y="1407"/>
                </a:cubicBezTo>
                <a:cubicBezTo>
                  <a:pt x="212" y="1572"/>
                  <a:pt x="206" y="1539"/>
                  <a:pt x="229" y="1584"/>
                </a:cubicBezTo>
                <a:cubicBezTo>
                  <a:pt x="252" y="1629"/>
                  <a:pt x="287" y="1678"/>
                  <a:pt x="317" y="1679"/>
                </a:cubicBezTo>
                <a:cubicBezTo>
                  <a:pt x="347" y="1680"/>
                  <a:pt x="385" y="1632"/>
                  <a:pt x="408" y="1588"/>
                </a:cubicBezTo>
                <a:cubicBezTo>
                  <a:pt x="431" y="1544"/>
                  <a:pt x="428" y="1577"/>
                  <a:pt x="458" y="1411"/>
                </a:cubicBezTo>
                <a:cubicBezTo>
                  <a:pt x="488" y="1245"/>
                  <a:pt x="561" y="825"/>
                  <a:pt x="590" y="590"/>
                </a:cubicBezTo>
                <a:cubicBezTo>
                  <a:pt x="619" y="355"/>
                  <a:pt x="628" y="98"/>
                  <a:pt x="635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7" dur="5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2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7" dur="5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0" dur="500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3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6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9" dur="500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00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9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2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8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4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7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0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3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6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9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2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5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8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1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4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0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3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6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2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8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1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4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7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0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3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9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2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5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8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1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4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0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3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6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9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2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5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1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4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7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0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6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9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2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5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8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1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4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7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0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5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8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0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5" dur="500"/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0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73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8T08:38:37Z</dcterms:created>
  <dc:creator>FuckYouBill</dc:creator>
  <dc:description/>
  <dc:language>en-US</dc:language>
  <cp:lastModifiedBy>Administrator</cp:lastModifiedBy>
  <dcterms:modified xsi:type="dcterms:W3CDTF">2018-07-16T07:28:15Z</dcterms:modified>
  <cp:revision>56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5a0a000000000001024140</vt:lpwstr>
  </property>
</Properties>
</file>