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580D2-832B-4312-A137-50A81513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53BD5-75A9-48A0-BAFA-9E29282B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6F241-FEC4-47DA-AAD5-04EC602C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5CB75-F8E3-4F06-A348-2528FB86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863B-D0EE-491D-8C5D-3B6BF438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D725-C5AE-4BCE-8577-A30D93EF7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822C-3866-4DEF-A048-6AAC2991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2FC1-AE43-4B3C-BA8B-CFF4C6FA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8176-D797-4B6E-908B-CB6E9330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9CD5-C609-4560-A8B8-8BE44020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CC00-7498-48A9-BEEC-28AD8307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0B84E-C8DA-44D6-AC35-DD11134F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0644-FDAF-45E3-8E75-D8725722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A351-1B5F-4F52-B1AD-CBC85363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18B2-9B18-437B-924F-5AFAE0A1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2E21-6EC5-47F6-92C3-E20DB18CD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60D3-C1FA-4FC2-9050-AFFE4854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5712B-4C81-4FE6-B906-3FFE0355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3D136-60C9-4189-B976-50A5243B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FFD27-5970-417C-9821-DF527CEA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079EC-D5D1-4222-A291-57B358C3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7255C-DA5C-4F35-9089-DAA7983B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1A1B6-ABCC-49A8-89E5-BF0419F0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DC2D7-64D3-4789-AD44-AD8ADEF8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801E-9AA1-43B4-BBCA-955DC7D8EB9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064A-0B52-4085-842B-A03655F3E48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ffffcc"/>
                </a:solidFill>
                <a:latin typeface="Segoe Script"/>
              </a:rPr>
              <a:t>«Моя квартира»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 flipH="1">
            <a:off x="5130360" y="2997360"/>
            <a:ext cx="35355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11280" y="277920"/>
            <a:ext cx="447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4800" spc="-1" strike="noStrike">
                <a:solidFill>
                  <a:srgbClr val="ffffcc"/>
                </a:solidFill>
                <a:latin typeface="Segoe Script"/>
              </a:rPr>
              <a:t>М</a:t>
            </a:r>
            <a:r>
              <a:rPr b="1" lang="uk-UA" sz="4800" spc="-1" strike="noStrike">
                <a:solidFill>
                  <a:srgbClr val="ffffcc"/>
                </a:solidFill>
                <a:latin typeface="Segoe Script"/>
              </a:rPr>
              <a:t>ій будинок</a:t>
            </a:r>
            <a:r>
              <a:rPr b="0" lang="uk-UA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458136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411280" y="2997360"/>
            <a:ext cx="3024360" cy="2006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284720" y="4581360"/>
            <a:ext cx="2879640" cy="1854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516720" y="3357720"/>
            <a:ext cx="2363760" cy="1655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468360" y="26028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200" spc="-1" strike="noStrike">
                <a:solidFill>
                  <a:srgbClr val="ffffcc"/>
                </a:solidFill>
                <a:latin typeface="Segoe Script"/>
              </a:rPr>
              <a:t>Передпокій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788000" y="1599840"/>
            <a:ext cx="3898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ередпокі́й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риміщення, яке має безпосередній вихід на сходову клітку, коридор загального користування, тамбур тощ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232000" cy="244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332000" y="400536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476244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ffcc"/>
                </a:solidFill>
                <a:latin typeface="Segoe Script"/>
              </a:rPr>
              <a:t>Кухня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460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Demi"/>
              </a:rPr>
              <a:t>Кухня (від нім. Küche - кухня) - приміщення для приготування їжі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Demi"/>
              </a:rPr>
              <a:t>Кухня - важливе приміщення в будинку. У сучасних квартирах, як правило, суміщена з їдальнею. Характеризується наявністю місць для зберігання продуктів і кухонного приладдя, місць для сервіровки і остигання готових стра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156360" y="404640"/>
            <a:ext cx="2808360" cy="20750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2735280" cy="2051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012000" y="4221000"/>
            <a:ext cx="295272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ffffcc"/>
                </a:solidFill>
                <a:latin typeface="Segoe Script"/>
              </a:rPr>
              <a:t>Спальня</a:t>
            </a:r>
            <a:r>
              <a:rPr b="0" lang="uk-UA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27280" y="1196640"/>
            <a:ext cx="453708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альня —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імната в квартирі або в іншому житлі у якій його мешканці сплят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альня — важливе приміщення у помешканні. У багатьох країнах будинок або квартиру в першу чергу характеризують кількістю спален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3456000" cy="2244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116000" y="342900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ffffcc"/>
                </a:solidFill>
                <a:latin typeface="Segoe Script"/>
              </a:rPr>
              <a:t>Вітальня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53290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італьн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ru-RU" sz="2400" spc="-1" strike="noStrike">
                <a:solidFill>
                  <a:srgbClr val="ffffff"/>
                </a:solidFill>
                <a:latin typeface="Franklin Gothic Medium"/>
              </a:rPr>
              <a:t>спеціально умебльована кімната для приймання гостей. Вітальня ( зал/ зала) - це кімната для прийому гостей, читання, перегляду ТБ та ін. В типовій вітальні присутні: диван і зручні крісла та невеличкий «кавовий / журнальний» столик, стіл зі стільцями (обідня зона), книжкові шафи, телевізор, стереосистема та інше обладнання для розваг , меблі та предмети деко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651640" y="1197000"/>
            <a:ext cx="3294000" cy="2232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651640" y="3860640"/>
            <a:ext cx="334800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ffffcc"/>
                </a:solidFill>
                <a:latin typeface="Segoe Script"/>
              </a:rPr>
              <a:t>Дитяча  кімната</a:t>
            </a:r>
            <a:r>
              <a:rPr b="0" lang="uk-UA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4537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Medium"/>
              </a:rPr>
              <a:t>Більшості сьогоднішніх дівчат і хлопчиків дуже пощастило – з дитячих років вони мають власну кімнату. Своя дитяча кімната є цілим світом для дитини. Найчастіше саме дитяча стає місцем, де відбуваються найбільш важливі та цікаві для дитини події. Адже дитяча є найбільш функціональною кімнатою в квартирі, виконуючи одночасно роль кабінету, ігрової, вітальні, спальні та спортзал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456000" cy="22352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826920" y="3645000"/>
            <a:ext cx="360072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fffcc"/>
                </a:solidFill>
                <a:latin typeface="Segoe Script"/>
              </a:rPr>
              <a:t>До нових зустрічей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35528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0T19:27:30Z</dcterms:created>
  <dc:creator>1</dc:creator>
  <dc:description/>
  <dc:language>en-US</dc:language>
  <cp:lastModifiedBy>1</cp:lastModifiedBy>
  <dcterms:modified xsi:type="dcterms:W3CDTF">2013-02-22T13:57:32Z</dcterms:modified>
  <cp:revision>5</cp:revision>
  <dc:subject/>
  <dc:title>«Моя квартира – моя фортеця»  </dc:title>
</cp:coreProperties>
</file>