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261-2817-40D2-9053-251395517B5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gfcbg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F14-4637-4D9D-8B51-1A89E2BAE79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9DF-E631-4E62-8631-CEBA69B4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600-6067-4526-BB7D-A4762283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F41-8B4F-4982-8669-09A2887C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FF6-B588-4769-9047-62E8139F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E798-2D6B-48AD-8FA3-C9E2D13E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01AE-D1CC-4483-A314-CDD999C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ADB8-BD37-4556-BA72-1387965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319-D828-42DD-8716-84771D9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3D0-B822-43D6-BF1F-FBE5869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F2D3-1881-43C3-BB38-C0EC640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462E-EEF0-4893-A589-7F69214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C4A-75CE-4589-9981-2DDFB198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5FB-494F-4F35-BFA9-9C4D77E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1EF-70AB-4BCB-9A7B-DE86B00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B57C-71E3-4A43-B7A5-3593CEC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16BE-4C2B-4D20-AA5A-BFBE5CFB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FEE4-E62E-4A3D-B986-F4722FD5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91D2-4C70-4FBC-9222-E1439BE0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84F8-4894-4477-921B-B14A1D7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1B36-9CBC-4377-8F09-A4F4D0E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9816-E094-40DC-A3E0-13E40DE8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548-FF3D-4B21-ACBC-CBC56384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487-121E-4D92-AFA9-D679BB25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CC19-492A-4356-B7CB-0E5122A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EA5E-A5D1-4726-824B-9C27552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E32F-7CB7-4BCD-B9C6-37259FF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3C8D-1603-4734-9841-2D4FA3B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E290-0771-43FE-8BE3-40F6F5BE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488B-30A5-4B44-9C1E-886C7910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EA02-48FE-4942-9227-062865F5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AFB7-63CB-4316-B906-F5F2AD67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F1F0-A0A3-480A-BB12-DFDED6A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A86C-401E-4AE0-B182-5D90746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54D-D7D2-4B86-B329-4D0BFB5A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ABD4-7F60-42B8-95C9-531199D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14DA-2F69-43C6-AC92-EBC2E4BE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30BA-AC95-4251-99CF-C2C13D9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8FC0-7DA1-45CE-AB10-26213D1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CF70-734C-4F78-880B-F6CA7E8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A6A9-AE95-4D62-9E66-1933E0D7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2669-946E-4409-BDCA-A5570D7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E0AF-34B6-4144-A2A6-AD697284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2ECA-6C34-4F30-A9B7-BC048FF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D798-AF29-408C-A69E-DF3078CE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101-D442-44F5-9283-171727C9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77A3-95A7-4AEE-B6A3-8A9FF8D3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4D4A-8BED-459F-A544-5FEAFF0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D9FF-8276-480B-B41B-9F888F58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5363A-F3FD-4C89-9CDF-BF4CD06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C6CA-0FCF-4D29-A2E1-D749E45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F1EB-C3B4-490C-BC5C-64188A7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51B8-3890-466F-AC2F-ECEEFBE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4C38-88DF-4EB6-8522-787CBE5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2102-7FBF-4D56-9EB1-2138338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334F-5D8E-483F-BC8B-3867837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4B5-9B98-4E71-A5A4-7C458B2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5F0A-A023-4A56-B3C7-FE046FF4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39C-987E-4D52-8830-261B10C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8FF-40E2-49B0-ADFD-6CC5B88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11C-D6EB-4759-A57F-49B27BAD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D35-C8B3-4639-9EE8-58E624944006}" type="slidenum">
              <a:rPr b="0" lang="ru-RU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A8F-92F0-4205-B6DC-F4E75C43384A}" type="slidenum">
              <a:rPr b="0" lang="ru-RU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BB4B-74AB-4FD5-8DD0-E206BAEA3EF3}" type="slidenum">
              <a:rPr b="0" lang="ru-RU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62B-9629-46C8-AC78-6421F599C6D8}" type="slidenum">
              <a:rPr b="0" lang="ru-RU" sz="1600" spc="-1" strike="noStrike">
                <a:solidFill>
                  <a:srgbClr val="43434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E83-8C20-4004-B392-EE21518631CB}" type="slidenum">
              <a:rPr b="0" lang="ru-RU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826920" y="1197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d9617"/>
                </a:solidFill>
                <a:latin typeface="Tahoma"/>
              </a:rPr>
              <a:t>[h] - hello, how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d9617"/>
                </a:solidFill>
                <a:latin typeface="Tahoma"/>
              </a:rPr>
              <a:t>[ei] – great, OK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ovie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movie.wmv" descr=""/>
          <p:cNvPicPr/>
          <p:nvPr/>
        </p:nvPicPr>
        <p:blipFill>
          <a:blip r:embed="rId2"/>
          <a:stretch/>
        </p:blipFill>
        <p:spPr>
          <a:xfrm>
            <a:off x="-401760" y="-30240"/>
            <a:ext cx="9515520" cy="713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Картинки по запросу мультяшный рюкзак"/>
          <p:cNvPicPr/>
          <p:nvPr/>
        </p:nvPicPr>
        <p:blipFill>
          <a:blip r:embed="rId1"/>
          <a:srcRect l="0" t="11834" r="0" b="11834"/>
          <a:stretch/>
        </p:blipFill>
        <p:spPr>
          <a:xfrm>
            <a:off x="1476360" y="1916280"/>
            <a:ext cx="5486400" cy="4547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337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acef9"/>
                </a:solidFill>
                <a:latin typeface="Franklin Gothic Medium"/>
              </a:rPr>
              <a:t>MY SCHOOL BAG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5"/>
          <p:cNvSpPr/>
          <p:nvPr/>
        </p:nvSpPr>
        <p:spPr>
          <a:xfrm>
            <a:off x="38160" y="1268280"/>
            <a:ext cx="8928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Tahoma"/>
              </a:rPr>
              <a:t>I’ve got a ….</a:t>
            </a:r>
            <a:endParaRPr b="0" lang="en-US" sz="1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2"/>
          <p:cNvSpPr/>
          <p:nvPr/>
        </p:nvSpPr>
        <p:spPr>
          <a:xfrm>
            <a:off x="395280" y="18446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</a:rPr>
              <a:t>It is big/small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755640" y="981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It is              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5364000" y="1539720"/>
            <a:ext cx="9144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Шестиугольник 4"/>
          <p:cNvSpPr/>
          <p:nvPr/>
        </p:nvSpPr>
        <p:spPr>
          <a:xfrm>
            <a:off x="6372360" y="1557360"/>
            <a:ext cx="1060200" cy="91440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c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3198960" y="15127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Шестиугольник 6"/>
          <p:cNvSpPr/>
          <p:nvPr/>
        </p:nvSpPr>
        <p:spPr>
          <a:xfrm>
            <a:off x="4221000" y="1512720"/>
            <a:ext cx="1060560" cy="9144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00b0f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189000" y="1103400"/>
            <a:ext cx="8208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800" spc="-1" strike="noStrike">
                <a:solidFill>
                  <a:srgbClr val="000000"/>
                </a:solidFill>
                <a:latin typeface="Tahoma"/>
              </a:rPr>
              <a:t>I like it.</a:t>
            </a:r>
            <a:endParaRPr b="0" lang="en-US" sz="1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684360" y="69228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’ve got a…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 is big/small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 is                     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 like it.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1787400" y="2022480"/>
            <a:ext cx="528840" cy="588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Шестиугольник 3"/>
          <p:cNvSpPr/>
          <p:nvPr/>
        </p:nvSpPr>
        <p:spPr>
          <a:xfrm>
            <a:off x="2556000" y="2048040"/>
            <a:ext cx="647640" cy="588960"/>
          </a:xfrm>
          <a:prstGeom prst="hexagon">
            <a:avLst>
              <a:gd name="adj" fmla="val 24976"/>
              <a:gd name="vf" fmla="val 115470"/>
            </a:avLst>
          </a:prstGeom>
          <a:solidFill>
            <a:srgbClr val="00b0f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3419640" y="2048040"/>
            <a:ext cx="550800" cy="588960"/>
          </a:xfrm>
          <a:prstGeom prst="rect">
            <a:avLst/>
          </a:prstGeom>
          <a:solidFill>
            <a:srgbClr val="92d05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Шестиугольник 5"/>
          <p:cNvSpPr/>
          <p:nvPr/>
        </p:nvSpPr>
        <p:spPr>
          <a:xfrm>
            <a:off x="4181400" y="2022480"/>
            <a:ext cx="612720" cy="58896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ffc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20:30:09Z</dcterms:created>
  <dc:creator>Andrey</dc:creator>
  <dc:description/>
  <dc:language>en-US</dc:language>
  <cp:lastModifiedBy>Наташа</cp:lastModifiedBy>
  <dcterms:modified xsi:type="dcterms:W3CDTF">2017-02-15T20:34:46Z</dcterms:modified>
  <cp:revision>12</cp:revision>
  <dc:subject/>
  <dc:title>Slide 1</dc:title>
</cp:coreProperties>
</file>