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7AF-943B-4201-921B-3B7BE393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94F-5C4D-4B20-8F8B-A5E9B7C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38A-AFB0-4FA4-9CB2-303FF37F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F46-57F6-4A6B-8FF6-BD69983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3210-6292-4E26-BC1E-9BD218C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2B3-08BB-4F28-9106-A408018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BC2A-2730-470C-97EE-CE5D916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568A-9305-496B-ACF6-870099E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9FC-CFC4-4CD8-8F7E-3E92F00B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DFB-E317-4DF9-AFBE-A3A6BEFE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CA8-D6B4-4569-8A61-1D809B1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B42-84D0-4557-B61E-5766D7A1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3956-C3B9-4BEE-918C-A6F9D3E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0F74-1859-4A52-898C-382E61E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25A-49C9-4CE6-9E4B-02C1DC5F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382A-D4A6-42FA-AF2C-B6CB4B47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09F9-F68A-42D6-ABF1-97ED620B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315-3B48-4707-A1E9-BCFD1A9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9B0-ECD2-42C0-A7C0-3A7C7D35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C23-320D-4890-A04C-F5EE61D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3F7-23C0-477E-826F-F1A4300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28E-856E-4F19-8ECA-10DA963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313-D4F6-44C7-BC4B-866E3AA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56E-BFEE-4BAB-97CB-A40A1BC0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52D9-550C-46F6-B739-38E6D5BF531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CD93-4088-4D06-BB21-2018EC802673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Times New Roman"/>
              </a:rPr>
              <a:t>3 – </a:t>
            </a:r>
            <a:r>
              <a:rPr b="1" lang="uk-UA" sz="6000" spc="-1" strike="noStrike">
                <a:solidFill>
                  <a:srgbClr val="00b0f0"/>
                </a:solidFill>
                <a:latin typeface="Times New Roman"/>
              </a:rPr>
              <a:t>Б клас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3640" y="1916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00"/>
                </a:solidFill>
                <a:latin typeface="Times New Roman"/>
              </a:rPr>
              <a:t>Вітає гостей на уроці природознавств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C:\Users\Dasha\Documents\загружено.jpg"/>
          <p:cNvPicPr/>
          <p:nvPr/>
        </p:nvPicPr>
        <p:blipFill>
          <a:blip r:embed="rId1"/>
          <a:stretch/>
        </p:blipFill>
        <p:spPr>
          <a:xfrm>
            <a:off x="2771640" y="3645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5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5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5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7"/>
          <p:cNvSpPr/>
          <p:nvPr/>
        </p:nvSpPr>
        <p:spPr>
          <a:xfrm>
            <a:off x="3348000" y="206064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е знаходяться родовища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476360" y="306864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547640" y="3933720"/>
            <a:ext cx="719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547640" y="4797360"/>
            <a:ext cx="7700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547640" y="573408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484360" y="5734080"/>
            <a:ext cx="7923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її п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3564000" y="573408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4643280" y="573408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796000" y="573408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7020000" y="573408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і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7020000" y="4941720"/>
            <a:ext cx="7700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ю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7093080" y="4076640"/>
            <a:ext cx="769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7020000" y="314172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ер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1692360" y="2060640"/>
            <a:ext cx="7696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00"/>
                </a:solidFill>
                <a:latin typeface="Times New Roman"/>
              </a:rPr>
              <a:t>ні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5219640" y="2060640"/>
            <a:ext cx="770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зем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6732720" y="2060640"/>
            <a:ext cx="7207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0"/>
          <p:cNvSpPr/>
          <p:nvPr/>
        </p:nvSpPr>
        <p:spPr>
          <a:xfrm flipV="1">
            <a:off x="2268360" y="4220640"/>
            <a:ext cx="4824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31"/>
          <p:cNvSpPr/>
          <p:nvPr/>
        </p:nvSpPr>
        <p:spPr>
          <a:xfrm flipH="1" flipV="1">
            <a:off x="2268360" y="4076280"/>
            <a:ext cx="482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2268360" y="4076640"/>
            <a:ext cx="4680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33"/>
          <p:cNvSpPr/>
          <p:nvPr/>
        </p:nvSpPr>
        <p:spPr>
          <a:xfrm flipH="1" flipV="1">
            <a:off x="2339640" y="3284640"/>
            <a:ext cx="453708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2340000" y="3284640"/>
            <a:ext cx="4608360" cy="24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35"/>
          <p:cNvSpPr/>
          <p:nvPr/>
        </p:nvSpPr>
        <p:spPr>
          <a:xfrm flipH="1" flipV="1">
            <a:off x="2484360" y="2349360"/>
            <a:ext cx="4464000" cy="338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36"/>
          <p:cNvSpPr/>
          <p:nvPr/>
        </p:nvSpPr>
        <p:spPr>
          <a:xfrm>
            <a:off x="2484360" y="2349360"/>
            <a:ext cx="360036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37"/>
          <p:cNvSpPr/>
          <p:nvPr/>
        </p:nvSpPr>
        <p:spPr>
          <a:xfrm flipH="1" flipV="1">
            <a:off x="3924000" y="2491920"/>
            <a:ext cx="2160360" cy="324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38"/>
          <p:cNvSpPr/>
          <p:nvPr/>
        </p:nvSpPr>
        <p:spPr>
          <a:xfrm flipH="1">
            <a:off x="2123640" y="2492280"/>
            <a:ext cx="180036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39"/>
          <p:cNvSpPr/>
          <p:nvPr/>
        </p:nvSpPr>
        <p:spPr>
          <a:xfrm flipV="1">
            <a:off x="2124000" y="2492280"/>
            <a:ext cx="352764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40"/>
          <p:cNvSpPr/>
          <p:nvPr/>
        </p:nvSpPr>
        <p:spPr>
          <a:xfrm flipH="1">
            <a:off x="4066920" y="2492280"/>
            <a:ext cx="158436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41"/>
          <p:cNvSpPr/>
          <p:nvPr/>
        </p:nvSpPr>
        <p:spPr>
          <a:xfrm flipV="1">
            <a:off x="4067280" y="2491920"/>
            <a:ext cx="2881080" cy="324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42"/>
          <p:cNvSpPr/>
          <p:nvPr/>
        </p:nvSpPr>
        <p:spPr>
          <a:xfrm flipH="1">
            <a:off x="2842920" y="2492280"/>
            <a:ext cx="410508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43"/>
          <p:cNvSpPr/>
          <p:nvPr/>
        </p:nvSpPr>
        <p:spPr>
          <a:xfrm flipV="1">
            <a:off x="2843280" y="3357720"/>
            <a:ext cx="410508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44"/>
          <p:cNvSpPr/>
          <p:nvPr/>
        </p:nvSpPr>
        <p:spPr>
          <a:xfrm flipH="1">
            <a:off x="5076360" y="3357720"/>
            <a:ext cx="187164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5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758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Співвіднести речовину і виріб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ластилі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аліз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Бенз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ам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ятни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алізна ру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Грані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Глин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ф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564000" y="2060640"/>
            <a:ext cx="122400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 flipV="1">
            <a:off x="2627280" y="2133720"/>
            <a:ext cx="201600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2771640" y="3860640"/>
            <a:ext cx="1871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V="1">
            <a:off x="3995640" y="3068280"/>
            <a:ext cx="6476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f0"/>
                </a:solidFill>
                <a:latin typeface="Times New Roman"/>
              </a:rPr>
              <a:t>Домашнє завданн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640" y="159984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. 47-4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ідготувати розповідь про те, як спосіб добування корисних копалин впливає на стан природи на планеті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0956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71280" y="333000"/>
            <a:ext cx="7715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З природознавства кілька уроків –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У світ незвичайний ще кілька кроків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Світ природи пізнати маємо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Багато цікавого ми вже знаємо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А рідний край такий багатий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Що мусим ми його пізнати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І ті річки, поля та гори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Всі неосяжнії простори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Вчимо ми все це залюбки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</a:rPr>
              <a:t>Бо тут живемо я і ти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443640" y="3789360"/>
            <a:ext cx="22716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Банк зна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C:\Users\Dasha\Documents\wpid-bank1-.jpg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C:\Users\Dasha\Documents\images (1).jpg"/>
          <p:cNvPicPr/>
          <p:nvPr/>
        </p:nvPicPr>
        <p:blipFill>
          <a:blip r:embed="rId1"/>
          <a:stretch/>
        </p:blipFill>
        <p:spPr>
          <a:xfrm>
            <a:off x="0" y="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Dasha\Documents\0004-003-Nafta-gorjucha-masljanista-rdina-chervono-korichnevogo-koloru-nod.png"/>
          <p:cNvPicPr/>
          <p:nvPr/>
        </p:nvPicPr>
        <p:blipFill>
          <a:blip r:embed="rId2"/>
          <a:stretch/>
        </p:blipFill>
        <p:spPr>
          <a:xfrm>
            <a:off x="1332000" y="1249200"/>
            <a:ext cx="3779640" cy="309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Dasha\Documents\slide1.jpg"/>
          <p:cNvPicPr/>
          <p:nvPr/>
        </p:nvPicPr>
        <p:blipFill>
          <a:blip r:embed="rId3"/>
          <a:stretch/>
        </p:blipFill>
        <p:spPr>
          <a:xfrm>
            <a:off x="3540240" y="2567160"/>
            <a:ext cx="3716280" cy="31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Dasha\Documents\iron-135048.jpg"/>
          <p:cNvPicPr/>
          <p:nvPr/>
        </p:nvPicPr>
        <p:blipFill>
          <a:blip r:embed="rId4"/>
          <a:stretch/>
        </p:blipFill>
        <p:spPr>
          <a:xfrm>
            <a:off x="5402160" y="3666960"/>
            <a:ext cx="370692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Для допитливих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C:\Users\Dasha\Documents\images (2).jpg"/>
          <p:cNvPicPr/>
          <p:nvPr/>
        </p:nvPicPr>
        <p:blipFill>
          <a:blip r:embed="rId1"/>
          <a:stretch/>
        </p:blipFill>
        <p:spPr>
          <a:xfrm>
            <a:off x="2627280" y="1413000"/>
            <a:ext cx="3745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Dasha\Documents\ptashechki.gif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570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Фізкультхвилинк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enie-ptic-relaksiruyuschaya-muzyka-pod-penie-ptic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96794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Тема: Що таке корисні копалини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15998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30  19      23  1  15  7      15  19  21  11  22  18  12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15  19  20  1  16  11  18  1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C:\Users\Dasha\Documents\Эмблема_нашей_команды_8.jpg"/>
          <p:cNvPicPr/>
          <p:nvPr/>
        </p:nvPicPr>
        <p:blipFill>
          <a:blip r:embed="rId1"/>
          <a:stretch/>
        </p:blipFill>
        <p:spPr>
          <a:xfrm>
            <a:off x="2421000" y="2781360"/>
            <a:ext cx="43434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Довідкове бюр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Times New Roman"/>
              </a:rPr>
              <a:t>Корисні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– те, дає користь, приносить добрі наслідки, матеріальну вигод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Times New Roman"/>
              </a:rPr>
              <a:t>Копалини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– це природні мінеральні утворення, що їх видобувають з надр Земл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f0"/>
                </a:solidFill>
                <a:latin typeface="Times New Roman"/>
              </a:rPr>
              <a:t>Корисні копалини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– це природні мінеральні утворення, що їх видобувають із Землі і використовують в народному господарств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ДО  РО  ЩЕ  В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РОДОВИЩ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01:23Z</dcterms:created>
  <dc:creator>Intel</dc:creator>
  <dc:description/>
  <dc:language>en-US</dc:language>
  <cp:lastModifiedBy>Dasha</cp:lastModifiedBy>
  <dcterms:modified xsi:type="dcterms:W3CDTF">2014-10-23T05:10:15Z</dcterms:modified>
  <cp:revision>26</cp:revision>
  <dc:subject/>
  <dc:title>Гідрометцентр 3-Б класу інформує</dc:title>
</cp:coreProperties>
</file>