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6D0-5CF5-46D4-AE8A-A6337835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554-C5EE-412C-83DC-D9C79007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DF3-1293-4B0B-B7BF-E821ABB31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ADB0-CCF3-4546-961F-DFE10165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D89-AF9A-4138-841D-24BAA03D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5DE-DD1B-4EEB-B4AF-E94E25D3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743-9B0F-48F8-9C03-B3CCA909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3B8-4C78-43F6-B5D5-AAE935FF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0CBB-1AA0-45CE-AA14-BAAEE273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0C7-3EE3-40EF-B526-D5C3BAE5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FE4-9C03-4800-9F2F-FF08D40C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B16C-A56C-4E25-A396-9BC5B685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8403-CB78-463A-8FC3-ED5B49C8AA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900000" y="1125360"/>
            <a:ext cx="727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[h] - hello, how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[ei] – great, OK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movie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70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inter Holiday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4" name="Picture 4" descr="wint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403280" y="249228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ff54b"/>
                </a:solidFill>
                <a:latin typeface="Tahoma"/>
              </a:rPr>
              <a:t>Winter Holiday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hristmas-tree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Christmas-Song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392720" y="765000"/>
            <a:ext cx="47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565"/>
                </a:solidFill>
                <a:latin typeface="Tahoma"/>
              </a:rPr>
              <a:t>We wish you a merry christmas and Happy New Year!!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48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2T20:30:09Z</dcterms:created>
  <dc:creator>Andrey</dc:creator>
  <dc:description/>
  <dc:language>en-US</dc:language>
  <cp:lastModifiedBy>Наташа</cp:lastModifiedBy>
  <dcterms:modified xsi:type="dcterms:W3CDTF">2017-02-14T18:15:39Z</dcterms:modified>
  <cp:revision>4</cp:revision>
  <dc:subject/>
  <dc:title>Slide 1</dc:title>
</cp:coreProperties>
</file>