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52.png" ContentType="image/png"/>
  <Override PartName="/ppt/media/image47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32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5.jpeg" ContentType="image/jpeg"/>
  <Override PartName="/ppt/media/image50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D668-47AC-4051-B7F3-372472CC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D8C0-E650-448A-B69B-C7FB6C78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061-D236-4C52-874F-B8C9AB8F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97CF-5B4A-438F-B0E7-66E546D6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327C-ABFE-446D-A8DD-02F89A2E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D2A5-FE14-499D-961B-4E18B9E9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B613-FF00-43CA-B85E-027BD1F7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2041-ABA1-4FA6-8DEE-11ED805E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90B6-8F0B-4457-AAD5-E56A2C50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162C-29B5-45A3-B4BF-FFE9B2DD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75E0-7048-443C-8E0A-62079779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B950-BD23-4174-A7C6-8039E1C4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5E2E-9BDC-47A1-ADC0-4949F0E027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img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1692360" y="1125360"/>
            <a:ext cx="7451640" cy="86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биратися разом - це початок,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1979640" y="2565360"/>
            <a:ext cx="62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иматися разом - це процес,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1763640" y="3860640"/>
            <a:ext cx="6688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цювати разом - це успіх.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img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03280" y="691920"/>
            <a:ext cx="59403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d60093"/>
                </a:solidFill>
                <a:latin typeface="Arial"/>
              </a:rPr>
              <a:t>Характеристика біоритм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добові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річні ,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иливно- відливн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і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итми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background_vector_26_20100729_13963513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обові рит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ритми, які пристосовують організм до зміни дня і ноч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чино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бових ритмів є обертання Землі навколо своєї о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04"/>
          <p:cNvPicPr/>
          <p:nvPr/>
        </p:nvPicPr>
        <p:blipFill>
          <a:blip r:embed="rId1"/>
          <a:stretch/>
        </p:blipFill>
        <p:spPr>
          <a:xfrm>
            <a:off x="0" y="0"/>
            <a:ext cx="9144000" cy="7209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ові ритми виявлені як у багатоклітинних, так і в одноклітинних організмів. У рослин інтенсивний ріст, розпускання квіток, закривання і відкривання продихів приурочені до певного часу доби. Спостерігаються ритми і в протіканні процесів дихання і фотосинтезу, що проявляється в їх посилення або ослаблення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638411834802525"/>
          <p:cNvPicPr/>
          <p:nvPr/>
        </p:nvPicPr>
        <p:blipFill>
          <a:blip r:embed="rId2"/>
          <a:stretch/>
        </p:blipFill>
        <p:spPr>
          <a:xfrm>
            <a:off x="3348000" y="4265640"/>
            <a:ext cx="3529080" cy="2592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тварин сильно змінюється активність протягом доби. За цією ознакою розрізняю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нних і нічни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варин. Добові ритми проявляються у чергуванні сну і неспання, зміна рухової активності, частоти пульсу, температури тіла.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PictureSupplier"/>
          <p:cNvPicPr/>
          <p:nvPr/>
        </p:nvPicPr>
        <p:blipFill>
          <a:blip r:embed="rId2"/>
          <a:stretch/>
        </p:blipFill>
        <p:spPr>
          <a:xfrm>
            <a:off x="2268360" y="4149720"/>
            <a:ext cx="3095640" cy="20653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4" name="Picture 15" descr="these-funny-animals-35-pics_15"/>
          <p:cNvPicPr/>
          <p:nvPr/>
        </p:nvPicPr>
        <p:blipFill>
          <a:blip r:embed="rId3"/>
          <a:stretch/>
        </p:blipFill>
        <p:spPr>
          <a:xfrm>
            <a:off x="6084720" y="4653000"/>
            <a:ext cx="2519640" cy="20606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людини виявлено близько 100 періодично повторюваних процесі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приклад, протягом доби максимальна маса тіла відзначається в 18-19 годин, температура тіла – в 16 – 18 годин, частота дихання – у 13 – 16 годин, частота серцевих скорочень – у 15 – 16 годин, навіть шкіра більш чутлива до косметичних процедур в світлий час доб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image061"/>
          <p:cNvPicPr/>
          <p:nvPr/>
        </p:nvPicPr>
        <p:blipFill>
          <a:blip r:embed="rId2"/>
          <a:stretch/>
        </p:blipFill>
        <p:spPr>
          <a:xfrm>
            <a:off x="3059280" y="4365720"/>
            <a:ext cx="2160360" cy="23493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8" name="Picture 9" descr="img23"/>
          <p:cNvPicPr/>
          <p:nvPr/>
        </p:nvPicPr>
        <p:blipFill>
          <a:blip r:embed="rId3"/>
          <a:stretch/>
        </p:blipFill>
        <p:spPr>
          <a:xfrm>
            <a:off x="6227640" y="4581360"/>
            <a:ext cx="2089440" cy="1989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nasto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187280" y="907920"/>
            <a:ext cx="7561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Річні рит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це ритми, які пристосовують організм до сезонної зміни умов.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Причин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ух Землі навколо Сонця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fc80783f0db1eebb0d04fc73981b37b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50752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При річному русі Землі по орбіті навколо Сонця на нашій планеті відбувається зміна пір року: зими, весни, літа й осе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житті видів періоди зростання, розмноження, линьок, міграцій, глибокого спокою закономірно чергуються й повторюються таким чином, що критичний час року організми зустрічають у найбільш стійкому стані. Самий уразливий процес – розмноження і вирощування молодняку – припадає на найбільш сприятливий період. На цей же період припадає цвітіння рослин, дозрівання плодів і насіння (вегетаційний період)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350307"/>
          <p:cNvPicPr/>
          <p:nvPr/>
        </p:nvPicPr>
        <p:blipFill>
          <a:blip r:embed="rId2"/>
          <a:stretch/>
        </p:blipFill>
        <p:spPr>
          <a:xfrm>
            <a:off x="250920" y="4221000"/>
            <a:ext cx="2593800" cy="2160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6" name="Picture 9" descr="%D1%82%D0%BE%D0%BC%D0%B0%D1%82%D1%8B-%D0%BF%D1%83%D0%BA%D0%B0-20789113"/>
          <p:cNvPicPr/>
          <p:nvPr/>
        </p:nvPicPr>
        <p:blipFill>
          <a:blip r:embed="rId3"/>
          <a:stretch/>
        </p:blipFill>
        <p:spPr>
          <a:xfrm>
            <a:off x="5867280" y="4292640"/>
            <a:ext cx="2735280" cy="2241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7" name="Picture 11" descr="img10"/>
          <p:cNvPicPr/>
          <p:nvPr/>
        </p:nvPicPr>
        <p:blipFill>
          <a:blip r:embed="rId4"/>
          <a:stretch/>
        </p:blipFill>
        <p:spPr>
          <a:xfrm>
            <a:off x="3348000" y="4221000"/>
            <a:ext cx="2160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я періодичність зміни фізіологічного стану протягом року багато в чому вроджена, тобт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оявляється як внутрішній річний рит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кщо, наприклад, австралійських страусів або дику собаку дінго помістити в зоопарк Північно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ї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івкулі, період розмноження у них настане восени, коли в Австралії весна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будова внутрішніх річних ритмів відбувається з великими труднощами, через цілий ряд поколінь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овго до настання несприятливих періодів в організмів починається тривалий процес підготовки. У організмів багато пристосувань до сезонного ритму зовнішніх умов. Задовго до настання зими у рослин опадає листя, дозрівають плоди і насіння. Одні тварини стають малорухомими і впадають в заціпеніння, інші готуються до активного життя у суворі холод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реті йдуть від несприятливих ум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ізкі короткочасні зміни погоди (приморозки влітку або зимові відлиги) зазвичай не порушують річних ритмів рослин і тварин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чином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ним фактором, на який реагують організми в річних циклах, є не випадкове зміна погоди, зміна довготи дня. Це єдиний астрономічний сигнал настання нового сез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i?id=2db87036027c031372ba888217336216&amp;n=33&amp;h=190&amp;w=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иливно-відливн</a:t>
            </a: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і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итми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итми, які характерні для мешканців прибережної зони морів і океанів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img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.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ганізми що мешкають на дні водойм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називаються - нейсто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.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йрізноманітніше за своїми умовам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середовище – вод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.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риторія розселення вид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називається – аре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.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рхній родючий шар грунт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називається гуму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5.Тип співіснування організмів різних видів від якого вони дістають взаємну користь називається коменсаліз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Пристосування організмів до умов середовища існування називається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аптація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Риболовля – це фактор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абіотич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Органічні речовини з неорганічних утворюють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редуцен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Взаємодія лева та леопард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це -конкуренці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Взаємодія піявки та людин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це – паразитиз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1.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рмін «екологія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запропонував вчен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.Гекк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2.Здатність організму підтримувати постійне співвідношення між утворенням тепла в організмі або його поглинанням з довкілля і витратами теплової енергії – теплорегуляці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3"/>
          <p:cNvSpPr txBox="1"/>
          <p:nvPr/>
        </p:nvSpPr>
        <p:spPr>
          <a:xfrm>
            <a:off x="1547640" y="549360"/>
            <a:ext cx="626436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ОВИ ПОМИЛКУ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pojuhyz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 найбільш складна ритміка в житті живих організмів. Так біля берегів Атлантичного океану вода піднімається і спадає двічі на добу з періодом 12,4 години (це рівно половина місячного періоду). Отже, точний час припливів постійно зсувається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ття в приливно-відливної зоні представлена великим різноманіттям видів. На час відливів молюски щільно стискають раковини, рачки ховаються в пісок або під мокрі водорості. Складність, в даному випадку, полягає ще й у тому, що життя цих організмів впливає також і добова періодичність. Рачки і краби під час денних припливів поводяться активніше, ніж під час нічних приплив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чином, біологічні ритми пристосовують організм до циклічних змін у зовнішньому середовищі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точність роботи біологічні ритми називають біологічними годи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%5bBI7GI_6-03%5d_%5bIL_02%5d-k3"/>
          <p:cNvPicPr/>
          <p:nvPr/>
        </p:nvPicPr>
        <p:blipFill>
          <a:blip r:embed="rId2"/>
          <a:stretch/>
        </p:blipFill>
        <p:spPr>
          <a:xfrm>
            <a:off x="2627280" y="4005360"/>
            <a:ext cx="3716280" cy="28526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i?id=c91b2892e3245be3df59c18fc87fa094&amp;n=33&amp;h=190&amp;w=2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топері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піввідношення світлого і темного часу доб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вжина світлового дня закономірно змінюється протягом року. Якщо день скорочується, види починають готуватися до зими, а якщо подовжується – до активного росту і розмножен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топер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з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датність організмів реагувати на зміну довжини світлового 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вжина дня впливає на швидкість та інтенсивність процесів життєдіяльності. Наприклад, хризантема зацвітає лише восени, коли довжина дня зменшується від 12 до 6 годин. У метеликів при зменшенні довжини дня сповільнюється розвиток яєць і личинок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6"/>
          <p:cNvSpPr txBox="1"/>
          <p:nvPr/>
        </p:nvSpPr>
        <p:spPr>
          <a:xfrm>
            <a:off x="1042920" y="333360"/>
            <a:ext cx="73454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отоперіодизм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img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26920" y="980640"/>
            <a:ext cx="75614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людей крім гормональних були виявлені зміни в обміні речовин, температурної регуляції, кровообігу, кровотворенн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внішні фактори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що впливають н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 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валість і інтенсивність світла, фотохімічні подразники змінюючог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ьтрафіолетового випромінювання і температурні колив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к, наприклад, навесні люди найбільш сприйнятливі до захворювань, що виникають душевні кризи, які виражаються в збільшенні частоти самогубств, злочинів і душевних розладів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истика показує, що навесні виникає прагнення до більш активної фізичної діяльності (психосоматич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ростання), в той час як здатність до навчання, уважність і ретельність погіршуються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4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908000" y="333000"/>
            <a:ext cx="6778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за виникає і восени, правда, менш виражен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людина стає більш урівноваженою, обмежується своїм домашнім "гніздечко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, у великій мірі стає, схильн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духовно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ї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іж до фізичної активності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чені вважають, що рослини визначають змін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вжини світлового дня за допомогою листя, а тварини і людина – за допомогою особливого відділу головного мозк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дина може використовувати знання про біологічні ритми в практичній діяльності. Наприклад, при вирощуванні овочів і фруктів, для підвищення несучості курей, завдяки штучному збільшенню довжини дня, можна досяг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ких результатів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5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Біологічний годинни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893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іологічний годинни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датність організму реагувати на плин ча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іологічний годинник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»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б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вітковий годинник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ворений понад два століття тому шведським ботаніком Карлом Ліннеє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ферблат годинника — квіткова клумба, розділена на кілька секторів, кожен з яких займає певний вид рослин. Час розкривання (закривання) квітів кожного сектора відповідає певному часові доби. Це не лише найкрасивіший годинник, він найкраще відповідає нашим власним біоритм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Ідеальним для людського здоров'я є життя «з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ячним годинником»: вставати на світанку, лягати після заходу сонця. Але кожна людина індивідуальна, в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хож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інших, має свої біологічні ритми. Саме вони впливають на час нашої працездатності та бажання поспа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3" descr="aSvf3lIRO5M"/>
          <p:cNvPicPr/>
          <p:nvPr/>
        </p:nvPicPr>
        <p:blipFill>
          <a:blip r:embed="rId2"/>
          <a:stretch/>
        </p:blipFill>
        <p:spPr>
          <a:xfrm>
            <a:off x="6443640" y="4437000"/>
            <a:ext cx="27003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79152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15640" y="2133720"/>
            <a:ext cx="8209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жайворо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в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голу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4"/>
          <p:cNvSpPr txBox="1"/>
          <p:nvPr/>
        </p:nvSpPr>
        <p:spPr>
          <a:xfrm>
            <a:off x="3348000" y="836640"/>
            <a:ext cx="439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Групи люде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d1ab01c95e707fdb81c5cdd978ec39f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Характерні ознаки "сови"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а працездатність ввечері (вночі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егко пристосовуються д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змі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итмів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 бояться труднощів і емоційних переживань;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ресостійкі;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егко ставляться до успіхів і невд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wallpapers_12259"/>
          <p:cNvPicPr/>
          <p:nvPr/>
        </p:nvPicPr>
        <p:blipFill>
          <a:blip r:embed="rId2"/>
          <a:stretch/>
        </p:blipFill>
        <p:spPr>
          <a:xfrm>
            <a:off x="3851280" y="4365720"/>
            <a:ext cx="3005280" cy="22543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d1ab01c95e707fdb81c5cdd978ec39f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«Совами» були такі великі люди, як Лев Толстой, А.П. Чехо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lev-i-sobachka-multfilm-smotret-tolstoy1522"/>
          <p:cNvPicPr/>
          <p:nvPr/>
        </p:nvPicPr>
        <p:blipFill>
          <a:blip r:embed="rId2"/>
          <a:stretch/>
        </p:blipFill>
        <p:spPr>
          <a:xfrm>
            <a:off x="900000" y="2060640"/>
            <a:ext cx="2808360" cy="3024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6" name="Picture 8" descr="i?id=76283fa4269277024a8ad5859d26c13e&amp;n=33&amp;h=190&amp;w=240"/>
          <p:cNvPicPr/>
          <p:nvPr/>
        </p:nvPicPr>
        <p:blipFill>
          <a:blip r:embed="rId3"/>
          <a:stretch/>
        </p:blipFill>
        <p:spPr>
          <a:xfrm>
            <a:off x="5219640" y="2060640"/>
            <a:ext cx="3024360" cy="3097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20574416e3ff5e9a54924bd70dd39fb1738c0d84100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Характерні ознаки «жайворонка»: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альна працездатність вранці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еконфліктність;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любов до спокою;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евпевненість у собі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аявність психологічних   пробл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Crested_Lark_Galerida_cristata_at_Sultanpur_I_Picture_118"/>
          <p:cNvPicPr/>
          <p:nvPr/>
        </p:nvPicPr>
        <p:blipFill>
          <a:blip r:embed="rId2"/>
          <a:stretch/>
        </p:blipFill>
        <p:spPr>
          <a:xfrm>
            <a:off x="6443640" y="2421000"/>
            <a:ext cx="2266920" cy="17222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img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идатні «жайворонки» Оноре де Бальзак, Дмитро Менделєє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278253"/>
          <p:cNvPicPr/>
          <p:nvPr/>
        </p:nvPicPr>
        <p:blipFill>
          <a:blip r:embed="rId2"/>
          <a:stretch/>
        </p:blipFill>
        <p:spPr>
          <a:xfrm>
            <a:off x="5940360" y="1844640"/>
            <a:ext cx="2355840" cy="29336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4" name="Picture 8" descr="aa50874184b2c96a56bf5dfb02e"/>
          <p:cNvPicPr/>
          <p:nvPr/>
        </p:nvPicPr>
        <p:blipFill>
          <a:blip r:embed="rId3"/>
          <a:stretch/>
        </p:blipFill>
        <p:spPr>
          <a:xfrm>
            <a:off x="468360" y="2708280"/>
            <a:ext cx="4608360" cy="23050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mg20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.Бентос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2. Наземно –повітря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5. Муталіз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7. Антропоген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8.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уцент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0. Хижац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395280" y="476280"/>
            <a:ext cx="518472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ідповідь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img443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Характерні ознаки «голубів»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іоритми і показники знаходяться між показниками «жайворонків» і «сов»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ік активності фізіологічних функцій припадає на денні годи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78851903"/>
          <p:cNvPicPr/>
          <p:nvPr/>
        </p:nvPicPr>
        <p:blipFill>
          <a:blip r:embed="rId2"/>
          <a:stretch/>
        </p:blipFill>
        <p:spPr>
          <a:xfrm>
            <a:off x="6156360" y="3573360"/>
            <a:ext cx="2592360" cy="21765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i?id=37d3ad0361331a3079d2fdcfc6fdbb7d&amp;n=33&amp;h=190&amp;w=2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915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 u="sng">
                <a:solidFill>
                  <a:srgbClr val="ffff00"/>
                </a:solidFill>
                <a:uFillTx/>
                <a:latin typeface="Arial"/>
              </a:rPr>
              <a:t>Тест</a:t>
            </a:r>
            <a:r>
              <a:rPr b="1" i="1" lang="uk-UA" sz="2000" spc="-1" strike="noStrike" u="sng">
                <a:solidFill>
                  <a:srgbClr val="ffff00"/>
                </a:solidFill>
                <a:uFillTx/>
                <a:latin typeface="Arial"/>
              </a:rPr>
              <a:t> « Пізнай себ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Чи важко вам прокидатися рано-вранці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так – 3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майже завжди – 2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рідко –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неважко – 0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О котрій годині ви переважно лягаєте спа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після 1.00 год. - 3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після 23.30 до 1.00 год. – 2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від 22.00 до 23.30 год. – 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до 22 год. – 0?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кий сніданок ви вживає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дуже калорійний – 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не дуже калорійний –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одне варене яйце чи бутерброд –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чашка чаю або кави – 0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У який час доби виникають роздратування або незначні сварк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у першій половині дня – 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у другій половині дня – 0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i?id=37d3ad0361331a3079d2fdcfc6fdbb7d&amp;n=33&amp;h=190&amp;w=254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ff00"/>
                </a:solidFill>
                <a:uFillTx/>
                <a:latin typeface="Arial"/>
              </a:rPr>
              <a:t>Тест</a:t>
            </a:r>
            <a:r>
              <a:rPr b="1" i="1" lang="uk-UA" sz="2000" spc="-1" strike="noStrike" u="sng">
                <a:solidFill>
                  <a:srgbClr val="ffff00"/>
                </a:solidFill>
                <a:uFillTx/>
                <a:latin typeface="Arial"/>
              </a:rPr>
              <a:t> « Пізнай себ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Від чого ви могли б легко відмовитис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від чаю або кави вранці – 2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від чаю ввечері – 0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Чи легко ви під час канікул порушуєте свій режим харчуванн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дуже легко –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легко –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важко –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зазвичай не змінюю – 3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Зранку вас очікують важливі справи. Наскільки раніше ви ляжете спати увечері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більш, ніж на 2 год. – 3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на годину – дві – 2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менш, ніж на годину – 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як звичайно – 0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 Як ви можете без годинника визначити тривалість 1 хвилини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менше хвилини –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більше хвилини – 2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i?id=144751a258b2ebd1fa198bd47a64f79b&amp;n=33&amp;h=190&amp;w=2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484000" y="1600200"/>
            <a:ext cx="727236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Ключ до тесту: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-7 балів – ви «жайворонок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-13 балів – ви «голуб» (аритмік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-20 балів – «сов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prevyu-shablon-leto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60033"/>
                </a:solidFill>
                <a:uFillTx/>
                <a:latin typeface="Arial"/>
              </a:rPr>
              <a:t>Домашнє завдання: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ивчити опорний конспек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ласти 10 тестових завдань із теми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ktrisy_gorod_grehov_485_101"/>
          <p:cNvPicPr/>
          <p:nvPr/>
        </p:nvPicPr>
        <p:blipFill>
          <a:blip r:embed="rId1"/>
          <a:stretch/>
        </p:blipFill>
        <p:spPr>
          <a:xfrm>
            <a:off x="0" y="0"/>
            <a:ext cx="9753480" cy="7101000"/>
          </a:xfrm>
          <a:prstGeom prst="rect">
            <a:avLst/>
          </a:prstGeom>
          <a:ln w="0">
            <a:noFill/>
          </a:ln>
        </p:spPr>
      </p:pic>
      <p:sp>
        <p:nvSpPr>
          <p:cNvPr id="151" name="WordArt 3"/>
          <p:cNvSpPr txBox="1"/>
          <p:nvPr/>
        </p:nvSpPr>
        <p:spPr>
          <a:xfrm>
            <a:off x="826920" y="2492280"/>
            <a:ext cx="7993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ок завершено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aHR0cDovL3d3dy50dm95cmViZW5vay5ydS9pbWFnZXMvcHJlc2VudGF0aW9uL25pY2UvYi8wOS5qcGc=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61308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рок на тем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 rot="907200">
            <a:off x="474480" y="2651040"/>
            <a:ext cx="722628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 Біологічні адаптивні ритми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i?id=e59be6f15d6e91686aeaab3fece8676b&amp;n=33&amp;h=190&amp;w=2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867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d60093"/>
                </a:solidFill>
                <a:uFillTx/>
                <a:latin typeface="Arial"/>
              </a:rPr>
              <a:t>Мета уроку 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8487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вивчити вплив біоритмів на життя і здоров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я люд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  </a:t>
            </a: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вчитися визначати індивідуальний хронобіологіч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ип і на основі нього планувати свій розпорядок </a:t>
            </a: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сформувати уявлення про «біологічні ритми», «біологічний годинник», « фотоперіодизм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img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499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0000ff"/>
                </a:solidFill>
                <a:uFillTx/>
                <a:latin typeface="Arial"/>
              </a:rPr>
              <a:t>План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Хронобіологія – наука про ритми живої приро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Біологічні ритми їх класифікаці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Характеристика ритмів ( добові, місячні, сезонні, річні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.Поняття про « біологічний годинник» і « фотоперіодиз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. Значення біоритмів для організ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6. Поради хронобіолог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light-rainbow-background-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416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ронобіологія 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ука про ритми живої природ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23640" y="3789000"/>
            <a:ext cx="676908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т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це повторення події через певні проміжки ча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новоположником хронобіології став французький вчений астроном де Меран у 1729 році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Miger_-_Dortous_de_Mairan"/>
          <p:cNvPicPr/>
          <p:nvPr/>
        </p:nvPicPr>
        <p:blipFill>
          <a:blip r:embed="rId2"/>
          <a:stretch/>
        </p:blipFill>
        <p:spPr>
          <a:xfrm>
            <a:off x="0" y="3716280"/>
            <a:ext cx="2124000" cy="27082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5" name="Picture 10" descr="4665"/>
          <p:cNvPicPr/>
          <p:nvPr/>
        </p:nvPicPr>
        <p:blipFill>
          <a:blip r:embed="rId3"/>
          <a:stretch/>
        </p:blipFill>
        <p:spPr>
          <a:xfrm>
            <a:off x="0" y="1484280"/>
            <a:ext cx="2771640" cy="20350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6" name="Picture 12" descr="vista-timpuri-noi-1280x1024"/>
          <p:cNvPicPr/>
          <p:nvPr/>
        </p:nvPicPr>
        <p:blipFill>
          <a:blip r:embed="rId4"/>
          <a:stretch/>
        </p:blipFill>
        <p:spPr>
          <a:xfrm>
            <a:off x="5724360" y="1484280"/>
            <a:ext cx="2711520" cy="2016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7" name="Picture 14" descr="otlivy-prilivy-potryasayuschie-eto-interesno-poznavatelno-kartinki_1074373039"/>
          <p:cNvPicPr/>
          <p:nvPr/>
        </p:nvPicPr>
        <p:blipFill>
          <a:blip r:embed="rId5"/>
          <a:stretch/>
        </p:blipFill>
        <p:spPr>
          <a:xfrm>
            <a:off x="2843280" y="1484280"/>
            <a:ext cx="2808360" cy="20160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img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d60093"/>
                </a:solidFill>
                <a:latin typeface="Arial"/>
              </a:rPr>
              <a:t>Біологічні ритм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- періодично повторювані зміни активності процесів життєдіяльності організм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Значення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авдяки біоритмам організм орієнтується в часі і готується до змін умов існування. Ця здатність передається спадково і притаманна практично всім живим організм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64000" y="692280"/>
            <a:ext cx="5122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Класифікація біоритмі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Ендогенні</a:t>
            </a: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 внутрішні) або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фізіологічні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мають періоди від часток секунди до декількох хвилин:  ритм дихання, серцебиття, травлення, виділення, синтез ДНК, РНК, робота ферментів, артеріальний тиск тощ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Екзогенні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 зовнішні) або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екологічні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пов'язані з природним ритмом навколишнього середовища: добові( основні),  сезонні ( річні), приливно-відливні ритми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1T09:22:41Z</dcterms:created>
  <dc:creator>Admin</dc:creator>
  <dc:description/>
  <dc:language>en-US</dc:language>
  <cp:lastModifiedBy>Admin</cp:lastModifiedBy>
  <dcterms:modified xsi:type="dcterms:W3CDTF">2018-09-19T16:59:55Z</dcterms:modified>
  <cp:revision>14</cp:revision>
  <dc:subject/>
  <dc:title>Слайд 1</dc:title>
</cp:coreProperties>
</file>