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0BA-C434-4B0F-BB33-1D9D364F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824-9B7E-4719-BB4E-FED7635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0AB-ACB0-4E90-80F1-514C001C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587-FEDF-4037-8CD9-0DD68101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6DA-2869-45D8-B9E8-ECF5962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D91-778A-4381-860C-8C3855F8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F06-1366-48D5-8864-13A22B86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E60-B3AB-4D17-825F-3F27855D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6D8-DB75-4445-8B11-C9DD0A5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4D1-5125-4CCE-B28F-0002E03C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004-814A-4634-BFA7-E2C13A0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227-A4DA-4032-8705-4AFB704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FCF2-D326-4581-9E1C-C20F953D0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42880" y="476280"/>
            <a:ext cx="81075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75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50920" y="1628640"/>
            <a:ext cx="8713800" cy="48960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- 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  пентан – 1 - ам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                             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ентан – 3 -  амін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317520" y="-244440"/>
            <a:ext cx="8697960" cy="236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50920" y="1700280"/>
            <a:ext cx="8713800" cy="49687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ервинні: С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ропіламі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торинні: С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H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етилметилам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Третинні: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                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триметилам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353880" y="1125360"/>
            <a:ext cx="8496360" cy="5472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. Метиламін,  диметиламін, триметиламін, етиламін – гази, добре розчинні у воді, з різким запахом амоні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. Середні аміни – рідини з неприємним  рибним запа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Вищі аміни – тверді нерозчинні речовини без запа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іж молекулами амінів утворюється водневий зв’язок, що підвищує їх температуру кипіння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95280" y="1197000"/>
            <a:ext cx="8353440" cy="5256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іни згоряють у кисні, утворюючи азот, вуглекислий газ і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заємодія з вод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 (Н – ОН) →  [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тиламоній гідрокс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змінюють забарвлення індикаторів; з катіонами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Fe(3+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утворюють бурий оса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заємодія з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N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 Н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Cl →  [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N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тиламін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метиламоній хлор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228600" y="1052640"/>
            <a:ext cx="8664480" cy="5616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28600" y="1052640"/>
            <a:ext cx="445140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4680000" y="1052640"/>
            <a:ext cx="421308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www.ua.all.biz/img/ua/catalog/751511.jpeg"/>
          <p:cNvPicPr/>
          <p:nvPr/>
        </p:nvPicPr>
        <p:blipFill>
          <a:blip r:embed="rId5"/>
          <a:stretch/>
        </p:blipFill>
        <p:spPr>
          <a:xfrm>
            <a:off x="304920" y="3844800"/>
            <a:ext cx="437508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6"/>
          <a:stretch/>
        </p:blipFill>
        <p:spPr>
          <a:xfrm>
            <a:off x="4680000" y="3860640"/>
            <a:ext cx="4213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77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60160" y="1844280"/>
            <a:ext cx="8188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560520" y="1844640"/>
            <a:ext cx="8188200" cy="46087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А,Є             2. 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.А                  4. Б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. В                  6. Г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. Г                  8. 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.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468360" y="1595520"/>
            <a:ext cx="8280360" cy="46800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рацювати §32, 3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иконати впр. 281,282 с. 235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пр.290 с.2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(письмо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92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000" y="191592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68360" y="1916280"/>
            <a:ext cx="8280360" cy="4537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амоніа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бензе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радикала ети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а радикала фені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s://im0-tub-ua.yandex.net/i?id=d58b7b1ce3b5177d30f8cee32ade0ee2-l&amp;n=13"/>
          <p:cNvPicPr/>
          <p:nvPr/>
        </p:nvPicPr>
        <p:blipFill>
          <a:blip r:embed="rId2"/>
          <a:stretch/>
        </p:blipFill>
        <p:spPr>
          <a:xfrm>
            <a:off x="4932360" y="26028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96840" y="3633840"/>
            <a:ext cx="4048200" cy="27604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4067280" y="3645000"/>
            <a:ext cx="2305080" cy="27367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1" lang="uk-UA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http://5fan.ru/files/1/5fan_ru_6291.html_files/0.png"/>
          <p:cNvPicPr/>
          <p:nvPr/>
        </p:nvPicPr>
        <p:blipFill>
          <a:blip r:embed="rId4"/>
          <a:stretch/>
        </p:blipFill>
        <p:spPr>
          <a:xfrm>
            <a:off x="6516720" y="4017960"/>
            <a:ext cx="24480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75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68360" y="1484280"/>
            <a:ext cx="3146400" cy="2521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Амі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3614760" y="1484280"/>
            <a:ext cx="4989600" cy="2521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Амінокислоти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68360" y="4005360"/>
            <a:ext cx="3146400" cy="2160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Білки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614760" y="4005360"/>
            <a:ext cx="4975200" cy="2143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Нуклеїнові кисло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395280" y="1125360"/>
            <a:ext cx="8497800" cy="53280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похідні амоніаку, що утворюються в результаті заміщення атомів Гідрогену на вуглеводневі радик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истич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група амінів -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c00000"/>
                </a:solidFill>
                <a:uFillTx/>
                <a:latin typeface="Times New Roman"/>
              </a:rPr>
              <a:t>-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Book Antiqua"/>
              </a:rPr>
              <a:t>N</a:t>
            </a:r>
            <a:r>
              <a:rPr b="1" lang="uk-UA" sz="4000" spc="-1" strike="noStrike" u="sng">
                <a:solidFill>
                  <a:srgbClr val="c00000"/>
                </a:solidFill>
                <a:uFillTx/>
                <a:latin typeface="Times New Roman"/>
              </a:rPr>
              <a:t>Н</a:t>
            </a:r>
            <a:r>
              <a:rPr b="1" lang="uk-UA" sz="4000" spc="-1" strike="noStrike" u="sng" baseline="-25000">
                <a:solidFill>
                  <a:srgbClr val="c00000"/>
                </a:solidFill>
                <a:uFillTx/>
                <a:latin typeface="Times New Roman"/>
              </a:rPr>
              <a:t>2</a:t>
            </a:r>
            <a:r>
              <a:rPr b="1" lang="uk-UA" sz="40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, аміногру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health.passion.ru/sites/passion.ru/files/content/images/s_article/34770/bodyimages/0528hea_4.jpg"/>
          <p:cNvPicPr/>
          <p:nvPr/>
        </p:nvPicPr>
        <p:blipFill>
          <a:blip r:embed="rId3"/>
          <a:stretch/>
        </p:blipFill>
        <p:spPr>
          <a:xfrm>
            <a:off x="4902120" y="3284640"/>
            <a:ext cx="3990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229600" cy="133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79280" y="1341360"/>
            <a:ext cx="4513320" cy="2735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H ─ N ─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NH</a:t>
            </a:r>
            <a:r>
              <a:rPr b="1" lang="en-US" sz="2800" spc="-1" strike="noStrike">
                <a:solidFill>
                  <a:srgbClr val="c00000"/>
                </a:solidFill>
                <a:latin typeface="Book Antiqu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амоні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716360" y="1341360"/>
            <a:ext cx="4319640" cy="2519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H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─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N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─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H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R – NH</a:t>
            </a:r>
            <a:r>
              <a:rPr b="1" lang="en-US" sz="3200" spc="-1" strike="noStrike">
                <a:solidFill>
                  <a:srgbClr val="c00000"/>
                </a:solidFill>
                <a:latin typeface="Book Antiq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ерви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179280" y="3841920"/>
            <a:ext cx="4513320" cy="27367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H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─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N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─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R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– N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тори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692600" y="3860640"/>
            <a:ext cx="4343400" cy="27370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─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N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─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R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R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 – 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ретинний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539640" y="1700280"/>
            <a:ext cx="4176720" cy="4608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Аліфатич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етиламін (етанамі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4788000" y="1700280"/>
            <a:ext cx="4032000" cy="4608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Ароматичн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феніламін (анілі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419640" y="2997360"/>
            <a:ext cx="45720" cy="4572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468360" y="1197000"/>
            <a:ext cx="8280360" cy="5256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азви амінів походять від назви вуглеводневого радикалу, що входить в молекулу, з додаванням закінчення –</a:t>
            </a:r>
            <a:r>
              <a:rPr b="1" i="1" lang="uk-UA" sz="4000" spc="-1" strike="noStrike" u="sng">
                <a:solidFill>
                  <a:srgbClr val="c00000"/>
                </a:solidFill>
                <a:uFillTx/>
                <a:latin typeface="Times New Roman"/>
              </a:rPr>
              <a:t>амін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uk-UA" sz="4000" spc="-1" strike="noStrike">
                <a:solidFill>
                  <a:srgbClr val="645773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Якщо радикалів кілька, то їх перелічують в алфавітному поряд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75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395280" y="1484280"/>
            <a:ext cx="8497800" cy="5040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утан – 1 - ам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 – метилпропан – 1 - ам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Юзер</cp:lastModifiedBy>
  <dcterms:modified xsi:type="dcterms:W3CDTF">2017-03-19T20:03:35Z</dcterms:modified>
  <cp:revision>5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