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907588" cy="6858000"/>
  <p:notesSz cx="4625975" cy="6815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4626000" cy="68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003400" cy="33984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2619000" y="0"/>
            <a:ext cx="2003400" cy="33984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468360" y="510840"/>
            <a:ext cx="3689280" cy="255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42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461520" y="3236760"/>
            <a:ext cx="3700440" cy="3065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6472080"/>
            <a:ext cx="2003400" cy="33984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2619000" y="6472080"/>
            <a:ext cx="2003400" cy="33984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ru-RU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3F663177-4539-4DA7-B341-8BDE271BC515}" type="slidenum">
              <a:rPr b="0" lang="ru-RU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2619360" y="6472080"/>
            <a:ext cx="20034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CB775357-9787-4C33-9813-92CDE7C482EB}" type="slidenum">
              <a:rPr b="0" lang="ru-RU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468360" y="511200"/>
            <a:ext cx="3689280" cy="25542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61520" y="3236760"/>
            <a:ext cx="3700440" cy="3065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ворча робота учн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2619360" y="6472080"/>
            <a:ext cx="20034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DC0433AE-E4A5-49FB-AAE6-430A7B0D269C}" type="slidenum">
              <a:rPr b="0" lang="ru-RU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468360" y="511200"/>
            <a:ext cx="3689280" cy="2554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61520" y="3236760"/>
            <a:ext cx="3700440" cy="3065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ириченко В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2619360" y="6472080"/>
            <a:ext cx="20034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51326954-6BAC-41B1-B59D-AC6F9262083D}" type="slidenum">
              <a:rPr b="0" lang="ru-RU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468360" y="511200"/>
            <a:ext cx="3689280" cy="2554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61520" y="3236760"/>
            <a:ext cx="3700440" cy="3065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ириченко В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F872B-C08B-46AA-9718-CBC8034D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3963600"/>
            <a:ext cx="891540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38B10-0F8E-4708-A3FB-02511038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396360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396360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88495-4E80-4BD0-BEBB-076DE794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396360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396360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396360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EB1BB-5C2A-4DA1-80C7-AD8CDED5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62B1-3FD5-49EB-B5C4-DE5BC968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5490-8907-401B-982D-BA831C6D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4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3F68-D3E6-473D-9689-90260A2E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4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4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771D-3712-4111-A802-B2ABE865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7F54-C450-4710-A424-A9CDBE45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95000" y="274680"/>
            <a:ext cx="89154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3F38-81F3-4B8B-9273-84E07F38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4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396360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4F45-C4B0-4716-8006-99F63795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CB641-646F-4015-BE3C-51024ECB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4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63400" y="396360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68E7-0C9C-4006-B1D4-9CCB379F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3963600"/>
            <a:ext cx="891540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7790-B245-4267-BD7D-A407063C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5000" y="3963600"/>
            <a:ext cx="891540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148D-4F98-4F60-B755-748BC504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5000" y="396360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63400" y="396360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62B8-C2DD-4EFA-BCDA-B7B0AD76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95000" y="396360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09640" y="396360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24280" y="396360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0C28-7554-4ED8-A597-16FA4D40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4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93EEB-3AB6-48EA-B2C8-4027C973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4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4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C0951-F92F-4527-BF91-2E72E8CB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AD7EE-A669-48B2-8341-964199AD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274680"/>
            <a:ext cx="89154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174B7-2E73-4E01-A401-522A797F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4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360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6B58D-8CA3-4F89-AF54-F6B82C0C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4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396360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93629-2C7F-4920-968E-0DAF22D5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3963600"/>
            <a:ext cx="8915400" cy="21578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0F9AA-B105-4DEA-BF5F-F809F6E2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95360" y="6249600"/>
            <a:ext cx="2311200" cy="477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1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38CE-CE59-4A8D-9189-F44D6F7AC6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899280" cy="6850080"/>
            <a:chOff x="0" y="0"/>
            <a:chExt cx="989928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970720" y="3540240"/>
              <a:ext cx="6923160" cy="3309840"/>
              <a:chOff x="2970720" y="3540240"/>
              <a:chExt cx="692316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970720" y="4197240"/>
                <a:ext cx="4959360" cy="2652840"/>
              </a:xfrm>
              <a:custGeom>
                <a:avLst/>
                <a:gdLst>
                  <a:gd name="textAreaLeft" fmla="*/ 0 w 4959360"/>
                  <a:gd name="textAreaRight" fmla="*/ 4959720 w 495936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e8e8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170120" y="4240080"/>
                <a:ext cx="2165040" cy="1287720"/>
              </a:xfrm>
              <a:custGeom>
                <a:avLst/>
                <a:gdLst>
                  <a:gd name="textAreaLeft" fmla="*/ 0 w 2165040"/>
                  <a:gd name="textAreaRight" fmla="*/ 2165400 w 216504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e8e8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86360" y="5311800"/>
                <a:ext cx="4898880" cy="1538280"/>
              </a:xfrm>
              <a:custGeom>
                <a:avLst/>
                <a:gdLst>
                  <a:gd name="textAreaLeft" fmla="*/ 0 w 4898880"/>
                  <a:gd name="textAreaRight" fmla="*/ 4899240 w 48988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7d"/>
                  </a:gs>
                  <a:gs pos="100000">
                    <a:srgbClr val="ff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724640" y="3540240"/>
                <a:ext cx="5169240" cy="3309840"/>
              </a:xfrm>
              <a:custGeom>
                <a:avLst/>
                <a:gdLst>
                  <a:gd name="textAreaLeft" fmla="*/ 0 w 5169240"/>
                  <a:gd name="textAreaRight" fmla="*/ 5169600 w 516924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739280" y="3678120"/>
                <a:ext cx="2145960" cy="855720"/>
              </a:xfrm>
              <a:custGeom>
                <a:avLst/>
                <a:gdLst>
                  <a:gd name="textAreaLeft" fmla="*/ 0 w 2145960"/>
                  <a:gd name="textAreaRight" fmla="*/ 2146320 w 214596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86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711400" y="2128680"/>
              <a:ext cx="3137760" cy="2440080"/>
            </a:xfrm>
            <a:custGeom>
              <a:avLst/>
              <a:gdLst>
                <a:gd name="textAreaLeft" fmla="*/ 0 w 3137760"/>
                <a:gd name="textAreaRight" fmla="*/ 3138120 w 313776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82"/>
                </a:gs>
                <a:gs pos="100000">
                  <a:srgbClr val="ffff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899280" cy="2819520"/>
            </a:xfrm>
            <a:custGeom>
              <a:avLst/>
              <a:gdLst>
                <a:gd name="textAreaLeft" fmla="*/ 0 w 9899280"/>
                <a:gd name="textAreaRight" fmla="*/ 9899640 w 989928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42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384360" y="624816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4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marL="328680" indent="-3286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14240" indent="-27468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098720" indent="-220680">
              <a:spcBef>
                <a:spcPts val="7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3" marL="1535040" indent="-2174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4" marL="1974960" indent="-21744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5" marL="1974960" indent="-21744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6" marL="1974960" indent="-21744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899280" cy="6850080"/>
            <a:chOff x="0" y="0"/>
            <a:chExt cx="989928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970720" y="3540240"/>
              <a:ext cx="6923160" cy="3309840"/>
              <a:chOff x="2970720" y="3540240"/>
              <a:chExt cx="692316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970720" y="4197240"/>
                <a:ext cx="4959360" cy="2652840"/>
              </a:xfrm>
              <a:custGeom>
                <a:avLst/>
                <a:gdLst>
                  <a:gd name="textAreaLeft" fmla="*/ 0 w 4959360"/>
                  <a:gd name="textAreaRight" fmla="*/ 4959720 w 495936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e8e8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170120" y="4240080"/>
                <a:ext cx="2165040" cy="1287720"/>
              </a:xfrm>
              <a:custGeom>
                <a:avLst/>
                <a:gdLst>
                  <a:gd name="textAreaLeft" fmla="*/ 0 w 2165040"/>
                  <a:gd name="textAreaRight" fmla="*/ 2165400 w 216504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e8e8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986360" y="5311800"/>
                <a:ext cx="4898880" cy="1538280"/>
              </a:xfrm>
              <a:custGeom>
                <a:avLst/>
                <a:gdLst>
                  <a:gd name="textAreaLeft" fmla="*/ 0 w 4898880"/>
                  <a:gd name="textAreaRight" fmla="*/ 4899240 w 48988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7d"/>
                  </a:gs>
                  <a:gs pos="100000">
                    <a:srgbClr val="ff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724640" y="3540240"/>
                <a:ext cx="5169240" cy="3309840"/>
              </a:xfrm>
              <a:custGeom>
                <a:avLst/>
                <a:gdLst>
                  <a:gd name="textAreaLeft" fmla="*/ 0 w 5169240"/>
                  <a:gd name="textAreaRight" fmla="*/ 5169600 w 516924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739280" y="3678120"/>
                <a:ext cx="2145960" cy="855720"/>
              </a:xfrm>
              <a:custGeom>
                <a:avLst/>
                <a:gdLst>
                  <a:gd name="textAreaLeft" fmla="*/ 0 w 2145960"/>
                  <a:gd name="textAreaRight" fmla="*/ 2146320 w 214596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86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711400" y="2128680"/>
              <a:ext cx="3137760" cy="2440080"/>
            </a:xfrm>
            <a:custGeom>
              <a:avLst/>
              <a:gdLst>
                <a:gd name="textAreaLeft" fmla="*/ 0 w 3137760"/>
                <a:gd name="textAreaRight" fmla="*/ 3138120 w 313776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82"/>
                </a:gs>
                <a:gs pos="100000">
                  <a:srgbClr val="ffff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899280" cy="2819520"/>
            </a:xfrm>
            <a:custGeom>
              <a:avLst/>
              <a:gdLst>
                <a:gd name="textAreaLeft" fmla="*/ 0 w 9899280"/>
                <a:gd name="textAreaRight" fmla="*/ 9899640 w 989928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42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4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marL="328680" indent="-3286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14240" indent="-27468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098720" indent="-220680">
              <a:spcBef>
                <a:spcPts val="7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3" marL="1535040" indent="-2174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4" marL="1974960" indent="-21744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5" marL="1974960" indent="-21744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6" marL="1974960" indent="-21744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95360" y="624816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384360" y="6249600"/>
            <a:ext cx="3136680" cy="477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098840" y="625428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DF18-C9B8-43F8-BDB6-8CF92683DF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747720" y="2106720"/>
            <a:ext cx="204624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uk-UA" sz="9600" spc="-1" strike="noStrike">
                <a:solidFill>
                  <a:srgbClr val="cc0066"/>
                </a:solidFill>
                <a:latin typeface="Arial"/>
              </a:rPr>
              <a:t>Я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3120" y="3505320"/>
            <a:ext cx="5261040" cy="31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uk-UA" sz="10000" spc="-1" strike="noStrike">
                <a:solidFill>
                  <a:srgbClr val="cc0066"/>
                </a:solidFill>
                <a:latin typeface="Arial"/>
              </a:rPr>
              <a:t>маю </a:t>
            </a:r>
            <a:endParaRPr b="0" lang="en-US" sz="10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uk-UA" sz="10000" spc="-1" strike="noStrike">
                <a:solidFill>
                  <a:srgbClr val="cc0066"/>
                </a:solidFill>
                <a:latin typeface="Arial"/>
              </a:rPr>
              <a:t>право…</a:t>
            </a:r>
            <a:endParaRPr b="0" lang="en-US" sz="10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9" descr="Картинки по запросу"/>
          <p:cNvPicPr/>
          <p:nvPr/>
        </p:nvPicPr>
        <p:blipFill>
          <a:blip r:embed="rId1"/>
          <a:stretch/>
        </p:blipFill>
        <p:spPr>
          <a:xfrm>
            <a:off x="3943440" y="0"/>
            <a:ext cx="5967360" cy="4089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16560" y="69840"/>
            <a:ext cx="40068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uk-UA" sz="4200" spc="-1" strike="noStrike">
                <a:solidFill>
                  <a:srgbClr val="161616"/>
                </a:solidFill>
                <a:latin typeface="Arial"/>
              </a:rPr>
              <a:t>Принципи 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uk-UA" sz="4200" spc="-1" strike="noStrike">
                <a:solidFill>
                  <a:srgbClr val="161616"/>
                </a:solidFill>
                <a:latin typeface="Arial"/>
              </a:rPr>
              <a:t>Конвенції про 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uk-UA" sz="4200" spc="-1" strike="noStrike">
                <a:solidFill>
                  <a:srgbClr val="161616"/>
                </a:solidFill>
                <a:latin typeface="Arial"/>
              </a:rPr>
              <a:t>права дитини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5028840"/>
            <a:ext cx="9461520" cy="1141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Діти мають право на свободу думки і бути почутими</a:t>
            </a:r>
            <a:endParaRPr b="1" lang="en-US" sz="3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7" descr="Картинки по запросу"/>
          <p:cNvPicPr/>
          <p:nvPr/>
        </p:nvPicPr>
        <p:blipFill>
          <a:blip r:embed="rId1"/>
          <a:stretch/>
        </p:blipFill>
        <p:spPr>
          <a:xfrm>
            <a:off x="1600200" y="304920"/>
            <a:ext cx="6761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4647960"/>
            <a:ext cx="662292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Діти мають право на самовираження та інформацію</a:t>
            </a:r>
            <a:r>
              <a:rPr b="0" i="1" lang="uk-UA" sz="39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Picture 9" descr="Картинки по запросу"/>
          <p:cNvPicPr/>
          <p:nvPr/>
        </p:nvPicPr>
        <p:blipFill>
          <a:blip r:embed="rId1"/>
          <a:stretch/>
        </p:blipFill>
        <p:spPr>
          <a:xfrm>
            <a:off x="2209680" y="685800"/>
            <a:ext cx="53150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4114440"/>
            <a:ext cx="7964640" cy="1141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Жодна дитина</a:t>
            </a:r>
            <a:br>
              <a:rPr sz="3900"/>
            </a:b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не повинна підлягати</a:t>
            </a:r>
            <a:br>
              <a:rPr sz="3900"/>
            </a:b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будь-якій формі </a:t>
            </a:r>
            <a:br>
              <a:rPr sz="3900"/>
            </a:b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експлуатації</a:t>
            </a:r>
            <a:endParaRPr b="1" lang="en-US" sz="3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Picture 8" descr="Картинки по запросу"/>
          <p:cNvPicPr/>
          <p:nvPr/>
        </p:nvPicPr>
        <p:blipFill>
          <a:blip r:embed="rId1"/>
          <a:stretch/>
        </p:blipFill>
        <p:spPr>
          <a:xfrm>
            <a:off x="1386000" y="457200"/>
            <a:ext cx="3886200" cy="291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Картинки по запросу"/>
          <p:cNvPicPr/>
          <p:nvPr/>
        </p:nvPicPr>
        <p:blipFill>
          <a:blip r:embed="rId2"/>
          <a:stretch/>
        </p:blipFill>
        <p:spPr>
          <a:xfrm>
            <a:off x="5638680" y="3581280"/>
            <a:ext cx="405468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91320" cy="15289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Жодна дитина</a:t>
            </a:r>
            <a:br>
              <a:rPr sz="3900"/>
            </a:b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не повинна бути</a:t>
            </a:r>
            <a:br>
              <a:rPr sz="3900"/>
            </a:b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скривджена і зневажена</a:t>
            </a:r>
            <a:endParaRPr b="1" lang="en-US" sz="3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Picture 11" descr="Картинки по запросу"/>
          <p:cNvPicPr/>
          <p:nvPr/>
        </p:nvPicPr>
        <p:blipFill>
          <a:blip r:embed="rId1"/>
          <a:stretch/>
        </p:blipFill>
        <p:spPr>
          <a:xfrm>
            <a:off x="3733920" y="2666880"/>
            <a:ext cx="4421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1848960"/>
            <a:ext cx="4297320" cy="3311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Жодна </a:t>
            </a:r>
            <a:br>
              <a:rPr sz="3900"/>
            </a:b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дитина</a:t>
            </a:r>
            <a:br>
              <a:rPr sz="3900"/>
            </a:b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не повинна </a:t>
            </a:r>
            <a:br>
              <a:rPr sz="3900"/>
            </a:b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бути</a:t>
            </a:r>
            <a:br>
              <a:rPr sz="3900"/>
            </a:b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жертвою </a:t>
            </a:r>
            <a:br>
              <a:rPr sz="3900"/>
            </a:b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насильства</a:t>
            </a:r>
            <a:br>
              <a:rPr sz="3900"/>
            </a:b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або війни</a:t>
            </a:r>
            <a:endParaRPr b="1" lang="en-US" sz="3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Picture 10" descr="Картинки по запросу"/>
          <p:cNvPicPr/>
          <p:nvPr/>
        </p:nvPicPr>
        <p:blipFill>
          <a:blip r:embed="rId1"/>
          <a:stretch/>
        </p:blipFill>
        <p:spPr>
          <a:xfrm>
            <a:off x="4260960" y="338040"/>
            <a:ext cx="4952880" cy="2786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Картинки по запросу"/>
          <p:cNvPicPr/>
          <p:nvPr/>
        </p:nvPicPr>
        <p:blipFill>
          <a:blip r:embed="rId2"/>
          <a:stretch/>
        </p:blipFill>
        <p:spPr>
          <a:xfrm>
            <a:off x="4484520" y="3505320"/>
            <a:ext cx="4507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4571640"/>
            <a:ext cx="8491680" cy="15289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Діти-інваліди мають право на особисте піклування, на освіту та гідне і повноцінне життя</a:t>
            </a:r>
            <a:endParaRPr b="1" lang="en-US" sz="3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Picture 8" descr="Картинки по запросу"/>
          <p:cNvPicPr/>
          <p:nvPr/>
        </p:nvPicPr>
        <p:blipFill>
          <a:blip r:embed="rId1"/>
          <a:stretch/>
        </p:blipFill>
        <p:spPr>
          <a:xfrm>
            <a:off x="2251080" y="304920"/>
            <a:ext cx="547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4723920"/>
            <a:ext cx="8491680" cy="15289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Діти, що перебувають в ув'язненні, мають право на піклування з боку держави</a:t>
            </a:r>
            <a:endParaRPr b="1" lang="en-US" sz="3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4" name="Picture 8" descr="Картинки по запросу"/>
          <p:cNvPicPr/>
          <p:nvPr/>
        </p:nvPicPr>
        <p:blipFill>
          <a:blip r:embed="rId1"/>
          <a:stretch/>
        </p:blipFill>
        <p:spPr>
          <a:xfrm>
            <a:off x="2743200" y="7621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30400" y="2876400"/>
            <a:ext cx="8213760" cy="3732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i="1" lang="ru-RU" sz="3600" spc="-1" strike="noStrike">
                <a:solidFill>
                  <a:srgbClr val="ff3300"/>
                </a:solidFill>
                <a:latin typeface="Arial"/>
              </a:rPr>
              <a:t>Дитиною визнається кожна людська істота до досягнення нею 18-річного віку, якщо за законом, застосовуваним до такої дитини, вона не досягає повноліття раніше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Picture 4" descr="молодь 2"/>
          <p:cNvPicPr/>
          <p:nvPr/>
        </p:nvPicPr>
        <p:blipFill>
          <a:blip r:embed="rId1"/>
          <a:stretch/>
        </p:blipFill>
        <p:spPr>
          <a:xfrm>
            <a:off x="2743200" y="304920"/>
            <a:ext cx="428292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4160" y="5105520"/>
            <a:ext cx="9461520" cy="1141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Кожна дитина має невід</a:t>
            </a:r>
            <a:r>
              <a:rPr b="0" i="1" lang="en-US" sz="39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ємне право на життя</a:t>
            </a:r>
            <a:endParaRPr b="1" lang="en-US" sz="3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7" descr="Картинки по запросу"/>
          <p:cNvPicPr/>
          <p:nvPr/>
        </p:nvPicPr>
        <p:blipFill>
          <a:blip r:embed="rId1"/>
          <a:stretch/>
        </p:blipFill>
        <p:spPr>
          <a:xfrm>
            <a:off x="1295280" y="304920"/>
            <a:ext cx="69836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4600" y="3457080"/>
            <a:ext cx="608328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Всі діти </a:t>
            </a:r>
            <a:br>
              <a:rPr sz="3900"/>
            </a:b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мають право</a:t>
            </a:r>
            <a:br>
              <a:rPr sz="3900"/>
            </a:b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на любов</a:t>
            </a:r>
            <a:br>
              <a:rPr sz="3900"/>
            </a:b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та піклування</a:t>
            </a:r>
            <a:endParaRPr b="1" lang="en-US" sz="3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Picture 8" descr="Картинки по запросу"/>
          <p:cNvPicPr/>
          <p:nvPr/>
        </p:nvPicPr>
        <p:blipFill>
          <a:blip r:embed="rId1"/>
          <a:stretch/>
        </p:blipFill>
        <p:spPr>
          <a:xfrm>
            <a:off x="4267080" y="1752480"/>
            <a:ext cx="5240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09680" y="4800240"/>
            <a:ext cx="608328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Всі діти без винятку повинні перебувати під захистом держави</a:t>
            </a:r>
            <a:endParaRPr b="1" lang="en-US" sz="3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7" descr="Картинки по запросу"/>
          <p:cNvPicPr/>
          <p:nvPr/>
        </p:nvPicPr>
        <p:blipFill>
          <a:blip r:embed="rId1"/>
          <a:stretch/>
        </p:blipFill>
        <p:spPr>
          <a:xfrm>
            <a:off x="2209680" y="762120"/>
            <a:ext cx="5334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5181120"/>
            <a:ext cx="9461520" cy="1141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Діти мають право на свободу релігії</a:t>
            </a:r>
            <a:endParaRPr b="1" lang="en-US" sz="3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Picture 7" descr="Картинки по запросу"/>
          <p:cNvPicPr/>
          <p:nvPr/>
        </p:nvPicPr>
        <p:blipFill>
          <a:blip r:embed="rId1"/>
          <a:stretch/>
        </p:blipFill>
        <p:spPr>
          <a:xfrm>
            <a:off x="838080" y="83808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800240"/>
            <a:ext cx="5346720" cy="1141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Всі діти </a:t>
            </a:r>
            <a:br>
              <a:rPr sz="3900"/>
            </a:b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мають право</a:t>
            </a:r>
            <a:br>
              <a:rPr sz="3900"/>
            </a:b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на навчання</a:t>
            </a:r>
            <a:endParaRPr b="1" lang="en-US" sz="3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7" descr="Картинки по запросу"/>
          <p:cNvPicPr/>
          <p:nvPr/>
        </p:nvPicPr>
        <p:blipFill>
          <a:blip r:embed="rId1"/>
          <a:stretch/>
        </p:blipFill>
        <p:spPr>
          <a:xfrm>
            <a:off x="685800" y="45720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Картинки по запросу"/>
          <p:cNvPicPr/>
          <p:nvPr/>
        </p:nvPicPr>
        <p:blipFill>
          <a:blip r:embed="rId2"/>
          <a:stretch/>
        </p:blipFill>
        <p:spPr>
          <a:xfrm>
            <a:off x="5715000" y="1447920"/>
            <a:ext cx="30290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560" y="1952280"/>
            <a:ext cx="8594640" cy="26478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Діти мають право</a:t>
            </a:r>
            <a:br>
              <a:rPr sz="3900"/>
            </a:b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на </a:t>
            </a:r>
            <a:r>
              <a:rPr b="0" i="1" lang="uk-UA" sz="3900" spc="-1" strike="noStrike" u="sng">
                <a:solidFill>
                  <a:srgbClr val="ff3300"/>
                </a:solidFill>
                <a:uFillTx/>
                <a:latin typeface="Arial"/>
              </a:rPr>
              <a:t>захист </a:t>
            </a: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від вживання</a:t>
            </a:r>
            <a:br>
              <a:rPr sz="3900"/>
            </a:b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наркотичних,</a:t>
            </a:r>
            <a:br>
              <a:rPr sz="3900"/>
            </a:b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психотропних</a:t>
            </a:r>
            <a:br>
              <a:rPr sz="3900"/>
            </a:b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засобів та алкоголю</a:t>
            </a:r>
            <a:endParaRPr b="1" lang="en-US" sz="3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7" descr="Картинки по запросу"/>
          <p:cNvPicPr/>
          <p:nvPr/>
        </p:nvPicPr>
        <p:blipFill>
          <a:blip r:embed="rId1"/>
          <a:stretch/>
        </p:blipFill>
        <p:spPr>
          <a:xfrm>
            <a:off x="6172200" y="3200400"/>
            <a:ext cx="314316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3809880"/>
            <a:ext cx="5344920" cy="20383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Всі діти </a:t>
            </a:r>
            <a:br>
              <a:rPr sz="3900"/>
            </a:b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мають право</a:t>
            </a:r>
            <a:br>
              <a:rPr sz="3900"/>
            </a:b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на належне</a:t>
            </a:r>
            <a:br>
              <a:rPr sz="3900"/>
            </a:b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і здорове</a:t>
            </a:r>
            <a:br>
              <a:rPr sz="3900"/>
            </a:br>
            <a:r>
              <a:rPr b="0" i="1" lang="uk-UA" sz="3900" spc="-1" strike="noStrike">
                <a:solidFill>
                  <a:srgbClr val="ff3300"/>
                </a:solidFill>
                <a:latin typeface="Arial"/>
              </a:rPr>
              <a:t>харчування</a:t>
            </a:r>
            <a:endParaRPr b="1" lang="en-US" sz="3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Picture 7" descr="Картинки по запросу"/>
          <p:cNvPicPr/>
          <p:nvPr/>
        </p:nvPicPr>
        <p:blipFill>
          <a:blip r:embed="rId1"/>
          <a:stretch/>
        </p:blipFill>
        <p:spPr>
          <a:xfrm>
            <a:off x="1981080" y="380880"/>
            <a:ext cx="3649680" cy="2743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Картинки по запросу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troYULYA</dc:creator>
  <dc:description/>
  <dc:language>en-US</dc:language>
  <cp:lastModifiedBy>User</cp:lastModifiedBy>
  <dcterms:modified xsi:type="dcterms:W3CDTF">2018-04-22T14:55:30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