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94BF-7335-422E-B6CF-36E50BC6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9F1-EBD6-4264-B182-3E8CCD31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C3906-FD9C-4BDF-8AD7-2CFAEDD0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D46EB-EC8A-4A45-9F9D-750FD392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3A0BB-2DE2-47DB-AA98-327E9859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E16C2-A79C-4315-AC24-EEE0FB92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B29FF-FDCF-4E43-9ACD-F4B90091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741CE-E76A-4F3F-B89A-CF80171B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E9E57-3147-4749-9312-726EB080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CFF63-D3A0-4090-9EC5-E16E5971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EF61B-EB28-4060-AB09-4C635495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54E7A-F437-4DE9-B8EE-A1D2C6EE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5A8-8281-482E-83CA-0F79BD08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96CE9-F3FF-45C4-B3D3-269C1554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ADDEA-BC46-4F09-9542-2AEE49DF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2EE15-21C4-4AC6-95BB-FE3FBAC8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545B4-A0C2-484D-9062-70434A54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5AE9B-9FE8-4391-BB4F-CDDCE6E1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EC621-669A-490E-B6F4-C7DC0C64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38973-C522-4EB1-BECB-EB505B8D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9ABC9-F48B-4F71-833A-DB78488D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90BFF-C9E5-48D1-93E7-7A596BED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01013-FD60-4536-90F3-AE75AE7F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228-636A-41F0-B0EE-527EED8E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143E1-5FD7-4B61-83A4-9D7A4DDD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4EEF9-60AB-40CB-A1B3-AA4F2B5B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24CC4-BCB4-41A8-B801-51DDC53D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086F2-54AA-4846-A8FC-56350C0B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7B5A0-94F5-44E6-9152-CF15773A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95530-594F-4086-BE19-A49105B6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38561-4847-4761-B569-7A18F6F6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A0695-BB82-4965-B3A3-1A5E0303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68E23-0D55-4525-B6D8-F4B85CA6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E9B24-B96F-4711-859D-0194EEF0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76B6-616B-4795-8884-2045D138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6C3D3-0D6D-48C9-81E6-2F11CF39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51375-5EDF-43BC-A8A2-231BD6BE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6A487-08C3-4D1E-99BD-4BED823B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453FE-1DD0-4527-B6E9-76B13960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8051F-6450-4930-8292-BA5ACDA5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6D64D-FF23-48BD-B5D8-27F5F4DB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59C2A-0C60-4098-A0EE-B0D6838C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957C4-2757-4CF8-8A5A-7CFFF2A5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B57E4-FAFA-416A-BA4C-BFC0FDD2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6A04F-8F7B-47C9-8596-D986456D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2831-29B6-40DF-967A-FCFC0283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D1860-A4FF-4792-ACA1-B12C7295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3F60B-BBC2-41F4-A7FD-5FD88036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29999-7D3C-4F1D-88BE-EAFB719F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6BE91-A5BD-4DDA-B404-14E22CF6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C5FEB-8DE9-4B31-90AA-C1040594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6AC84F-FC60-4991-91C7-D04CC822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947E3-5016-458C-8135-D2D38B33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12C8B-F935-4C2E-9E27-5B79EF4F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8946F6-00D5-4EAF-A2C7-D54ACD70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EC05C-AEC6-45A9-A652-C2ED63A1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0E53-A025-4416-858A-D4700A72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9CB77B-CE9F-4FC2-B6A3-AE832609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34BC44-87AE-4C5A-8F9E-4F39F4A9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ACED26-EC19-44E7-ADFE-094FC544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76EDF-780F-4589-9567-70C0621A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95C6F-E0F6-4064-873B-E03A8235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BCFA8-0E0D-44F9-BE28-583C4AF2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1AE580-4F94-4327-BB37-5F3B5F44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6699BD-230C-4060-9AF0-A186CC79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BCB539-7EF2-4A3D-842E-A7D32521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E9BC45-D27D-4BC5-8B71-75D200F1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A667-6CF2-4205-A691-F02A4D78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E8C0F8-CD52-4796-B7B1-4A853662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BA4A6F-C9B6-466C-A195-D70D5242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D685E2-4308-4A87-A673-6546AB88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450DFC-2C56-4275-9B91-BA232FC8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63AFAC-EEC8-44FD-9996-441BDD7F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7FEA7D-6ACD-417E-B7DC-8FCE2173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87A379-BD0D-461C-B9B5-3ED2260F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0BF95F-EB8E-4E55-B317-113A57F6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4A220D-D8B7-4709-9C76-BC866029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52F508-926E-49ED-A9ED-E1F8750D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E27F-ED42-4C46-A51F-FD1F99E3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555B9C-6276-4ADF-94EC-ED5977B9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BA06FD-76A5-472D-9E20-CE9982F4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B3A0A0-1E26-442D-921C-E0B9778E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F853F6-EDD9-4CD2-9DA2-734AA8FC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7FB641-78AD-48A9-82E7-D0DDD5F7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B8D764-6638-416B-823B-0C9A116B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A5D684-6582-45A1-9199-37A212A3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ED5667-73AF-4657-BDD6-B57FEBBB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14EE29-1D7D-483C-A522-8B37D583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744C32-0DBB-461B-8FF8-B813A7E6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A482-C338-43B9-9C9F-BF00F257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28D3D1-5931-46B2-BB6C-167DCFAF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7D19715-C57B-474C-9B5B-56D77E56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57E9617-8650-4B21-A790-84DB896B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5107A78-B581-4873-895B-26B4908C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C85EC26-065C-4425-B7B3-585CEF35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D566B9B-A626-4105-A34C-5FAC4F08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6134A95-9F11-4C28-8E66-E03F5686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E871B5A-BAEE-4024-B553-EAAC4B27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6BC606-D6FA-4D28-9688-EAB16C7B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5249279-AF28-4F8C-84CF-E1F6B7DC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CC0A-3392-4514-BC92-AD0E50BC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483815-4FEE-4BEB-8D4F-857C18E3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8A8AD9F-D552-4EE5-9484-9A189D32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6E6786-E58F-417F-AC58-8B7D5DA7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6E1A48-AED6-4A38-B6A3-23D000DD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C52824-B23B-4FC7-8E84-8264D967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AC0E8D-8998-4BAC-8924-4E27B577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B59380-1EBA-43F7-B1D7-FF7B9A8A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883277-1759-446D-AD03-86350931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8FE43-DCFD-4BB9-9359-C4310D16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7D510B-26F6-42FB-9251-DB206D63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DCF-6E73-4B87-BBA0-2B2CE9C7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8F7B-0A74-41D4-916A-2EB20BBA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E92E8F-0B1A-4A83-BC7A-95C7032B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D0894E-DA68-4735-AFF3-970C1C70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9F0410-2339-44C8-B161-7CF9F851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19075B-645B-4EC3-B69C-C787376F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5AFA35-314F-49A7-830D-8A0A4DDA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AB0C22-9F27-4913-BE36-D1F4A47C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43F750-FCCB-4291-B56F-B44AD197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8833C0-C64B-47C3-8253-8A0B1C06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FFF0AD-76A3-4B0A-9E45-A571978C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E1E1A5-29F1-4FD9-BEEE-F3922BA8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9AC5-923E-4501-8026-7CFB7E32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D6C0BC-16AF-4695-A232-D0EE3ACE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3D77C5-BB1F-40C3-A15D-D9B6E6F1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2FD331-D2D8-4AF0-B03A-91B2C0F4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DD514F-9E5B-4858-B477-C36E21BC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D4F5B8-2436-4C11-AF1E-376F5E76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26D918-2129-4D77-AE8C-1A596FDC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456909-4A20-4DA6-B471-FD7422FB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CEA5D1-79BF-43D5-95FF-1D6FECC4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0158AD-BC58-4699-83D7-AB6AF70E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6FE36E-A43A-42A0-B366-24A26768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8260-5D67-4771-AFBC-9B7FB324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7ACEF1-7179-4386-B6C9-9755BC40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A94FD4-009F-4802-A80A-203A0203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02FCFC-A593-4F7F-89D6-CDE960FA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6F0F21-20D4-453A-B84A-C3D7B69C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DDBA20-B589-4785-A724-45A4938F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637649-6783-46DC-8252-9E8A2921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2AC664-B82F-43FB-8E3B-AF10C092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A03FDF-DB79-4CB6-88C5-8ED7EB38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2EB8F6-037D-414E-8483-6DE7C289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2C2024-C84E-432D-81A6-10041986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CE27-1B38-4E7E-9112-D4DE85E0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1D6201-D4B2-4DE1-8BE1-15AFE79D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770400-7EF2-47EF-9AEB-F87BAA77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555A20-F07F-4ECE-B9DA-6D0695E7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541663-8620-4EF1-984E-48886D19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A37D4A-DEB6-4F59-B5CC-1205F707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C87CA9-BAC7-402E-9193-C4A72AA8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4273A6-2281-4819-82C2-7444ACD6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165C96-612C-44DE-BD2F-CFB7CE75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289F30-D8FA-47E2-809A-106804B0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1C95D4-102C-485E-BA84-90B02D77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95F0-5EEE-4F5E-8FBF-10DBC37B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F9D982-212F-4DE2-8EA0-48F7D025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D50E-0FFF-4829-AB9A-E6E38552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6932B-3F0D-406B-BF79-2C61EC44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AF6BB-F40C-456F-BB67-5DEB8311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75577-E7EE-4BA4-9BD6-ACC16AE6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AC6CB-0AEB-47C3-83F0-A5DA849B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DC77-0193-4958-A229-893F4C10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19581-56A1-431E-9D3D-19B800B5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E996A-6EED-44EA-BEA7-52775E52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A99AD-9661-4C98-A0D2-6B919ECE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13BE3-F6E9-4FBE-B9B1-1B38227C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AE4D5-1021-43D8-87BB-76C8A7EF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8A067-7AF3-4544-A68D-D9F14BCE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D4637-6523-4D81-B640-2E977FF9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446E0-09F8-4992-8FA4-06E3F3A7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C8BF0-E651-4547-8954-F8A5C420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7B269-436C-4716-B17C-2D33105C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3B3D-D727-4963-AB55-289F3F8D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96CB0-5AF1-47A0-9EA7-22B43FA7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E5352-3786-473B-9EEE-162E8E4A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6511A-6BB4-451D-8E0D-F9894669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09910-BE2B-40B2-8FBF-A10F06D9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5C2DF-8CDC-4E02-86E2-ECE088DC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3CB73-8054-41F6-8FEF-152A47FC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70DA6-1966-49FD-84F0-17259B81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EBF74-9D61-4BA1-823B-2F334B6F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D5ADE-D544-4627-B468-506BF8C0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326CF-8C8E-47D7-89B8-92F8FB3B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FC2-E5BA-4FE8-86D2-7A85F373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EA755-3AF5-467D-8E69-73487F79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7F711-DAD1-4FDB-B71B-BED133CF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DA66C-8ECD-43CC-A0A1-D800EB8E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81EF1-8D65-481F-8591-3DC78ECD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4A3CC-3CD5-47F7-88CA-3F1673F8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D1DA7-DC78-4F63-B147-D129B27F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F98B4-161A-4B49-986F-9CDADA3E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2964F-2266-46BB-9E91-018264EE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9A126-F026-4E6B-9543-1B92E7B6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C830F-C9C2-4352-A523-D36BDD9F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3AB-1CDF-4EEE-B42C-7DFC51BB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D9937-2CA5-4A61-B30C-52025FCE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D585E-7280-411E-A3D7-8CA071AD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9B4F2-A8AC-43EB-934A-B42B5A21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952CB-B1CC-43DA-9B32-AAC614C1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2FA24-32EC-4ED1-BA0D-A12E9EA3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506FB-DAA8-4AD0-BF58-8A474054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2719F-B4F3-42A6-A339-58929353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B38BD-B7FB-4FE2-8B9C-906BEAC5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B0F22-7B9B-46CA-8368-B5EDB53F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344A0-D7B9-4EB0-9403-B264FEB7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CC4C-99C3-4678-9617-1FBED5A2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08C47-7C1A-433E-8BFF-BAF1D7D3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E0A94-3EA0-4D24-A902-2E64315A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FEC33-F788-43AB-A950-1A0F9F53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79700-5FB0-4D7C-A079-E9234E9F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77C36-3914-42ED-A9AC-1DB65C9C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47101-00CF-45C2-9D72-4201C74D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74F41-3DFD-45DF-B98C-9BDBECEB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FA056-C607-498D-9817-8FE944DC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7991C-9E2E-4EA1-B7F5-2BB09527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14248-FA1B-45C7-9067-CB2B33B2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9C61-C3EE-4EA3-B396-D9052B04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11646-5EB2-406E-A07D-1C7625F0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94187-2C9B-4B47-85AD-C1A94A57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C7A4D-78EB-41A5-8BD9-B1BA4981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4C8B3-0E98-40A2-B552-8773366A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D3904-6F0A-4267-91EB-1D830D08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4D0A5-5693-477A-9219-563B1678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0EB5D-F15F-4AEF-BA68-0852B97E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3F13E-966F-420F-9CD6-089207D5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AE801-C486-4253-B646-47CBCEF3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4B8DD-7457-4F6B-80AF-1B2AB0CF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0FA-898A-45E2-8ED7-0AA3889E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BCBBA-4F06-4E3A-B9F3-C8C7EDE0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79879-E8AF-4DC1-9E06-6E0A020E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5E9C0-7409-4D25-B764-E3BC7171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157B8-A420-4E6F-9F3B-8FBBCE01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931A7-5105-4C6A-8271-EC177E5D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E82C6-C904-47BD-AF6E-41AA8AEE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95EA8-6D85-4716-9AE6-88B0DB5A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38166-4084-4935-B5E4-5DBBC5B7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71467-DA5D-430F-8365-81C498E5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E9BA7-F96B-4544-8337-4B921999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157.xml"/><Relationship Id="rId35" Type="http://schemas.openxmlformats.org/officeDocument/2006/relationships/slideLayout" Target="../slideLayouts/slideLayout158.xml"/><Relationship Id="rId36" Type="http://schemas.openxmlformats.org/officeDocument/2006/relationships/slideLayout" Target="../slideLayouts/slideLayout159.xml"/><Relationship Id="rId37" Type="http://schemas.openxmlformats.org/officeDocument/2006/relationships/slideLayout" Target="../slideLayouts/slideLayout160.xml"/><Relationship Id="rId38" Type="http://schemas.openxmlformats.org/officeDocument/2006/relationships/slideLayout" Target="../slideLayouts/slideLayout161.xml"/><Relationship Id="rId39" Type="http://schemas.openxmlformats.org/officeDocument/2006/relationships/slideLayout" Target="../slideLayouts/slideLayout162.xml"/><Relationship Id="rId40" Type="http://schemas.openxmlformats.org/officeDocument/2006/relationships/slideLayout" Target="../slideLayouts/slideLayout163.xml"/><Relationship Id="rId41" Type="http://schemas.openxmlformats.org/officeDocument/2006/relationships/slideLayout" Target="../slideLayouts/slideLayout164.xml"/><Relationship Id="rId42" Type="http://schemas.openxmlformats.org/officeDocument/2006/relationships/slideLayout" Target="../slideLayouts/slideLayout165.xml"/><Relationship Id="rId43" Type="http://schemas.openxmlformats.org/officeDocument/2006/relationships/slideLayout" Target="../slideLayouts/slideLayout166.xml"/><Relationship Id="rId44" Type="http://schemas.openxmlformats.org/officeDocument/2006/relationships/slideLayout" Target="../slideLayouts/slideLayout167.xml"/><Relationship Id="rId4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CBE1-104C-45B4-9813-D5F09FD861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6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8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8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5FCB-3DBC-460E-BED3-567E889188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4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5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5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6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7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7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8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3E6E-1C36-46CE-9DFB-5DAC2377ADF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2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1C5C-8BED-4BC3-A5D2-25EEE99EBA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7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7B77-907D-470D-BF08-2DC27C4E8A1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3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3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3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3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3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39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840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84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42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43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44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45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46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pic>
              <p:nvPicPr>
                <p:cNvPr id="84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5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5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7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2DB3-7B61-4C60-9B6B-1FD82836EBB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4"/>
    <p:sldLayoutId id="2147483819" r:id="rId35"/>
    <p:sldLayoutId id="2147483820" r:id="rId36"/>
    <p:sldLayoutId id="2147483821" r:id="rId37"/>
    <p:sldLayoutId id="2147483822" r:id="rId38"/>
    <p:sldLayoutId id="2147483823" r:id="rId39"/>
    <p:sldLayoutId id="2147483824" r:id="rId40"/>
    <p:sldLayoutId id="2147483825" r:id="rId41"/>
    <p:sldLayoutId id="2147483826" r:id="rId42"/>
    <p:sldLayoutId id="2147483827" r:id="rId43"/>
    <p:sldLayoutId id="2147483828" r:id="rId44"/>
    <p:sldLayoutId id="2147483829" r:id="rId4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2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DC0B-B4CC-4C51-9C81-64DFDE43B8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7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988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9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90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91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992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93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994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5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6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7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8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99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0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0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AB47-A676-45EB-9FFE-57C7FF43F5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49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1050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1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763F-80F2-46FE-B701-BD5EDC65C9E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4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9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6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88DB-E231-420B-B2DC-2F6DE8FE364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054E-0F30-4117-A880-B190C26D9AD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42FA-02C9-4FE7-A410-CB7769CCD95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1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CBF9-DECA-4DA9-BCB4-75F76A56871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B6C2-7840-4102-8525-FE682E011F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0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1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2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B82E-AEED-4A0C-A966-868B04E147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5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8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9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0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244C-5107-4BCF-9311-EEBD3210422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0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1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1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1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1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1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1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31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7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8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9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pic>
              <p:nvPicPr>
                <p:cNvPr id="32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3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5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D765-3ED6-4A31-A7F0-18D8F124C2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0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E20B-D638-41B6-82A1-97B6505721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3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65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6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7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68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69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0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1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2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3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74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7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7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5C51-AED3-4A7F-8863-7461963FBB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6EE7-1FC8-4D29-835E-E0F141F7E6D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04-Klaus Hallen Tanz Orchestra -  Das Lied Vom Tod.mp3" descr=""/>
          <p:cNvPicPr/>
          <p:nvPr/>
        </p:nvPicPr>
        <p:blipFill>
          <a:blip r:embed="rId1"/>
          <a:stretch/>
        </p:blipFill>
        <p:spPr>
          <a:xfrm>
            <a:off x="810108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24" name="Рисунок 5" descr="Конспекти"/>
          <p:cNvPicPr/>
          <p:nvPr/>
        </p:nvPicPr>
        <p:blipFill>
          <a:blip r:embed="rId2"/>
          <a:stretch/>
        </p:blipFill>
        <p:spPr>
          <a:xfrm>
            <a:off x="250920" y="189000"/>
            <a:ext cx="3025800" cy="5688000"/>
          </a:xfrm>
          <a:prstGeom prst="rect">
            <a:avLst/>
          </a:prstGeom>
          <a:ln w="0">
            <a:noFill/>
          </a:ln>
        </p:spPr>
      </p:pic>
      <p:pic>
        <p:nvPicPr>
          <p:cNvPr id="1225" name="Прямоугольник 7" descr=""/>
          <p:cNvPicPr/>
          <p:nvPr/>
        </p:nvPicPr>
        <p:blipFill>
          <a:blip r:embed="rId3"/>
          <a:stretch/>
        </p:blipFill>
        <p:spPr>
          <a:xfrm>
            <a:off x="3267000" y="208080"/>
            <a:ext cx="5767560" cy="52974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b9efee"/>
                </a:solidFill>
                <a:latin typeface="Garamond"/>
              </a:rPr>
              <a:t>Битва при Гавгамелах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00720" y="1125360"/>
            <a:ext cx="4402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З Єгипту македонська армія пішла до Месопотамії. Неподалік від річки Тигр, біля села Гавгамели, відбулася вирішальна битва македонян з персами. Коли дві армії зблизилися, настав вечір. Дарій ІІІ боявся несподіваного нападу.  Тому  він наказав своїм воїнам вишикуватися на полі й не спа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Александр дав можливість своїм воїнам виспатися й вранці розпочав битву. Александр пробився до самого центра перського війська – Дарій так злякався, що покинув військо і втік далеко в степи де і загинув від рук персів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7" name="Picture 5" descr="Римские мозаики. Битва Александра Македонского с Дарием III при Иссе. Мозаика из дома Фавна в Помпеях. Неаполь. Национальный музей"/>
          <p:cNvPicPr/>
          <p:nvPr/>
        </p:nvPicPr>
        <p:blipFill>
          <a:blip r:embed="rId1"/>
          <a:stretch/>
        </p:blipFill>
        <p:spPr>
          <a:xfrm>
            <a:off x="179280" y="1773360"/>
            <a:ext cx="4680000" cy="3790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7d47d"/>
                </a:solidFill>
                <a:latin typeface="Times New Roman"/>
              </a:rPr>
              <a:t>Александр у Персії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3780000" y="907560"/>
            <a:ext cx="4032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7d47d"/>
                </a:solidFill>
                <a:latin typeface="Times New Roman"/>
              </a:rPr>
              <a:t>Після битви при Гавгамелах Александру вже легше було завоювати найголовніші перські міста – Вавилон, Сузи, Персеполь. У Персеполі були розкішний царський палац і гробниці перських царів. Александр захопив незліченні скарби. Після цього Александр своїми руками підпалив палац. За кілька годин від нього залишилися тільки попіл і руїни. Було знищено чудові твори мистецтва, створені не одним поколінням людей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250" name="Picture 5" descr="b8ae045a605d-thumb"/>
          <p:cNvPicPr/>
          <p:nvPr/>
        </p:nvPicPr>
        <p:blipFill>
          <a:blip r:embed="rId2"/>
          <a:stretch/>
        </p:blipFill>
        <p:spPr>
          <a:xfrm>
            <a:off x="184320" y="2565360"/>
            <a:ext cx="3827160" cy="2519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8d3e"/>
                </a:solidFill>
                <a:latin typeface="Times New Roman"/>
              </a:rPr>
              <a:t>Похід в Індію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394920" y="1125000"/>
            <a:ext cx="4475160" cy="547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з Середньої Азії Александр пішов на Індію. Він мріяв дійти до “кінця світу”. Македонські воїни перейшли через гірський хребет Гіндукуш і опинилися в Індії. Далі військо, стомлене походами, йти відмовилося. Повернувшись до Вавилона, Александр влаштував грандіозне весілля персіянок зі своїми воїнами. Він хотів об'єднати персів і греків в один народ. Сам він одружився з дочкою вбитого царя Дарія Статірою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3" name="Picture 5" descr="pic_200579_22mn36s22mls577"/>
          <p:cNvPicPr/>
          <p:nvPr/>
        </p:nvPicPr>
        <p:blipFill>
          <a:blip r:embed="rId1"/>
          <a:stretch/>
        </p:blipFill>
        <p:spPr>
          <a:xfrm>
            <a:off x="5435640" y="1413000"/>
            <a:ext cx="3333600" cy="4438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Овал 3"/>
          <p:cNvSpPr/>
          <p:nvPr/>
        </p:nvSpPr>
        <p:spPr>
          <a:xfrm>
            <a:off x="3348000" y="1052640"/>
            <a:ext cx="2952720" cy="2663640"/>
          </a:xfrm>
          <a:prstGeom prst="ellipse">
            <a:avLst/>
          </a:prstGeom>
          <a:solidFill>
            <a:srgbClr val="c1985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Македоні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Овал 4"/>
          <p:cNvSpPr/>
          <p:nvPr/>
        </p:nvSpPr>
        <p:spPr>
          <a:xfrm>
            <a:off x="5148360" y="2133720"/>
            <a:ext cx="2808360" cy="2735280"/>
          </a:xfrm>
          <a:prstGeom prst="ellipse">
            <a:avLst/>
          </a:prstGeom>
          <a:solidFill>
            <a:srgbClr val="92d050"/>
          </a:solidFill>
          <a:ln w="424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Єгипет 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Близький Схі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6" name="Овал 6"/>
          <p:cNvSpPr/>
          <p:nvPr/>
        </p:nvSpPr>
        <p:spPr>
          <a:xfrm>
            <a:off x="3132000" y="3429000"/>
            <a:ext cx="3095640" cy="2808360"/>
          </a:xfrm>
          <a:prstGeom prst="ellipse">
            <a:avLst/>
          </a:prstGeom>
          <a:solidFill>
            <a:srgbClr val="00b0f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Середній Схід (Іран,Середня Азія, Північно-Західна частина Індії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7" name="Овал 5"/>
          <p:cNvSpPr/>
          <p:nvPr/>
        </p:nvSpPr>
        <p:spPr>
          <a:xfrm>
            <a:off x="1187280" y="1916280"/>
            <a:ext cx="2808360" cy="2665080"/>
          </a:xfrm>
          <a:prstGeom prst="ellipse">
            <a:avLst/>
          </a:prstGeom>
          <a:solidFill>
            <a:srgbClr val="ff5353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Verdana"/>
              </a:rPr>
              <a:t>Поліси європейської Греції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8" name="Прямоугольник 9" descr=""/>
          <p:cNvPicPr/>
          <p:nvPr/>
        </p:nvPicPr>
        <p:blipFill>
          <a:blip r:embed="rId1"/>
          <a:stretch/>
        </p:blipFill>
        <p:spPr>
          <a:xfrm>
            <a:off x="171360" y="92160"/>
            <a:ext cx="8801280" cy="1303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Прямоугольник 12"/>
          <p:cNvSpPr/>
          <p:nvPr/>
        </p:nvSpPr>
        <p:spPr>
          <a:xfrm>
            <a:off x="3564000" y="333360"/>
            <a:ext cx="50328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0" name="Прямоугольник 18"/>
          <p:cNvSpPr/>
          <p:nvPr/>
        </p:nvSpPr>
        <p:spPr>
          <a:xfrm>
            <a:off x="4067280" y="333360"/>
            <a:ext cx="504720" cy="503280"/>
          </a:xfrm>
          <a:prstGeom prst="rect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1" name="Прямоугольник 19"/>
          <p:cNvSpPr/>
          <p:nvPr/>
        </p:nvSpPr>
        <p:spPr>
          <a:xfrm>
            <a:off x="4572000" y="333360"/>
            <a:ext cx="50472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2" name="Прямоугольник 20"/>
          <p:cNvSpPr/>
          <p:nvPr/>
        </p:nvSpPr>
        <p:spPr>
          <a:xfrm>
            <a:off x="6084720" y="333360"/>
            <a:ext cx="50328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Прямоугольник 21"/>
          <p:cNvSpPr/>
          <p:nvPr/>
        </p:nvSpPr>
        <p:spPr>
          <a:xfrm>
            <a:off x="5076720" y="333360"/>
            <a:ext cx="50328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4" name="Прямоугольник 22"/>
          <p:cNvSpPr/>
          <p:nvPr/>
        </p:nvSpPr>
        <p:spPr>
          <a:xfrm>
            <a:off x="5580000" y="333360"/>
            <a:ext cx="50472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5" name="Прямоугольник 23"/>
          <p:cNvSpPr/>
          <p:nvPr/>
        </p:nvSpPr>
        <p:spPr>
          <a:xfrm>
            <a:off x="4572000" y="836640"/>
            <a:ext cx="504720" cy="5047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6" name="Прямоугольник 24"/>
          <p:cNvSpPr/>
          <p:nvPr/>
        </p:nvSpPr>
        <p:spPr>
          <a:xfrm>
            <a:off x="4067280" y="836640"/>
            <a:ext cx="504720" cy="504720"/>
          </a:xfrm>
          <a:prstGeom prst="rect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7" name="Прямоугольник 25"/>
          <p:cNvSpPr/>
          <p:nvPr/>
        </p:nvSpPr>
        <p:spPr>
          <a:xfrm>
            <a:off x="3564000" y="836640"/>
            <a:ext cx="503280" cy="5047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8" name="Прямоугольник 26"/>
          <p:cNvSpPr/>
          <p:nvPr/>
        </p:nvSpPr>
        <p:spPr>
          <a:xfrm>
            <a:off x="3059280" y="333360"/>
            <a:ext cx="50472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9" name="Прямоугольник 27"/>
          <p:cNvSpPr/>
          <p:nvPr/>
        </p:nvSpPr>
        <p:spPr>
          <a:xfrm>
            <a:off x="2556000" y="836640"/>
            <a:ext cx="503280" cy="5047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0" name="Прямоугольник 28"/>
          <p:cNvSpPr/>
          <p:nvPr/>
        </p:nvSpPr>
        <p:spPr>
          <a:xfrm>
            <a:off x="3059280" y="836640"/>
            <a:ext cx="504720" cy="5047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1" name="Прямоугольник 29"/>
          <p:cNvSpPr/>
          <p:nvPr/>
        </p:nvSpPr>
        <p:spPr>
          <a:xfrm>
            <a:off x="539640" y="836640"/>
            <a:ext cx="503280" cy="5047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2" name="Прямоугольник 30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3" name="Прямоугольник 31"/>
          <p:cNvSpPr/>
          <p:nvPr/>
        </p:nvSpPr>
        <p:spPr>
          <a:xfrm>
            <a:off x="1547640" y="836640"/>
            <a:ext cx="503280" cy="5047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4" name="Прямоугольник 32"/>
          <p:cNvSpPr/>
          <p:nvPr/>
        </p:nvSpPr>
        <p:spPr>
          <a:xfrm>
            <a:off x="2050920" y="836640"/>
            <a:ext cx="505080" cy="5047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5" name="Прямоугольник 33"/>
          <p:cNvSpPr/>
          <p:nvPr/>
        </p:nvSpPr>
        <p:spPr>
          <a:xfrm>
            <a:off x="4572000" y="1341360"/>
            <a:ext cx="50472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Прямоугольник 34"/>
          <p:cNvSpPr/>
          <p:nvPr/>
        </p:nvSpPr>
        <p:spPr>
          <a:xfrm>
            <a:off x="5580000" y="1341360"/>
            <a:ext cx="50472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7" name="Прямоугольник 35"/>
          <p:cNvSpPr/>
          <p:nvPr/>
        </p:nvSpPr>
        <p:spPr>
          <a:xfrm>
            <a:off x="5076720" y="1341360"/>
            <a:ext cx="50328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Прямоугольник 36"/>
          <p:cNvSpPr/>
          <p:nvPr/>
        </p:nvSpPr>
        <p:spPr>
          <a:xfrm>
            <a:off x="4067280" y="1341360"/>
            <a:ext cx="504720" cy="503280"/>
          </a:xfrm>
          <a:prstGeom prst="rect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9" name="Прямоугольник 37"/>
          <p:cNvSpPr/>
          <p:nvPr/>
        </p:nvSpPr>
        <p:spPr>
          <a:xfrm>
            <a:off x="3564000" y="1341360"/>
            <a:ext cx="50328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Прямоугольник 38"/>
          <p:cNvSpPr/>
          <p:nvPr/>
        </p:nvSpPr>
        <p:spPr>
          <a:xfrm>
            <a:off x="6084720" y="1341360"/>
            <a:ext cx="50328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1" name="Прямоугольник 39"/>
          <p:cNvSpPr/>
          <p:nvPr/>
        </p:nvSpPr>
        <p:spPr>
          <a:xfrm>
            <a:off x="6588000" y="1341360"/>
            <a:ext cx="50508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Прямоугольник 40"/>
          <p:cNvSpPr/>
          <p:nvPr/>
        </p:nvSpPr>
        <p:spPr>
          <a:xfrm>
            <a:off x="4067280" y="1844640"/>
            <a:ext cx="504720" cy="504720"/>
          </a:xfrm>
          <a:prstGeom prst="rect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3" name="Прямоугольник 41"/>
          <p:cNvSpPr/>
          <p:nvPr/>
        </p:nvSpPr>
        <p:spPr>
          <a:xfrm>
            <a:off x="4067280" y="3860640"/>
            <a:ext cx="504720" cy="505080"/>
          </a:xfrm>
          <a:prstGeom prst="rect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4" name="Прямоугольник 42"/>
          <p:cNvSpPr/>
          <p:nvPr/>
        </p:nvSpPr>
        <p:spPr>
          <a:xfrm>
            <a:off x="4067280" y="3357720"/>
            <a:ext cx="504720" cy="502920"/>
          </a:xfrm>
          <a:prstGeom prst="rect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5" name="Прямоугольник 43"/>
          <p:cNvSpPr/>
          <p:nvPr/>
        </p:nvSpPr>
        <p:spPr>
          <a:xfrm>
            <a:off x="4067280" y="2852640"/>
            <a:ext cx="504720" cy="505080"/>
          </a:xfrm>
          <a:prstGeom prst="rect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6" name="Прямоугольник 44"/>
          <p:cNvSpPr/>
          <p:nvPr/>
        </p:nvSpPr>
        <p:spPr>
          <a:xfrm>
            <a:off x="4067280" y="2349360"/>
            <a:ext cx="504720" cy="503280"/>
          </a:xfrm>
          <a:prstGeom prst="rect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Прямоугольник 45"/>
          <p:cNvSpPr/>
          <p:nvPr/>
        </p:nvSpPr>
        <p:spPr>
          <a:xfrm>
            <a:off x="4067280" y="4869000"/>
            <a:ext cx="504720" cy="504720"/>
          </a:xfrm>
          <a:prstGeom prst="rect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8" name="Прямоугольник 46"/>
          <p:cNvSpPr/>
          <p:nvPr/>
        </p:nvSpPr>
        <p:spPr>
          <a:xfrm>
            <a:off x="4067280" y="4365720"/>
            <a:ext cx="504720" cy="503280"/>
          </a:xfrm>
          <a:prstGeom prst="rect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9" name="Прямоугольник 47"/>
          <p:cNvSpPr/>
          <p:nvPr/>
        </p:nvSpPr>
        <p:spPr>
          <a:xfrm>
            <a:off x="4067280" y="5373720"/>
            <a:ext cx="504720" cy="503280"/>
          </a:xfrm>
          <a:prstGeom prst="rect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0" name="Прямоугольник 49"/>
          <p:cNvSpPr/>
          <p:nvPr/>
        </p:nvSpPr>
        <p:spPr>
          <a:xfrm>
            <a:off x="4572000" y="1844640"/>
            <a:ext cx="504720" cy="5047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Прямоугольник 50"/>
          <p:cNvSpPr/>
          <p:nvPr/>
        </p:nvSpPr>
        <p:spPr>
          <a:xfrm>
            <a:off x="3059280" y="1844640"/>
            <a:ext cx="504720" cy="5047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2" name="Прямоугольник 51"/>
          <p:cNvSpPr/>
          <p:nvPr/>
        </p:nvSpPr>
        <p:spPr>
          <a:xfrm>
            <a:off x="2556000" y="1844640"/>
            <a:ext cx="503280" cy="5047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3" name="Прямоугольник 52"/>
          <p:cNvSpPr/>
          <p:nvPr/>
        </p:nvSpPr>
        <p:spPr>
          <a:xfrm>
            <a:off x="3564000" y="1844640"/>
            <a:ext cx="503280" cy="5047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4" name="Прямоугольник 53"/>
          <p:cNvSpPr/>
          <p:nvPr/>
        </p:nvSpPr>
        <p:spPr>
          <a:xfrm>
            <a:off x="2050920" y="1844640"/>
            <a:ext cx="505080" cy="5047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4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Прямоугольник 54"/>
          <p:cNvSpPr/>
          <p:nvPr/>
        </p:nvSpPr>
        <p:spPr>
          <a:xfrm>
            <a:off x="4572000" y="2852640"/>
            <a:ext cx="504720" cy="5050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6" name="Прямоугольник 55"/>
          <p:cNvSpPr/>
          <p:nvPr/>
        </p:nvSpPr>
        <p:spPr>
          <a:xfrm>
            <a:off x="3564000" y="2349360"/>
            <a:ext cx="50328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5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7" name="Прямоугольник 56"/>
          <p:cNvSpPr/>
          <p:nvPr/>
        </p:nvSpPr>
        <p:spPr>
          <a:xfrm>
            <a:off x="5076720" y="2349360"/>
            <a:ext cx="50328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8" name="Прямоугольник 57"/>
          <p:cNvSpPr/>
          <p:nvPr/>
        </p:nvSpPr>
        <p:spPr>
          <a:xfrm>
            <a:off x="4572000" y="2349360"/>
            <a:ext cx="50472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Прямоугольник 58"/>
          <p:cNvSpPr/>
          <p:nvPr/>
        </p:nvSpPr>
        <p:spPr>
          <a:xfrm>
            <a:off x="5076720" y="2852640"/>
            <a:ext cx="503280" cy="5050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0" name="Прямоугольник 59"/>
          <p:cNvSpPr/>
          <p:nvPr/>
        </p:nvSpPr>
        <p:spPr>
          <a:xfrm>
            <a:off x="5580000" y="2852640"/>
            <a:ext cx="504720" cy="5050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1" name="Прямоугольник 60"/>
          <p:cNvSpPr/>
          <p:nvPr/>
        </p:nvSpPr>
        <p:spPr>
          <a:xfrm>
            <a:off x="3564000" y="2852640"/>
            <a:ext cx="503280" cy="5050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Прямоугольник 61"/>
          <p:cNvSpPr/>
          <p:nvPr/>
        </p:nvSpPr>
        <p:spPr>
          <a:xfrm>
            <a:off x="3059280" y="2852640"/>
            <a:ext cx="504720" cy="5050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6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3" name="Прямоугольник 62"/>
          <p:cNvSpPr/>
          <p:nvPr/>
        </p:nvSpPr>
        <p:spPr>
          <a:xfrm>
            <a:off x="3564000" y="3357720"/>
            <a:ext cx="503280" cy="5029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4" name="Прямоугольник 63"/>
          <p:cNvSpPr/>
          <p:nvPr/>
        </p:nvSpPr>
        <p:spPr>
          <a:xfrm>
            <a:off x="4572000" y="3860640"/>
            <a:ext cx="504720" cy="5050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5" name="Прямоугольник 64"/>
          <p:cNvSpPr/>
          <p:nvPr/>
        </p:nvSpPr>
        <p:spPr>
          <a:xfrm>
            <a:off x="2556000" y="3357720"/>
            <a:ext cx="503280" cy="5029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7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6" name="Прямоугольник 65"/>
          <p:cNvSpPr/>
          <p:nvPr/>
        </p:nvSpPr>
        <p:spPr>
          <a:xfrm>
            <a:off x="3059280" y="3357720"/>
            <a:ext cx="504720" cy="5029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Прямоугольник 66"/>
          <p:cNvSpPr/>
          <p:nvPr/>
        </p:nvSpPr>
        <p:spPr>
          <a:xfrm>
            <a:off x="5580000" y="3860640"/>
            <a:ext cx="504720" cy="5050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8" name="Прямоугольник 67"/>
          <p:cNvSpPr/>
          <p:nvPr/>
        </p:nvSpPr>
        <p:spPr>
          <a:xfrm>
            <a:off x="6084720" y="3860640"/>
            <a:ext cx="503280" cy="5050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9" name="Прямоугольник 68"/>
          <p:cNvSpPr/>
          <p:nvPr/>
        </p:nvSpPr>
        <p:spPr>
          <a:xfrm>
            <a:off x="5076720" y="3860640"/>
            <a:ext cx="503280" cy="5050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0" name="Прямоугольник 69"/>
          <p:cNvSpPr/>
          <p:nvPr/>
        </p:nvSpPr>
        <p:spPr>
          <a:xfrm>
            <a:off x="3564000" y="4365720"/>
            <a:ext cx="50328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1" name="Прямоугольник 70"/>
          <p:cNvSpPr/>
          <p:nvPr/>
        </p:nvSpPr>
        <p:spPr>
          <a:xfrm>
            <a:off x="3059280" y="4365720"/>
            <a:ext cx="50472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9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2" name="Прямоугольник 71"/>
          <p:cNvSpPr/>
          <p:nvPr/>
        </p:nvSpPr>
        <p:spPr>
          <a:xfrm>
            <a:off x="4572000" y="4365720"/>
            <a:ext cx="50472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3" name="Прямоугольник 72"/>
          <p:cNvSpPr/>
          <p:nvPr/>
        </p:nvSpPr>
        <p:spPr>
          <a:xfrm>
            <a:off x="5076720" y="4365720"/>
            <a:ext cx="50328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4" name="Прямоугольник 73"/>
          <p:cNvSpPr/>
          <p:nvPr/>
        </p:nvSpPr>
        <p:spPr>
          <a:xfrm>
            <a:off x="5580000" y="4365720"/>
            <a:ext cx="50472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5" name="Прямоугольник 74"/>
          <p:cNvSpPr/>
          <p:nvPr/>
        </p:nvSpPr>
        <p:spPr>
          <a:xfrm>
            <a:off x="6084720" y="4365720"/>
            <a:ext cx="50328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6" name="Прямоугольник 75"/>
          <p:cNvSpPr/>
          <p:nvPr/>
        </p:nvSpPr>
        <p:spPr>
          <a:xfrm>
            <a:off x="7093080" y="4365720"/>
            <a:ext cx="50328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7" name="Прямоугольник 76"/>
          <p:cNvSpPr/>
          <p:nvPr/>
        </p:nvSpPr>
        <p:spPr>
          <a:xfrm>
            <a:off x="6588000" y="4365720"/>
            <a:ext cx="50508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8" name="Прямоугольник 77"/>
          <p:cNvSpPr/>
          <p:nvPr/>
        </p:nvSpPr>
        <p:spPr>
          <a:xfrm>
            <a:off x="3564000" y="4869000"/>
            <a:ext cx="503280" cy="5047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9" name="Прямоугольник 78"/>
          <p:cNvSpPr/>
          <p:nvPr/>
        </p:nvSpPr>
        <p:spPr>
          <a:xfrm>
            <a:off x="4572000" y="4869000"/>
            <a:ext cx="504720" cy="5047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0" name="Прямоугольник 79"/>
          <p:cNvSpPr/>
          <p:nvPr/>
        </p:nvSpPr>
        <p:spPr>
          <a:xfrm>
            <a:off x="3564000" y="5373720"/>
            <a:ext cx="50328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1" name="Прямоугольник 80"/>
          <p:cNvSpPr/>
          <p:nvPr/>
        </p:nvSpPr>
        <p:spPr>
          <a:xfrm>
            <a:off x="2556000" y="5373720"/>
            <a:ext cx="50328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2" name="Прямоугольник 81"/>
          <p:cNvSpPr/>
          <p:nvPr/>
        </p:nvSpPr>
        <p:spPr>
          <a:xfrm>
            <a:off x="2050920" y="5373720"/>
            <a:ext cx="50508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3" name="Прямоугольник 82"/>
          <p:cNvSpPr/>
          <p:nvPr/>
        </p:nvSpPr>
        <p:spPr>
          <a:xfrm>
            <a:off x="3059280" y="5373720"/>
            <a:ext cx="504720" cy="5032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TextBox 4"/>
          <p:cNvSpPr/>
          <p:nvPr/>
        </p:nvSpPr>
        <p:spPr>
          <a:xfrm>
            <a:off x="250920" y="692280"/>
            <a:ext cx="8642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ru-RU" sz="1800" spc="-1" strike="noStrike">
                <a:solidFill>
                  <a:srgbClr val="00b050"/>
                </a:solidFill>
                <a:latin typeface="Verdana"/>
              </a:rPr>
              <a:t>Загальна назва командирів армії Македонського, які стали правителями перських сатрапі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uk-UA" sz="1800" spc="-1" strike="noStrike">
                <a:solidFill>
                  <a:srgbClr val="00b050"/>
                </a:solidFill>
                <a:latin typeface="Verdana"/>
              </a:rPr>
              <a:t>Назва ассирійського селища, поблизу якого сталася одна з найбільших битв Східного походу у 331р. До н.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uk-UA" sz="1800" spc="-1" strike="noStrike">
                <a:solidFill>
                  <a:srgbClr val="00b050"/>
                </a:solidFill>
                <a:latin typeface="Verdana"/>
              </a:rPr>
              <a:t>Назва важкоозброєних македонських кіннотникі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uk-UA" sz="1800" spc="-1" strike="noStrike">
                <a:solidFill>
                  <a:srgbClr val="00b050"/>
                </a:solidFill>
                <a:latin typeface="Verdana"/>
              </a:rPr>
              <a:t>Ім</a:t>
            </a:r>
            <a:r>
              <a:rPr b="1" lang="en-US" sz="1800" spc="-1" strike="noStrike">
                <a:solidFill>
                  <a:srgbClr val="00b050"/>
                </a:solidFill>
                <a:latin typeface="Verdana"/>
              </a:rPr>
              <a:t>`</a:t>
            </a:r>
            <a:r>
              <a:rPr b="1" lang="uk-UA" sz="1800" spc="-1" strike="noStrike">
                <a:solidFill>
                  <a:srgbClr val="00b050"/>
                </a:solidFill>
                <a:latin typeface="Verdana"/>
              </a:rPr>
              <a:t>я  перського царя, палац якого було спалено після здобуття греками Персеполю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Verdana"/>
              </a:rPr>
              <a:t>5.</a:t>
            </a:r>
            <a:r>
              <a:rPr b="1" lang="uk-UA" sz="1800" spc="-1" strike="noStrike">
                <a:solidFill>
                  <a:srgbClr val="00b050"/>
                </a:solidFill>
                <a:latin typeface="Verdana"/>
              </a:rPr>
              <a:t>Назва міста в Малій Азії, поблизу якого в 333р. Відбулася одна з найбільших бит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Verdana"/>
              </a:rPr>
              <a:t>6.</a:t>
            </a:r>
            <a:r>
              <a:rPr b="1" lang="uk-UA" sz="1800" spc="-1" strike="noStrike">
                <a:solidFill>
                  <a:srgbClr val="00b050"/>
                </a:solidFill>
                <a:latin typeface="Verdana"/>
              </a:rPr>
              <a:t>Назва ріки, на березі якої у 334р.до н.е. відбувся перший бій перської та македонської армі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Verdana"/>
              </a:rPr>
              <a:t>7.</a:t>
            </a:r>
            <a:r>
              <a:rPr b="1" lang="uk-UA" sz="1800" spc="-1" strike="noStrike">
                <a:solidFill>
                  <a:srgbClr val="00b050"/>
                </a:solidFill>
                <a:latin typeface="Verdana"/>
              </a:rPr>
              <a:t>Ім</a:t>
            </a:r>
            <a:r>
              <a:rPr b="1" lang="en-US" sz="1800" spc="-1" strike="noStrike">
                <a:solidFill>
                  <a:srgbClr val="00b050"/>
                </a:solidFill>
                <a:latin typeface="Verdana"/>
              </a:rPr>
              <a:t>`</a:t>
            </a:r>
            <a:r>
              <a:rPr b="1" lang="uk-UA" sz="1800" spc="-1" strike="noStrike">
                <a:solidFill>
                  <a:srgbClr val="00b050"/>
                </a:solidFill>
                <a:latin typeface="Verdana"/>
              </a:rPr>
              <a:t>я єгипетського бога, сином якого було оголошено Александр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Verdana"/>
              </a:rPr>
              <a:t>8.</a:t>
            </a:r>
            <a:r>
              <a:rPr b="1" lang="uk-UA" sz="1800" spc="-1" strike="noStrike">
                <a:solidFill>
                  <a:srgbClr val="00b050"/>
                </a:solidFill>
                <a:latin typeface="Verdana"/>
              </a:rPr>
              <a:t>Ім</a:t>
            </a:r>
            <a:r>
              <a:rPr b="1" lang="en-US" sz="1800" spc="-1" strike="noStrike">
                <a:solidFill>
                  <a:srgbClr val="00b050"/>
                </a:solidFill>
                <a:latin typeface="Verdana"/>
              </a:rPr>
              <a:t>`</a:t>
            </a:r>
            <a:r>
              <a:rPr b="1" lang="uk-UA" sz="1800" spc="-1" strike="noStrike">
                <a:solidFill>
                  <a:srgbClr val="00b050"/>
                </a:solidFill>
                <a:latin typeface="Verdana"/>
              </a:rPr>
              <a:t>я  перського царя, наступником якого було проголошено Македонського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Verdana"/>
              </a:rPr>
              <a:t>9.</a:t>
            </a:r>
            <a:r>
              <a:rPr b="1" lang="uk-UA" sz="1800" spc="-1" strike="noStrike">
                <a:solidFill>
                  <a:srgbClr val="00b050"/>
                </a:solidFill>
                <a:latin typeface="Verdana"/>
              </a:rPr>
              <a:t>Ім</a:t>
            </a:r>
            <a:r>
              <a:rPr b="1" lang="en-US" sz="1800" spc="-1" strike="noStrike">
                <a:solidFill>
                  <a:srgbClr val="00b050"/>
                </a:solidFill>
                <a:latin typeface="Verdana"/>
              </a:rPr>
              <a:t>`</a:t>
            </a:r>
            <a:r>
              <a:rPr b="1" lang="uk-UA" sz="1800" spc="-1" strike="noStrike">
                <a:solidFill>
                  <a:srgbClr val="00b050"/>
                </a:solidFill>
                <a:latin typeface="Verdana"/>
              </a:rPr>
              <a:t>я одного з полководців македонської армії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Verdana"/>
              </a:rPr>
              <a:t>10.</a:t>
            </a:r>
            <a:r>
              <a:rPr b="1" lang="uk-UA" sz="1800" spc="-1" strike="noStrike">
                <a:solidFill>
                  <a:srgbClr val="00b050"/>
                </a:solidFill>
                <a:latin typeface="Verdana"/>
              </a:rPr>
              <a:t>Назва фінікійського міста, зруйнованого армією Македонського, після тривалої облог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Verdana"/>
              </a:rPr>
              <a:t>11.</a:t>
            </a:r>
            <a:r>
              <a:rPr b="1" lang="uk-UA" sz="1800" spc="-1" strike="noStrike">
                <a:solidFill>
                  <a:srgbClr val="00b050"/>
                </a:solidFill>
                <a:latin typeface="Verdana"/>
              </a:rPr>
              <a:t>Назва країни, в яку почав свій похід Александр в 327р.до н.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Останні роки правлін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3924000" y="1125000"/>
            <a:ext cx="4762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Александр перейняв багато перських звичаїв, які здавалися грекам і македонянам смішними й принизливими. Цар сидів на троні в золотій короні та розкішному перському вбранні. Він вимагав, щоб його вважали богом і вклонялися йому до землі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Александр збирався в новий, африканський, похід. Але несподівано захворів і помер у віці тридцяти трьох років. Сталося це в 323 р. до н.е. у Вавилоні. Тіло Александра залили медом і поклали в золотий саркофаг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7" name="Picture 7" descr="Arkheol%2BMus%2B17"/>
          <p:cNvPicPr/>
          <p:nvPr/>
        </p:nvPicPr>
        <p:blipFill>
          <a:blip r:embed="rId1"/>
          <a:stretch/>
        </p:blipFill>
        <p:spPr>
          <a:xfrm>
            <a:off x="82440" y="1052640"/>
            <a:ext cx="3870360" cy="540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68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68" fill="hold"/>
                                        <p:tgtEl>
                                          <p:spTgt spid="13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68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68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3e3ff"/>
                </a:solidFill>
                <a:latin typeface="Times New Roman"/>
              </a:rPr>
              <a:t>Елліністичні держави в </a:t>
            </a:r>
            <a:r>
              <a:rPr b="1" lang="en-US" sz="4000" spc="-1" strike="noStrike">
                <a:solidFill>
                  <a:srgbClr val="e3e3ff"/>
                </a:solidFill>
                <a:latin typeface="Times New Roman"/>
              </a:rPr>
              <a:t>IV-II</a:t>
            </a:r>
            <a:r>
              <a:rPr b="1" lang="uk-UA" sz="4000" spc="-1" strike="noStrike">
                <a:solidFill>
                  <a:srgbClr val="e3e3ff"/>
                </a:solidFill>
                <a:latin typeface="Times New Roman"/>
              </a:rPr>
              <a:t> ст. до н.е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Гігантська імперія, створена Александром Македонським, складалася з різних земель, племен і народів. Туди входили Македонія, Греція, Єгипет, Близький Схід, Персія, Середня Азія та частина Індії. Жителі цих країв говорили різними мовами, поклонялися своїм богам, носили власний національний одяг і господарювали кожен по – своє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ісля раптової смерті Александра почалася боротьба між його полководцями за владу. Поділили імперію на кілька менших самостійних держав. Найбільшими з них були три: Сирійська, Єгипетська і Македонсь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омашн</a:t>
            </a: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є завданн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539280" y="1700280"/>
            <a:ext cx="8147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-Написати ессе на тему «Я- учасник однієї з битв Македонськог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-Написати ессе на тему «Я- учасник однієї з битв Македонськог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-Скласти кросвор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- Підготувати питання для віктори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-Опрацювати матеріал параграф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07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План.</a:t>
            </a:r>
            <a:br>
              <a:rPr sz="4400"/>
            </a:b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1.Особистість Александр Македонський.</a:t>
            </a:r>
            <a:br>
              <a:rPr sz="4400"/>
            </a:b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2.Східний похід та його наслідки.</a:t>
            </a:r>
            <a:br>
              <a:rPr sz="4400"/>
            </a:b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3.Держава Александра Македонського.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5400" spc="-1" strike="noStrike">
                <a:solidFill>
                  <a:srgbClr val="ff1a1a"/>
                </a:solidFill>
                <a:latin typeface="Arial"/>
              </a:rPr>
              <a:t>Проблемне питання: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26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Александр Македонський – жорстокий завойовник чи мудрий правител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Picture 4" descr="11880_g07"/>
          <p:cNvPicPr/>
          <p:nvPr/>
        </p:nvPicPr>
        <p:blipFill>
          <a:blip r:embed="rId1"/>
          <a:stretch/>
        </p:blipFill>
        <p:spPr>
          <a:xfrm>
            <a:off x="395280" y="189000"/>
            <a:ext cx="3927600" cy="6337080"/>
          </a:xfrm>
          <a:prstGeom prst="rect">
            <a:avLst/>
          </a:prstGeom>
          <a:ln w="0">
            <a:noFill/>
          </a:ln>
        </p:spPr>
      </p:pic>
      <p:sp>
        <p:nvSpPr>
          <p:cNvPr id="1230" name="TextBox 6"/>
          <p:cNvSpPr/>
          <p:nvPr/>
        </p:nvSpPr>
        <p:spPr>
          <a:xfrm>
            <a:off x="4788000" y="981000"/>
            <a:ext cx="22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1" name="Прямоугольник 9" descr=""/>
          <p:cNvPicPr/>
          <p:nvPr/>
        </p:nvPicPr>
        <p:blipFill>
          <a:blip r:embed="rId2"/>
          <a:stretch/>
        </p:blipFill>
        <p:spPr>
          <a:xfrm>
            <a:off x="4578480" y="268200"/>
            <a:ext cx="4449600" cy="5651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Юність 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Александра Македонськог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3419640" y="1785600"/>
            <a:ext cx="5473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Александр був сміливий та енергійний, хоча й запальний юнак. Він здобув гарну освіту. Його вчителем був знаменитий грецький учений Арістотель. Ще змалку Александр мріяв про подвиги. Із сумом він казав друзям: “Батько все зробить без мене, і для нас не залишиться жодного славного подвигу!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4" name="Picture 8" descr="614"/>
          <p:cNvPicPr/>
          <p:nvPr/>
        </p:nvPicPr>
        <p:blipFill>
          <a:blip r:embed="rId1"/>
          <a:stretch/>
        </p:blipFill>
        <p:spPr>
          <a:xfrm>
            <a:off x="108000" y="2114640"/>
            <a:ext cx="2951280" cy="4194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7859880" cy="581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ЯК ВИСЛОВЛЮВАННЯ АЛЕКСАНДРА МАКЕДОНСЬКОГО ЙОГО ХАРАКТЕРИЗУЮТЬ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5d93d"/>
                </a:solidFill>
                <a:latin typeface="Times New Roman"/>
              </a:rPr>
              <a:t>Похід у Персію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140360" y="1125360"/>
            <a:ext cx="4752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5d93d"/>
                </a:solidFill>
                <a:latin typeface="Times New Roman"/>
              </a:rPr>
              <a:t>Александр Македонський став знаменитим завойовником стародавнього світу. У 334 р. до н.е. Александр переправився через протоку Геллеспонт, між Європою та Азією, й опинився на землях Перського царства. Міста одне за одним здавалися полководцеві. Ніщо не могло його спинити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5d93d"/>
                </a:solidFill>
                <a:latin typeface="Times New Roman"/>
              </a:rPr>
              <a:t>Назустріч Александру рушив перський цар Дарій ІІІ з величезною армією. Перемогли македоняни. Сам Дарій ледве врятувався втечею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8" name="Picture 7" descr="Александр Македонский переходит через Граник "/>
          <p:cNvPicPr/>
          <p:nvPr/>
        </p:nvPicPr>
        <p:blipFill>
          <a:blip r:embed="rId1"/>
          <a:stretch/>
        </p:blipFill>
        <p:spPr>
          <a:xfrm>
            <a:off x="114480" y="1700280"/>
            <a:ext cx="4025880" cy="3975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b7"/>
                </a:solidFill>
                <a:latin typeface="Times New Roman"/>
              </a:rPr>
              <a:t>Завоювання Ханаанських земель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716000" y="1267920"/>
            <a:ext cx="4427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ісля перемоги над Персією Александр завоював Сирію, Фінікію та Палестину. Не підкорилося йому лише багате фінікійське місто Тір. Частина міста була розташована на острові. Александр наказав насипати в морі греблю, і цією греблею доставив до стін міста стінобитні машини - тарани. Через півроку захопив Ті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1" name="Picture 5" descr="30615373"/>
          <p:cNvPicPr/>
          <p:nvPr/>
        </p:nvPicPr>
        <p:blipFill>
          <a:blip r:embed="rId1"/>
          <a:stretch/>
        </p:blipFill>
        <p:spPr>
          <a:xfrm>
            <a:off x="324000" y="1628640"/>
            <a:ext cx="4586040" cy="3872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8d3e"/>
                </a:solidFill>
                <a:latin typeface="Times New Roman"/>
              </a:rPr>
              <a:t>Завоювання Єгипту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4427280" y="1125360"/>
            <a:ext cx="4716360" cy="5399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рмія Александра рушила на Єгипет. Єгиптяни не любили персів і тому радо вітали македонян як своїх визволителів. Цілий рік армія відпочивала в Єгипті й готувалася до наступних походів. За цей час за наказом Александра в дельті Нілу було збудовано місто Алесандрію. Єгипетські жерці оголосили Александра сином бога Амона.  Відтоді характер полководця почав псуватися, загордився і забажав, щоб йому поклонялися як бог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4" name="Picture 5" descr="am_trip"/>
          <p:cNvPicPr/>
          <p:nvPr/>
        </p:nvPicPr>
        <p:blipFill>
          <a:blip r:embed="rId1"/>
          <a:stretch/>
        </p:blipFill>
        <p:spPr>
          <a:xfrm>
            <a:off x="179280" y="1773360"/>
            <a:ext cx="4537080" cy="3830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8:41:34Z</dcterms:created>
  <dc:creator>XTreme</dc:creator>
  <dc:description/>
  <dc:language>en-US</dc:language>
  <cp:lastModifiedBy>Оксана</cp:lastModifiedBy>
  <dcterms:modified xsi:type="dcterms:W3CDTF">2014-02-26T03:07:17Z</dcterms:modified>
  <cp:revision>30</cp:revision>
  <dc:subject/>
  <dc:title>Олександр Македонський 21 липня 356 року до н.е. </dc:title>
</cp:coreProperties>
</file>