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4.png" ContentType="image/png"/>
  <Override PartName="/ppt/media/image24.gif" ContentType="image/gif"/>
  <Override PartName="/ppt/media/image1.png" ContentType="image/png"/>
  <Override PartName="/ppt/media/image25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2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66D2-31BC-4BFD-AA46-560493792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D434-B3C3-4494-8A90-7C90FDA3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2692-B9DA-4758-BE65-38747813F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B95B-B6AE-496C-B366-F7D70C650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B5F34-09C7-4F18-A026-48E1008FA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2C4D-BC4C-4EF8-9932-FB8ECC57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2F1B0-12D0-4E09-8E70-50C0065A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1CC29-A883-43A1-AFD9-06284101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E7AA-CD03-467E-AABB-6935AB25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B939-BDF9-44CC-8491-40021689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3274-D800-4155-B891-84392EDF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CCA3-0F48-4E30-A2F3-77E71E2D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BDC0-83C2-4353-84D2-0C40F337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9363-CDB3-4D3F-BEBE-F2C02BCF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F26BD-364D-40D0-AC53-DB315EB4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BDB5-2D4F-4AC3-82D7-7F34943A6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B2D0-A8B0-4AC2-B83D-77CB2DCA7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164EC-66B6-4BB1-9525-D6AF2C957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33E38-4B82-473B-AC92-4BAD997A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01ECE-F146-417C-B056-777967E6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B6000-74F9-4FC2-928B-13EDC5E2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33D2B-737E-49A0-AE70-F99AD9E0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57E4-6991-48CD-A5FD-2F5CA331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02B95-98B4-4149-B707-A8128CC3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93FA8-9A83-453D-8E86-6DD6027A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DA8B0-44A9-45F1-8E32-9A5ED85C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D2620-E870-4A7D-81E8-82AC8C25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AEDE1-F463-4C83-88E2-455CF16A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C2E6D-8D59-4EEB-B1D3-BD6A40ADA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67A4B-75D2-4DC8-8101-3618957E6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25FC0-B875-4AFA-A055-2B42581FE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96107-546F-454A-97F8-2841C621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A97DA-9CB4-43B7-9914-5DCCCE1B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70A4-9426-4AD9-BE7C-A28AFEC5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B8347-ED5F-4488-A491-21AC5E78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AF841-77A2-4BCA-BD05-26D2AC4E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DA4DD-50A0-4C64-A6B9-ABB0FF14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3EB40-7A03-44B5-B009-8F09B101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5C11D-B0BE-4AE9-90F7-C6968F53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3465A-3553-4D00-9179-B73CDB71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102F7-F297-45EF-AA86-4D8B4F44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FC57D-66E8-4D3E-9B01-3E69EA065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F191F-084A-435E-8A70-D1955D31B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1CE39-5060-4DA6-9FAA-4FAC52A88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B0F0-2B1B-4501-8A20-05C7C23E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C66E9-54B8-4324-90AD-E2233AD1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B80F3-8BAE-4D42-9A66-4F681F4B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FAA10-D95D-481E-9C75-26910842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19585-2CBE-4518-9189-57422810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65878-0D37-4D05-AD2C-04FEA44C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19BE1-4DF0-4E74-BBE8-231B8008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ECB3A-D2BA-4A75-AA39-497F9439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17B72-E88B-45D7-AA9A-3A418334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D3340-4759-4398-92CE-2485CC68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D7F46-4419-4116-944C-CDE67EAE8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D69F-3D2C-4E4A-94C3-C360282D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89C81-64DD-4EF7-9E90-3867832D0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E365F-62BE-4196-B067-6B70FCE77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3CE80-8311-4D24-91D9-FE8A58AC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26DF8-6202-4A1B-BF9B-1301C224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77042-67C4-4B55-A533-2EA1814D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54899-E5E3-465E-BAB7-734C32D3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08ED4-E855-44EF-AF7B-80FC926A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E8DD2-69F1-4168-BBAD-77766B03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648CE-4381-4FD2-90FA-841727A3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CD2D6-E1FC-402A-B343-25CB2F55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4D68-5358-4238-B6B6-3F6AF88B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69D20-EDD0-4E6D-9808-7A33FFB7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05449-8101-4E5B-967B-615204E15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1CCBA-18EF-42ED-B54B-849872323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3B6E-80F2-436D-8D6F-385DC3EC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8928-BB5B-4A8B-AAB5-98E71F28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51F2-BBB6-4E86-9FE6-B93152DE194F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334A-58EF-40C2-9494-AAD9A0CE8224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2D01-17BC-4CDD-8957-0101C28B8E1F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F730-BCB6-4737-8BA4-0AC6515B92B2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5ACA-AFC4-4495-9ABB-CEE3482032BE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5A6C-3BB0-4A1E-9413-2EA933E77889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3"/>
          <p:cNvSpPr/>
          <p:nvPr/>
        </p:nvSpPr>
        <p:spPr>
          <a:xfrm>
            <a:off x="318960" y="284040"/>
            <a:ext cx="8937720" cy="61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ahoma"/>
                <a:ea typeface="Arial"/>
              </a:rPr>
              <a:t>Невеликий алегоричний віршований або прозовий твір повчального змісту це -…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ahoma"/>
                <a:ea typeface="Arial"/>
              </a:rPr>
              <a:t>Основний художній засіб, що використовується в байці, це -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ahoma"/>
                <a:ea typeface="Arial"/>
              </a:rPr>
              <a:t>Першим байкарем вважають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ahoma"/>
                <a:ea typeface="Arial"/>
              </a:rPr>
              <a:t>«Езопова мова» – це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ahoma"/>
                <a:ea typeface="Arial"/>
              </a:rPr>
              <a:t>Письменники – байкарі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Рисунок 3" descr=""/>
          <p:cNvPicPr/>
          <p:nvPr/>
        </p:nvPicPr>
        <p:blipFill>
          <a:blip r:embed="rId1"/>
          <a:stretch/>
        </p:blipFill>
        <p:spPr>
          <a:xfrm>
            <a:off x="7243920" y="5178600"/>
            <a:ext cx="2030400" cy="16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Прямоугольник 10" descr=""/>
          <p:cNvPicPr/>
          <p:nvPr/>
        </p:nvPicPr>
        <p:blipFill>
          <a:blip r:embed="rId1"/>
          <a:stretch/>
        </p:blipFill>
        <p:spPr>
          <a:xfrm>
            <a:off x="109440" y="-6480"/>
            <a:ext cx="9034560" cy="646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8" name=""/>
          <p:cNvGraphicFramePr/>
          <p:nvPr/>
        </p:nvGraphicFramePr>
        <p:xfrm>
          <a:off x="395280" y="638280"/>
          <a:ext cx="8526600" cy="5294160"/>
        </p:xfrm>
        <a:graphic>
          <a:graphicData uri="http://schemas.openxmlformats.org/drawingml/2006/table">
            <a:tbl>
              <a:tblPr/>
              <a:tblGrid>
                <a:gridCol w="1152360"/>
                <a:gridCol w="2475000"/>
                <a:gridCol w="408240"/>
                <a:gridCol w="4491000"/>
              </a:tblGrid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uk-UA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Бай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uk-UA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Краї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uk-UA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Езо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uk-UA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Давня Греці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uk-UA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Л. Гліб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uk-UA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Украї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uk-UA" sz="1800" spc="-1" strike="noStrike">
                          <a:solidFill>
                            <a:srgbClr val="800080"/>
                          </a:solidFill>
                          <a:latin typeface="Times New Roman"/>
                          <a:ea typeface="Calibri"/>
                        </a:rPr>
                        <a:t>Будова бай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uk-UA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uk-UA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Байка складається з ІІ част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uk-UA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Мораль у кінці байки</a:t>
                      </a:r>
                      <a:r>
                        <a:rPr b="0" lang="uk-UA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	</a:t>
                      </a:r>
                      <a:r>
                        <a:rPr b="0" lang="uk-UA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                     Виділеної моралі в кінці чи 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uk-UA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                                                                     </a:t>
                      </a:r>
                      <a:r>
                        <a:rPr b="0" lang="uk-UA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початку байки немає, вона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uk-UA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                                                                    </a:t>
                      </a:r>
                      <a:r>
                        <a:rPr b="0" lang="uk-UA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витікає з усієї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6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uk-UA" sz="1800" spc="-1" strike="noStrike">
                          <a:solidFill>
                            <a:srgbClr val="800080"/>
                          </a:solidFill>
                          <a:latin typeface="Times New Roman"/>
                          <a:ea typeface="Calibri"/>
                        </a:rPr>
                        <a:t>М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зова мова,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аконічна сух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1911240">
                        <a:lnSpc>
                          <a:spcPct val="115000"/>
                        </a:lnSpc>
                        <a:tabLst>
                          <a:tab algn="l" pos="0"/>
                          <a:tab algn="l" pos="348624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іршована мова, використовує  художні засоби: епітети, уособлення, емоційно-забарвлені слова</a:t>
                      </a:r>
                      <a:r>
                        <a:rPr b="0" lang="uk-UA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7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uk-UA" sz="1800" spc="-1" strike="noStrike">
                          <a:solidFill>
                            <a:srgbClr val="800080"/>
                          </a:solidFill>
                          <a:latin typeface="Times New Roman"/>
                          <a:ea typeface="Calibri"/>
                        </a:rPr>
                        <a:t>Виснов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uk-UA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Герої байок уособлюють якості люд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uk-UA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Байки  Глібова більші за обсяг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uk-UA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Діалоги з емоційним забарвлення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uk-UA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Мова байок Глібова - народна – легка, герої  – носії рис українського  народ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" descr="1348000193"/>
          <p:cNvPicPr/>
          <p:nvPr/>
        </p:nvPicPr>
        <p:blipFill>
          <a:blip r:embed="rId1"/>
          <a:stretch/>
        </p:blipFill>
        <p:spPr>
          <a:xfrm>
            <a:off x="826920" y="0"/>
            <a:ext cx="741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ягнёнок и волк"/>
          <p:cNvPicPr/>
          <p:nvPr/>
        </p:nvPicPr>
        <p:blipFill>
          <a:blip r:embed="rId1"/>
          <a:stretch/>
        </p:blipFill>
        <p:spPr>
          <a:xfrm>
            <a:off x="-181080" y="-34920"/>
            <a:ext cx="932508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image044"/>
          <p:cNvPicPr/>
          <p:nvPr/>
        </p:nvPicPr>
        <p:blipFill>
          <a:blip r:embed="rId1"/>
          <a:stretch/>
        </p:blipFill>
        <p:spPr>
          <a:xfrm>
            <a:off x="1619280" y="4680"/>
            <a:ext cx="561816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Рисунок 2" descr=""/>
          <p:cNvPicPr/>
          <p:nvPr/>
        </p:nvPicPr>
        <p:blipFill>
          <a:blip r:embed="rId1"/>
          <a:stretch/>
        </p:blipFill>
        <p:spPr>
          <a:xfrm>
            <a:off x="7120080" y="5148360"/>
            <a:ext cx="2028600" cy="1687320"/>
          </a:xfrm>
          <a:prstGeom prst="rect">
            <a:avLst/>
          </a:prstGeom>
          <a:ln w="0">
            <a:noFill/>
          </a:ln>
        </p:spPr>
      </p:pic>
      <p:sp>
        <p:nvSpPr>
          <p:cNvPr id="273" name="Прямоугольник 1"/>
          <p:cNvSpPr/>
          <p:nvPr/>
        </p:nvSpPr>
        <p:spPr>
          <a:xfrm>
            <a:off x="25560" y="20520"/>
            <a:ext cx="899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Езоп – легендарний давньогрецький байк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6" descr="Эзоп"/>
          <p:cNvPicPr/>
          <p:nvPr/>
        </p:nvPicPr>
        <p:blipFill>
          <a:blip r:embed="rId2"/>
          <a:stretch/>
        </p:blipFill>
        <p:spPr>
          <a:xfrm>
            <a:off x="324000" y="1238400"/>
            <a:ext cx="3671640" cy="5359320"/>
          </a:xfrm>
          <a:prstGeom prst="rect">
            <a:avLst/>
          </a:prstGeom>
          <a:ln w="0">
            <a:noFill/>
          </a:ln>
        </p:spPr>
      </p:pic>
      <p:pic>
        <p:nvPicPr>
          <p:cNvPr id="275" name="Прямоугольник 3" descr=""/>
          <p:cNvPicPr/>
          <p:nvPr/>
        </p:nvPicPr>
        <p:blipFill>
          <a:blip r:embed="rId3"/>
          <a:stretch/>
        </p:blipFill>
        <p:spPr>
          <a:xfrm>
            <a:off x="4280040" y="1603440"/>
            <a:ext cx="452916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Рисунок 1" descr=""/>
          <p:cNvPicPr/>
          <p:nvPr/>
        </p:nvPicPr>
        <p:blipFill>
          <a:blip r:embed="rId1"/>
          <a:stretch/>
        </p:blipFill>
        <p:spPr>
          <a:xfrm>
            <a:off x="-77760" y="857160"/>
            <a:ext cx="2820960" cy="5085000"/>
          </a:xfrm>
          <a:prstGeom prst="rect">
            <a:avLst/>
          </a:prstGeom>
          <a:ln w="0">
            <a:noFill/>
          </a:ln>
        </p:spPr>
      </p:pic>
      <p:pic>
        <p:nvPicPr>
          <p:cNvPr id="277" name="Прямоугольник 3" descr=""/>
          <p:cNvPicPr/>
          <p:nvPr/>
        </p:nvPicPr>
        <p:blipFill>
          <a:blip r:embed="rId2"/>
          <a:stretch/>
        </p:blipFill>
        <p:spPr>
          <a:xfrm>
            <a:off x="2724120" y="1116000"/>
            <a:ext cx="628668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5" descr="dbdee13c60c9204fee7ec8d256b5f9fa"/>
          <p:cNvPicPr/>
          <p:nvPr/>
        </p:nvPicPr>
        <p:blipFill>
          <a:blip r:embed="rId1"/>
          <a:stretch/>
        </p:blipFill>
        <p:spPr>
          <a:xfrm>
            <a:off x="61920" y="3581280"/>
            <a:ext cx="1657440" cy="1998720"/>
          </a:xfrm>
          <a:prstGeom prst="rect">
            <a:avLst/>
          </a:prstGeom>
          <a:ln w="0">
            <a:noFill/>
          </a:ln>
        </p:spPr>
      </p:pic>
      <p:pic>
        <p:nvPicPr>
          <p:cNvPr id="279" name="Прямоугольник 2" descr=""/>
          <p:cNvPicPr/>
          <p:nvPr/>
        </p:nvPicPr>
        <p:blipFill>
          <a:blip r:embed="rId2"/>
          <a:stretch/>
        </p:blipFill>
        <p:spPr>
          <a:xfrm>
            <a:off x="2840040" y="920880"/>
            <a:ext cx="4719600" cy="712800"/>
          </a:xfrm>
          <a:prstGeom prst="rect">
            <a:avLst/>
          </a:prstGeom>
          <a:ln w="0">
            <a:noFill/>
          </a:ln>
        </p:spPr>
      </p:pic>
      <p:sp>
        <p:nvSpPr>
          <p:cNvPr id="280" name="TextBox 3"/>
          <p:cNvSpPr/>
          <p:nvPr/>
        </p:nvSpPr>
        <p:spPr>
          <a:xfrm>
            <a:off x="1719360" y="1611360"/>
            <a:ext cx="6780240" cy="28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1. Намалювати комікси до байки Езопа «Мурашки й Цикад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2. Індивідуальне завдання: підготувати повідомлення про життя і творчість російського байкаря Івана Крил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Calibri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Прямоугольник 1" descr=""/>
          <p:cNvPicPr/>
          <p:nvPr/>
        </p:nvPicPr>
        <p:blipFill>
          <a:blip r:embed="rId1"/>
          <a:stretch/>
        </p:blipFill>
        <p:spPr>
          <a:xfrm>
            <a:off x="3852720" y="6480"/>
            <a:ext cx="2146320" cy="920520"/>
          </a:xfrm>
          <a:prstGeom prst="rect">
            <a:avLst/>
          </a:prstGeom>
          <a:ln w="0">
            <a:noFill/>
          </a:ln>
        </p:spPr>
      </p:pic>
      <p:pic>
        <p:nvPicPr>
          <p:cNvPr id="249" name="Прямоугольник 2" descr=""/>
          <p:cNvPicPr/>
          <p:nvPr/>
        </p:nvPicPr>
        <p:blipFill>
          <a:blip r:embed="rId2"/>
          <a:stretch/>
        </p:blipFill>
        <p:spPr>
          <a:xfrm>
            <a:off x="231840" y="695160"/>
            <a:ext cx="8931240" cy="31705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Езоп 1"/>
          <p:cNvPicPr/>
          <p:nvPr/>
        </p:nvPicPr>
        <p:blipFill>
          <a:blip r:embed="rId3"/>
          <a:stretch/>
        </p:blipFill>
        <p:spPr>
          <a:xfrm>
            <a:off x="3132000" y="3862440"/>
            <a:ext cx="244800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Word Art 12"/>
          <p:cNvPicPr/>
          <p:nvPr/>
        </p:nvPicPr>
        <p:blipFill>
          <a:blip r:embed="rId1"/>
          <a:stretch/>
        </p:blipFill>
        <p:spPr>
          <a:xfrm>
            <a:off x="393840" y="1487520"/>
            <a:ext cx="8569080" cy="5327640"/>
          </a:xfrm>
          <a:prstGeom prst="rect">
            <a:avLst/>
          </a:prstGeom>
          <a:ln w="0">
            <a:noFill/>
          </a:ln>
        </p:spPr>
      </p:pic>
      <p:pic>
        <p:nvPicPr>
          <p:cNvPr id="252" name="Прямоугольник 1" descr=""/>
          <p:cNvPicPr/>
          <p:nvPr/>
        </p:nvPicPr>
        <p:blipFill>
          <a:blip r:embed="rId2"/>
          <a:stretch/>
        </p:blipFill>
        <p:spPr>
          <a:xfrm>
            <a:off x="1474920" y="23760"/>
            <a:ext cx="640692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Прямоугольник 1" descr=""/>
          <p:cNvPicPr/>
          <p:nvPr/>
        </p:nvPicPr>
        <p:blipFill>
          <a:blip r:embed="rId1"/>
          <a:stretch/>
        </p:blipFill>
        <p:spPr>
          <a:xfrm>
            <a:off x="6480" y="1322280"/>
            <a:ext cx="9137520" cy="390204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2" descr=""/>
          <p:cNvPicPr/>
          <p:nvPr/>
        </p:nvPicPr>
        <p:blipFill>
          <a:blip r:embed="rId2"/>
          <a:stretch/>
        </p:blipFill>
        <p:spPr>
          <a:xfrm>
            <a:off x="6983280" y="4268880"/>
            <a:ext cx="2027520" cy="16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1"/>
          <p:cNvSpPr/>
          <p:nvPr/>
        </p:nvSpPr>
        <p:spPr>
          <a:xfrm>
            <a:off x="820800" y="1239840"/>
            <a:ext cx="7824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10358136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й урок познайомить мене з біографією Езоп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10358136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 удосконалю навички аналізу бай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10358136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 навчусь співставляти байки Езопа з байками інших письменникі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Рисунок 2" descr=""/>
          <p:cNvPicPr/>
          <p:nvPr/>
        </p:nvPicPr>
        <p:blipFill>
          <a:blip r:embed="rId1"/>
          <a:stretch/>
        </p:blipFill>
        <p:spPr>
          <a:xfrm>
            <a:off x="7120080" y="5148360"/>
            <a:ext cx="2028600" cy="168732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1"/>
          <p:cNvSpPr/>
          <p:nvPr/>
        </p:nvSpPr>
        <p:spPr>
          <a:xfrm>
            <a:off x="25560" y="20520"/>
            <a:ext cx="899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Езоп – легендарний давньогрецький байк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6" descr="Эзоп"/>
          <p:cNvPicPr/>
          <p:nvPr/>
        </p:nvPicPr>
        <p:blipFill>
          <a:blip r:embed="rId2"/>
          <a:stretch/>
        </p:blipFill>
        <p:spPr>
          <a:xfrm>
            <a:off x="324000" y="1238400"/>
            <a:ext cx="3671640" cy="5359320"/>
          </a:xfrm>
          <a:prstGeom prst="rect">
            <a:avLst/>
          </a:prstGeom>
          <a:ln w="0">
            <a:noFill/>
          </a:ln>
        </p:spPr>
      </p:pic>
      <p:pic>
        <p:nvPicPr>
          <p:cNvPr id="259" name="Прямоугольник 3" descr=""/>
          <p:cNvPicPr/>
          <p:nvPr/>
        </p:nvPicPr>
        <p:blipFill>
          <a:blip r:embed="rId3"/>
          <a:stretch/>
        </p:blipFill>
        <p:spPr>
          <a:xfrm>
            <a:off x="3633840" y="1603440"/>
            <a:ext cx="581508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Рисунок 1" descr=""/>
          <p:cNvPicPr/>
          <p:nvPr/>
        </p:nvPicPr>
        <p:blipFill>
          <a:blip r:embed="rId1"/>
          <a:stretch/>
        </p:blipFill>
        <p:spPr>
          <a:xfrm>
            <a:off x="-31680" y="103320"/>
            <a:ext cx="4174920" cy="512604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2" descr=""/>
          <p:cNvPicPr/>
          <p:nvPr/>
        </p:nvPicPr>
        <p:blipFill>
          <a:blip r:embed="rId2"/>
          <a:stretch/>
        </p:blipFill>
        <p:spPr>
          <a:xfrm>
            <a:off x="6610320" y="4626000"/>
            <a:ext cx="2533680" cy="223200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3" descr=""/>
          <p:cNvPicPr/>
          <p:nvPr/>
        </p:nvPicPr>
        <p:blipFill>
          <a:blip r:embed="rId3"/>
          <a:stretch/>
        </p:blipFill>
        <p:spPr>
          <a:xfrm>
            <a:off x="4462560" y="103320"/>
            <a:ext cx="3922560" cy="46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Рисунок 2" descr=""/>
          <p:cNvPicPr/>
          <p:nvPr/>
        </p:nvPicPr>
        <p:blipFill>
          <a:blip r:embed="rId1"/>
          <a:stretch/>
        </p:blipFill>
        <p:spPr>
          <a:xfrm>
            <a:off x="7113600" y="5300640"/>
            <a:ext cx="2030400" cy="168768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1" descr="D:\презентації к урокам 6 клас\І СЕМЕСТР\езоп\відкритий урок\hlibov-leonid-ivanovych_1.jpg"/>
          <p:cNvPicPr/>
          <p:nvPr/>
        </p:nvPicPr>
        <p:blipFill>
          <a:blip r:embed="rId2"/>
          <a:stretch/>
        </p:blipFill>
        <p:spPr>
          <a:xfrm>
            <a:off x="1476360" y="0"/>
            <a:ext cx="575964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Рисунок 1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4032360" cy="568800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2" descr=""/>
          <p:cNvPicPr/>
          <p:nvPr/>
        </p:nvPicPr>
        <p:blipFill>
          <a:blip r:embed="rId2"/>
          <a:stretch/>
        </p:blipFill>
        <p:spPr>
          <a:xfrm>
            <a:off x="4716360" y="620640"/>
            <a:ext cx="40323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2:08:21Z</dcterms:created>
  <dc:creator>Simon</dc:creator>
  <dc:description/>
  <dc:language>en-US</dc:language>
  <cp:lastModifiedBy>Olena Nezhurina</cp:lastModifiedBy>
  <dcterms:modified xsi:type="dcterms:W3CDTF">2018-10-22T16:17:35Z</dcterms:modified>
  <cp:revision>55</cp:revision>
  <dc:subject/>
  <dc:title>Тема</dc:title>
</cp:coreProperties>
</file>