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7.jpeg" ContentType="image/jpe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20A22-AA37-473E-8897-B9D9965703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3A82F-0216-49AB-A6E1-13C538F7C9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173CB-5C7D-4F23-81B5-3D43A45BA6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3FD5C-6AE5-4CA4-9A2A-EBEF6B045E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E5618-5C98-4910-8974-27BDD995F1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FDC92-5116-4CBA-9F4A-F8A66813C8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88A65-C67C-44DA-AEF0-22F4CF3415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9268D-D6A2-4C64-BBEE-93EDE0D2E3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A1E31-D59E-44EA-B704-A794537A31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C7F92-AA87-4A59-A2D6-718BFC9A05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C66A2-B726-432B-8F7D-CCA0A3EB22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79EA0-2A5C-4C4E-BD0A-D36F7EBA79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EF7A-686D-405B-A9A9-0D45A4446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1AB1-58C0-40F4-A33F-50CF03659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6366-B618-45CC-9C43-C7CF09D9F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F909-AB12-4076-A5E1-FB789C10A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8B50-47BF-46AD-AB95-E0306BFB9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DB7B-5E56-4ED5-BEC9-1F492C29B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745E-939E-4223-A443-899E0B742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744D-0C44-4DD8-A1C4-9297014C3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241C-0C62-4731-B58C-4E73ED5FC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A8EB-5D86-41B6-B61B-1E9EF076C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08D7-136F-4EFA-A872-0E8431A2A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0A0E-0A47-4954-9A89-3DC3F3BCB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212DB-1DE8-4B98-AAFD-6DC23EDCC5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birs36.ru/site/modules/coppermine/albums/userpics/10009/osenni_peizag2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"/>
              </a:rPr>
              <a:t>КРАТКИЕ И ПОЛНЫЕ ПРИЧАСТ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rush Script MT"/>
              </a:rPr>
              <a:t>Цел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rush Script MT"/>
              </a:rPr>
              <a:t>дать понятие о кратком причасти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rush Script MT"/>
              </a:rPr>
              <a:t>его синтаксической рол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rush Script MT"/>
              </a:rPr>
              <a:t>формировать умение различать полные и краткие причасти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rush Script MT"/>
              </a:rPr>
              <a:t>использовать причастия в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Вивальди.mp3" descr=""/>
          <p:cNvPicPr/>
          <p:nvPr/>
        </p:nvPicPr>
        <p:blipFill>
          <a:blip r:embed="rId1"/>
          <a:stretch/>
        </p:blipFill>
        <p:spPr>
          <a:xfrm>
            <a:off x="860436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164023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Картинка 48 из 23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333360"/>
            <a:ext cx="849780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93440" y="-150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8920" y="18900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мысле выделения мусора и нечистот никто не может сравниться с человеком – ни птица, ни зверь. Берега рек, когда-то цветущие поляны теперь в стекле, бумаге, полиэтилене – гуляки жгут костры, пьют, жуют, бьют, ломают, гадят… И никто, никто не прибирает за собо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глохла земля, коростой покрылась. Если что и растет на ней, то растет в заглушье, украдкой, растет кривобоко – изуродованное, пораненное, битое, обожженное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ветет малопроточная вода, перестала цвести черемуха, не полыхают более цветы – они вытоптаны, вырваны с корнем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омнитесь, люди! Земля в бед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Н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с краткими причастия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                  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Н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загрязне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                  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Н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отравле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                  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Н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вытопта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                  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Н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вырва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                  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Н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изуродова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0000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31049"/>
          <p:cNvPicPr/>
          <p:nvPr/>
        </p:nvPicPr>
        <p:blipFill>
          <a:blip r:embed="rId1"/>
          <a:stretch/>
        </p:blipFill>
        <p:spPr>
          <a:xfrm>
            <a:off x="324000" y="333360"/>
            <a:ext cx="8569080" cy="6335640"/>
          </a:xfrm>
          <a:prstGeom prst="rect">
            <a:avLst/>
          </a:prstGeom>
          <a:ln w="0">
            <a:noFill/>
          </a:ln>
        </p:spPr>
      </p:pic>
      <p:pic>
        <p:nvPicPr>
          <p:cNvPr id="54" name="ВРЕМЕНА ГОДА.лЕТО.mp3" descr=""/>
          <p:cNvPicPr/>
          <p:nvPr/>
        </p:nvPicPr>
        <p:blipFill>
          <a:blip r:embed="rId2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41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зминка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ЕРИТЕ ЛИ ВЫ, ЧТО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частия – изменяемая форма глагол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частия своим вопросом похожи на прилагательны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частия не имеют ничего общего с глаголо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причастий нет будущего времен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причастий не может быть краткой форм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причастий нет зависимых сло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частия бывают действительные и страдательны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частия в предложении выполняют роль определен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можете найти причастие в текст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знайте причаст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красная по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вещенная поля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олдованный ле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треннее солн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сёлые кр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ёртвая тиш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ящий ле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снеженные кус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устевшие по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ликолепный д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8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0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6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2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Rectangle 3" descr=""/>
          <p:cNvPicPr/>
          <p:nvPr/>
        </p:nvPicPr>
        <p:blipFill>
          <a:blip r:embed="rId1"/>
          <a:stretch/>
        </p:blipFill>
        <p:spPr>
          <a:xfrm>
            <a:off x="281160" y="1536840"/>
            <a:ext cx="839304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равнит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лное причаст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свещён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–свещ-ё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нн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раткое причаст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свеще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-свещ-е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н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6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1" dur="2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6" dur="2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1" dur="2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6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1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6" dur="2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Rectangle 2" descr=""/>
          <p:cNvPicPr/>
          <p:nvPr/>
        </p:nvPicPr>
        <p:blipFill>
          <a:blip r:embed="rId1"/>
          <a:stretch/>
        </p:blipFill>
        <p:spPr>
          <a:xfrm>
            <a:off x="219240" y="-55440"/>
            <a:ext cx="8480160" cy="18478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меняю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числа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ед. числе – по рода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падеж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предложении являются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пределени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меняю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числа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ед. числе – по рода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склоняю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предложении являются 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сказуемы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2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2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2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2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2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2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2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2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2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2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2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2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2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2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2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2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ставить буквы, расставить знаки препин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..пинка засыпа(нн,н)а листьями;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с осв..щённый луч..ми;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ч..рова(нн,н)ы зап..хом леса; бл(е,и)стающие золотом;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епещ(ю,у)щие б..гровым плам..нем; ра(з,с)шитый ковёр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жар вечерн..й з..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ь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59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нка засыпа(нн,н)а листьями;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с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осв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щённый луч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;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ч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ва(нн,н)ы зап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ом леса; бл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ающие золотом;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епещ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у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щие б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овым плам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м; ра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итый ковёр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жар вечерн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й з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Ink 7" descr=""/>
          <p:cNvPicPr/>
          <p:nvPr/>
        </p:nvPicPr>
        <p:blipFill>
          <a:blip r:embed="rId1"/>
          <a:stretch/>
        </p:blipFill>
        <p:spPr>
          <a:xfrm>
            <a:off x="3978360" y="1682640"/>
            <a:ext cx="471240" cy="517680"/>
          </a:xfrm>
          <a:prstGeom prst="rect">
            <a:avLst/>
          </a:prstGeom>
          <a:ln w="0">
            <a:noFill/>
          </a:ln>
        </p:spPr>
      </p:pic>
      <p:pic>
        <p:nvPicPr>
          <p:cNvPr id="72" name="Ink 8" descr=""/>
          <p:cNvPicPr/>
          <p:nvPr/>
        </p:nvPicPr>
        <p:blipFill>
          <a:blip r:embed="rId2"/>
          <a:stretch/>
        </p:blipFill>
        <p:spPr>
          <a:xfrm>
            <a:off x="2147484240" y="214748424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73" name="Ink 7" descr=""/>
          <p:cNvPicPr/>
          <p:nvPr/>
        </p:nvPicPr>
        <p:blipFill>
          <a:blip r:embed="rId3"/>
          <a:stretch/>
        </p:blipFill>
        <p:spPr>
          <a:xfrm>
            <a:off x="2322360" y="2619360"/>
            <a:ext cx="471600" cy="517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20:12:05Z</dcterms:created>
  <dc:creator>Zver</dc:creator>
  <dc:description/>
  <dc:language>en-US</dc:language>
  <cp:lastModifiedBy>Пономаренко</cp:lastModifiedBy>
  <dcterms:modified xsi:type="dcterms:W3CDTF">2013-11-12T17:11:45Z</dcterms:modified>
  <cp:revision>39</cp:revision>
  <dc:subject/>
  <dc:title>КРАТКИЕ ПРИЧАСТ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uthorSkypeName">
    <vt:lpwstr>elka.59</vt:lpwstr>
  </property>
</Properties>
</file>