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70C-2529-4787-B067-7E1AA4B6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0EF-F029-4A94-8FE5-30D9D79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F9C-7AAF-47AB-822E-625B8F18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1E9-0B6A-491D-A8CE-062A1FCC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592-8B0E-49CF-BF6D-547F8678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9E4-9C50-4F9C-92ED-97C3EF2D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02E-FBF7-4A0D-8D95-1036ECE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423-AEFC-4746-8E4E-AAE6F2E0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90F-6706-4219-A7F2-9E1F76F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B89-C9DB-4A44-AF19-0CA46DA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59A-DCC8-4A8E-A968-BEDE68A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FD1-C714-4D8F-8D8F-C6DE885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97CB-0F5F-415A-A0DD-5399C1FD5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638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3360" y="137160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213372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720" y="3276720"/>
            <a:ext cx="575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множення на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3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6200" y="2141640"/>
            <a:ext cx="723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009900"/>
                </a:solidFill>
                <a:latin typeface="Arial"/>
              </a:rPr>
              <a:t>Гарни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009900"/>
                </a:solidFill>
                <a:latin typeface="Arial"/>
              </a:rPr>
              <a:t>результа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7314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5469" y="3794"/>
                </a:lnTo>
                <a:lnTo>
                  <a:pt x="5469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1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3</a:t>
            </a:r>
            <a:r>
              <a:rPr b="1" lang="el-GR" sz="5400" spc="-1" strike="noStrike">
                <a:solidFill>
                  <a:srgbClr val="ff3333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ff3333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4:25:27Z</dcterms:created>
  <dc:creator>мик</dc:creator>
  <dc:description/>
  <dc:language>en-US</dc:language>
  <cp:lastModifiedBy>мик</cp:lastModifiedBy>
  <dcterms:modified xsi:type="dcterms:W3CDTF">2017-03-14T18:35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