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DB8-3437-4EFB-9E18-EFDB3F2E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F6E-69A1-45AA-A567-C1C1CFE3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984-B5CF-4E5A-BDFB-DD3F5997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947-2952-4832-A8D6-7492745C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7A9-3C50-4B50-8095-F98AF7DB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B20-B787-4DCD-8180-B2C38DB4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708-E3F0-41A4-B6F8-A1F9F917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032-0FA1-4874-972F-D30DD08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291-5B61-4FEE-9765-9041F2F6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2EC-FB82-4C38-A7D0-67B0D36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45C-F4D8-4334-AAF3-692E6800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7C8-3C5A-40E7-B87E-C776282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1E6D-1621-4E0A-B2A4-B0E404E6F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" action="ppaction://hlinkshowjump?jump=nex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191240" y="190512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47560" y="266688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614960" y="3429000"/>
            <a:ext cx="575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множення на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2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3"/>
          <p:cNvSpPr/>
          <p:nvPr/>
        </p:nvSpPr>
        <p:spPr>
          <a:xfrm>
            <a:off x="1559880" y="2041560"/>
            <a:ext cx="605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007a5a"/>
                </a:solidFill>
                <a:latin typeface="Arial"/>
              </a:rPr>
              <a:t>Гарни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007a5a"/>
                </a:solidFill>
                <a:latin typeface="Arial"/>
              </a:rPr>
              <a:t>результ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fir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4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>
            <a:hlinkClick r:id="rId5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>
            <a:hlinkClick r:id="rId6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>
            <a:hlinkClick r:id="rId7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>
            <a:hlinkClick r:id="rId8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rId9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>
            <a:hlinkClick r:id="rId10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el-GR" sz="6000" spc="-1" strike="noStrike">
                <a:solidFill>
                  <a:srgbClr val="d60093"/>
                </a:solidFill>
                <a:latin typeface="Arial"/>
              </a:rPr>
              <a:t>·</a:t>
            </a: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4:55:47Z</dcterms:created>
  <dc:creator>мик</dc:creator>
  <dc:description/>
  <dc:language>en-US</dc:language>
  <cp:lastModifiedBy>мик</cp:lastModifiedBy>
  <dcterms:modified xsi:type="dcterms:W3CDTF">2018-10-02T18:00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