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C1A-8A11-4A01-BF4C-21249BD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4E7-C5A3-4E78-8F33-9A49F38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E7D-5A27-4B46-A772-9DA66B45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60A-D82A-4A18-BAB7-76272887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C7B-54CC-43E8-AFC4-744D6540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3F8-C0F5-414A-9A37-1EA4104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675-31FA-4A3B-AA5F-3BFE229F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0C6-1CED-4EC9-A6B7-8212EAD5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8D6-6D31-4484-98CB-392E823E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668-B8B2-4714-9684-EE76A8F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193-BFB4-472F-AC9C-D2F543D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265-9976-4CA8-A03B-02AB835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5A3B-D594-4259-A292-E8CD49209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3760" y="838080"/>
            <a:ext cx="467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кла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02840" y="3200400"/>
            <a:ext cx="69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Додавання в межах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720" y="571500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читель Тарасівської  З О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 – ІІІ ступені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есарабець Л. 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1228680" cy="162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890000">
            <a:off x="4495320" y="4800600"/>
            <a:ext cx="15066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038480" y="1862280"/>
            <a:ext cx="106704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325" name="" descr=""/>
            <p:cNvPicPr/>
            <p:nvPr/>
          </p:nvPicPr>
          <p:blipFill>
            <a:blip r:embed="rId6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331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337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4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62120" y="1143000"/>
            <a:ext cx="746748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3333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ГАРНИЙ</a:t>
            </a:r>
            <a:endParaRPr b="1" lang="en-US" sz="1800" spc="1" strike="noStrike">
              <a:ln w="31680">
                <a:solidFill>
                  <a:srgbClr val="3333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3333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РЕЗУЛЬТАТ</a:t>
            </a:r>
            <a:endParaRPr b="1" lang="en-US" sz="1800" spc="1" strike="noStrike">
              <a:ln w="31680">
                <a:solidFill>
                  <a:srgbClr val="3333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06704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1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76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43800" y="3005280"/>
            <a:ext cx="1066680" cy="110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103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106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2014560"/>
            <a:ext cx="106704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1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33920" y="4986360"/>
            <a:ext cx="10666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3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166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175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1067040" cy="1109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4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196" name="" descr=""/>
            <p:cNvPicPr/>
            <p:nvPr/>
          </p:nvPicPr>
          <p:blipFill>
            <a:blip r:embed="rId7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202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162920" y="5062680"/>
            <a:ext cx="1066680" cy="110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238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241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391520" y="566640"/>
            <a:ext cx="1066680" cy="1109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2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265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268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271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274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76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afe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4622040" y="3130920"/>
            <a:ext cx="2849760" cy="2882160"/>
            <a:chOff x="4622040" y="3130920"/>
            <a:chExt cx="2849760" cy="288216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 rot="1890000">
              <a:off x="5029200" y="3505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563440" y="39672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0720" y="5138640"/>
            <a:ext cx="1066680" cy="1109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43280" cy="375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71800" y="152280"/>
            <a:ext cx="2209680" cy="990720"/>
          </a:xfrm>
          <a:prstGeom prst="wedgeEllipseCallout">
            <a:avLst>
              <a:gd name="adj1" fmla="val -71337"/>
              <a:gd name="adj2" fmla="val 34777"/>
            </a:avLst>
          </a:prstGeom>
          <a:solidFill>
            <a:srgbClr val="ff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800" y="-111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3+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396840" y="4045320"/>
            <a:ext cx="2849760" cy="2882160"/>
            <a:chOff x="6396840" y="4045320"/>
            <a:chExt cx="2849760" cy="288216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 rot="1890000">
              <a:off x="6804000" y="44197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386120" y="48304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88880" y="2153520"/>
            <a:ext cx="2747880" cy="2779200"/>
            <a:chOff x="6788880" y="2153520"/>
            <a:chExt cx="2747880" cy="2779200"/>
          </a:xfrm>
        </p:grpSpPr>
        <p:pic>
          <p:nvPicPr>
            <p:cNvPr id="289" name="" descr=""/>
            <p:cNvPicPr/>
            <p:nvPr/>
          </p:nvPicPr>
          <p:blipFill>
            <a:blip r:embed="rId5"/>
            <a:stretch/>
          </p:blipFill>
          <p:spPr>
            <a:xfrm rot="1890000">
              <a:off x="7181640" y="2514240"/>
              <a:ext cx="1962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755840" y="2971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231520" y="1073520"/>
            <a:ext cx="2849760" cy="2882160"/>
            <a:chOff x="5231520" y="1073520"/>
            <a:chExt cx="2849760" cy="2882160"/>
          </a:xfrm>
        </p:grpSpPr>
        <p:pic>
          <p:nvPicPr>
            <p:cNvPr id="292" name="" descr=""/>
            <p:cNvPicPr/>
            <p:nvPr/>
          </p:nvPicPr>
          <p:blipFill>
            <a:blip r:embed="rId6"/>
            <a:stretch/>
          </p:blipFill>
          <p:spPr>
            <a:xfrm rot="1890000">
              <a:off x="5638680" y="14479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14320" y="18288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945160" y="4121280"/>
            <a:ext cx="2850120" cy="2882520"/>
            <a:chOff x="2945160" y="4121280"/>
            <a:chExt cx="2850120" cy="2882520"/>
          </a:xfrm>
        </p:grpSpPr>
        <p:pic>
          <p:nvPicPr>
            <p:cNvPr id="295" name="" descr=""/>
            <p:cNvPicPr/>
            <p:nvPr/>
          </p:nvPicPr>
          <p:blipFill>
            <a:blip r:embed="rId7"/>
            <a:stretch/>
          </p:blipFill>
          <p:spPr>
            <a:xfrm rot="1890000">
              <a:off x="3352680" y="4495680"/>
              <a:ext cx="2035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957120" y="4979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174120" y="844920"/>
            <a:ext cx="2849760" cy="2882160"/>
            <a:chOff x="3174120" y="844920"/>
            <a:chExt cx="2849760" cy="2882160"/>
          </a:xfrm>
        </p:grpSpPr>
        <p:pic>
          <p:nvPicPr>
            <p:cNvPr id="298" name="" descr=""/>
            <p:cNvPicPr/>
            <p:nvPr/>
          </p:nvPicPr>
          <p:blipFill>
            <a:blip r:embed="rId8"/>
            <a:stretch/>
          </p:blipFill>
          <p:spPr>
            <a:xfrm rot="1890000">
              <a:off x="3581280" y="1219320"/>
              <a:ext cx="20350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156920" y="16765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41920" y="2431440"/>
            <a:ext cx="2952000" cy="2985480"/>
            <a:chOff x="2041920" y="2431440"/>
            <a:chExt cx="2952000" cy="2985480"/>
          </a:xfrm>
        </p:grpSpPr>
        <p:pic>
          <p:nvPicPr>
            <p:cNvPr id="301" name="" descr=""/>
            <p:cNvPicPr/>
            <p:nvPr/>
          </p:nvPicPr>
          <p:blipFill>
            <a:blip r:embed="rId9"/>
            <a:stretch/>
          </p:blipFill>
          <p:spPr>
            <a:xfrm rot="1890000">
              <a:off x="2463480" y="2819160"/>
              <a:ext cx="2108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098520" y="33717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760" y="4081320"/>
            <a:ext cx="3155040" cy="3191040"/>
            <a:chOff x="5760" y="4081320"/>
            <a:chExt cx="3155040" cy="3191040"/>
          </a:xfrm>
        </p:grpSpPr>
        <p:pic>
          <p:nvPicPr>
            <p:cNvPr id="304" name="" descr=""/>
            <p:cNvPicPr/>
            <p:nvPr/>
          </p:nvPicPr>
          <p:blipFill>
            <a:blip r:embed="rId10"/>
            <a:stretch/>
          </p:blipFill>
          <p:spPr>
            <a:xfrm rot="1890000">
              <a:off x="456840" y="4495680"/>
              <a:ext cx="22525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440" y="5184720"/>
              <a:ext cx="119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83320" y="-369360"/>
            <a:ext cx="2810160" cy="2841840"/>
            <a:chOff x="6583320" y="-369360"/>
            <a:chExt cx="2810160" cy="2841840"/>
          </a:xfrm>
        </p:grpSpPr>
        <p:pic>
          <p:nvPicPr>
            <p:cNvPr id="307" name="" descr=""/>
            <p:cNvPicPr/>
            <p:nvPr/>
          </p:nvPicPr>
          <p:blipFill>
            <a:blip r:embed="rId11"/>
            <a:stretch/>
          </p:blipFill>
          <p:spPr>
            <a:xfrm rot="1890000">
              <a:off x="6984720" y="0"/>
              <a:ext cx="2006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568640" y="38088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152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152280" y="56386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afe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20:34:14Z</dcterms:created>
  <dc:creator>мик</dc:creator>
  <dc:description/>
  <dc:language>en-US</dc:language>
  <cp:lastModifiedBy>мик</cp:lastModifiedBy>
  <dcterms:modified xsi:type="dcterms:W3CDTF">2015-12-01T18:5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