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A88-F64A-498B-A369-20B2AA71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AEF-4726-4025-AC70-D6D3A2A5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0C0-7E02-4358-8334-30DCC8B7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4DC-CBBA-43E9-A699-D43E3428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9F95-400D-4151-B13B-FC25D4D2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C2B7-1000-4B3A-9CD9-05EE647B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00FC-567C-4B28-B33E-9D44841E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6515-2C39-45B6-86DD-E6300B69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E693-4ECD-42FC-911E-C0386683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689A-B11F-46B2-95B6-BBA7BBFA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4AEF-B019-4B4E-81CE-BEE7BA0A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163-3867-403E-A519-B7758CF5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34AB-FA5C-4B4B-B46C-5E55E915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D834-D215-465F-80A0-59940BB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93E9-7A95-420D-B88A-A8D3F2F0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ADB0-AACD-4752-A5D0-1D8B1D16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EDC9-A4BD-423D-9B4F-77A125E1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7FE-E3B0-454D-A0EE-C6906721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291-9248-451F-BD9C-3F09264B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46F-FE65-4630-8E21-1F12B66B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EB6-2037-4FBF-A3B0-D7C707DC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2E8-57AF-4566-B03E-2B07BB3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0F0-F277-4DF0-BB66-7BA1AF2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C83-4B7C-4112-ABA2-08F8F745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EE68-3A26-40C0-B3AB-A0B78AC6D2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79D3-253B-4D80-B477-9998AA53FA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3399"/>
                </a:solidFill>
                <a:latin typeface="Arial"/>
              </a:rPr>
              <a:t>Т</a:t>
            </a:r>
            <a:r>
              <a:rPr b="1" lang="uk-UA" sz="9600" spc="-1" strike="noStrike">
                <a:solidFill>
                  <a:srgbClr val="00ff00"/>
                </a:solidFill>
                <a:latin typeface="Arial"/>
              </a:rPr>
              <a:t>А</a:t>
            </a:r>
            <a:r>
              <a:rPr b="1" lang="uk-UA" sz="9600" spc="-1" strike="noStrike">
                <a:solidFill>
                  <a:srgbClr val="00ccff"/>
                </a:solidFill>
                <a:latin typeface="Arial"/>
              </a:rPr>
              <a:t>Н</a:t>
            </a: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1" lang="uk-UA" sz="9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uk-UA" sz="9600" spc="-1" strike="noStrike">
                <a:solidFill>
                  <a:srgbClr val="99ff33"/>
                </a:solidFill>
                <a:latin typeface="Arial"/>
              </a:rPr>
              <a:t>А</a:t>
            </a:r>
            <a:r>
              <a:rPr b="1" lang="uk-UA" sz="9600" spc="-1" strike="noStrike">
                <a:solidFill>
                  <a:srgbClr val="ff3399"/>
                </a:solidFill>
                <a:latin typeface="Arial"/>
              </a:rPr>
              <a:t>М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2560" y="3860280"/>
            <a:ext cx="701676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ffff"/>
                </a:solidFill>
                <a:latin typeface="Arial"/>
              </a:rPr>
              <a:t>Головоломка “Танграм” розвиває кмітливість та абстрактне мислен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473840" y="260280"/>
            <a:ext cx="6744240" cy="6183360"/>
            <a:chOff x="1473840" y="260280"/>
            <a:chExt cx="6744240" cy="6183360"/>
          </a:xfrm>
        </p:grpSpPr>
        <p:sp>
          <p:nvSpPr>
            <p:cNvPr id="233" name=""/>
            <p:cNvSpPr/>
            <p:nvPr/>
          </p:nvSpPr>
          <p:spPr>
            <a:xfrm rot="16200000">
              <a:off x="3412800" y="2309760"/>
              <a:ext cx="2154240" cy="447516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ff"/>
            </a:solidFill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4851000" y="3076200"/>
              <a:ext cx="2151000" cy="458316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ff"/>
            </a:solidFill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6143400" y="776160"/>
              <a:ext cx="2154240" cy="112212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ff"/>
            </a:solidFill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649000">
              <a:off x="1907640" y="1628640"/>
              <a:ext cx="2238480" cy="215424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ff"/>
            </a:solidFill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47640" y="836640"/>
              <a:ext cx="2238480" cy="107640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ff"/>
            </a:solidFill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4542480" y="1226160"/>
              <a:ext cx="2154240" cy="2238120"/>
            </a:xfrm>
            <a:prstGeom prst="rtTriangle">
              <a:avLst/>
            </a:prstGeom>
            <a:solidFill>
              <a:srgbClr val="00ffff"/>
            </a:solidFill>
            <a:ln w="88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rot="5348400">
              <a:off x="5589360" y="2410560"/>
              <a:ext cx="3343320" cy="105732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593360" y="66240"/>
            <a:ext cx="6066360" cy="6491880"/>
            <a:chOff x="1593360" y="66240"/>
            <a:chExt cx="6066360" cy="6491880"/>
          </a:xfrm>
        </p:grpSpPr>
        <p:sp>
          <p:nvSpPr>
            <p:cNvPr id="242" name=""/>
            <p:cNvSpPr/>
            <p:nvPr/>
          </p:nvSpPr>
          <p:spPr>
            <a:xfrm rot="18877200">
              <a:off x="2522880" y="1357920"/>
              <a:ext cx="1719360" cy="312408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ff00"/>
            </a:solidFill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8070000">
              <a:off x="3693600" y="2506320"/>
              <a:ext cx="1717920" cy="312408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ff00"/>
            </a:solidFill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8200200">
              <a:off x="1763640" y="549000"/>
              <a:ext cx="1719360" cy="78264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ff00"/>
            </a:solidFill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35400" y="4967280"/>
              <a:ext cx="1719360" cy="156204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ff00"/>
            </a:solidFill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0360" y="5805360"/>
              <a:ext cx="1719360" cy="75276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ff00"/>
            </a:solidFill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894400">
              <a:off x="1888560" y="2752920"/>
              <a:ext cx="1720800" cy="156204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211640" y="5804640"/>
              <a:ext cx="2579760" cy="73836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8877200">
            <a:off x="2522880" y="1357920"/>
            <a:ext cx="1719360" cy="312408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8070000">
            <a:off x="3693600" y="2506320"/>
            <a:ext cx="1717920" cy="312408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8200200">
            <a:off x="1763640" y="549000"/>
            <a:ext cx="1719360" cy="78264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35400" y="4967280"/>
            <a:ext cx="1719360" cy="1562040"/>
          </a:xfrm>
          <a:custGeom>
            <a:avLst/>
            <a:gdLst/>
            <a:ahLst/>
            <a:rect l="l" t="t" r="r" b="b"/>
            <a:pathLst>
              <a:path w="2160" h="2160">
                <a:moveTo>
                  <a:pt x="1080" y="0"/>
                </a:moveTo>
                <a:lnTo>
                  <a:pt x="0" y="1080"/>
                </a:lnTo>
                <a:lnTo>
                  <a:pt x="1080" y="216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0360" y="5805360"/>
            <a:ext cx="1719360" cy="75276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2894400">
            <a:off x="1888560" y="2752920"/>
            <a:ext cx="1720800" cy="1562040"/>
          </a:xfrm>
          <a:prstGeom prst="rtTriangle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211640" y="5804640"/>
            <a:ext cx="2579760" cy="738360"/>
          </a:xfrm>
          <a:custGeom>
            <a:avLst/>
            <a:gdLst/>
            <a:ahLst/>
            <a:rect l="l" t="t" r="r" b="b"/>
            <a:pathLst>
              <a:path w="3240" h="1080">
                <a:moveTo>
                  <a:pt x="0" y="0"/>
                </a:moveTo>
                <a:lnTo>
                  <a:pt x="2160" y="0"/>
                </a:lnTo>
                <a:lnTo>
                  <a:pt x="3240" y="1080"/>
                </a:lnTo>
                <a:lnTo>
                  <a:pt x="1080" y="108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8094600">
            <a:off x="3042720" y="542880"/>
            <a:ext cx="1911240" cy="383832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66ff"/>
          </a:solidFill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2715600">
            <a:off x="4455000" y="1545480"/>
            <a:ext cx="1909800" cy="383868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66ff"/>
          </a:solidFill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4224240" y="5092200"/>
            <a:ext cx="1911240" cy="96192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66ff"/>
          </a:solidFill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8878400">
            <a:off x="5812560" y="1100520"/>
            <a:ext cx="1909440" cy="1920960"/>
          </a:xfrm>
          <a:custGeom>
            <a:avLst/>
            <a:gdLst/>
            <a:ahLst/>
            <a:rect l="l" t="t" r="r" b="b"/>
            <a:pathLst>
              <a:path w="2160" h="2160">
                <a:moveTo>
                  <a:pt x="1080" y="0"/>
                </a:moveTo>
                <a:lnTo>
                  <a:pt x="0" y="1080"/>
                </a:lnTo>
                <a:lnTo>
                  <a:pt x="1080" y="216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66ff"/>
          </a:solidFill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0280" y="404640"/>
            <a:ext cx="1919160" cy="95580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66ff"/>
          </a:solidFill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8088600">
            <a:off x="2385720" y="799920"/>
            <a:ext cx="1911240" cy="1920600"/>
          </a:xfrm>
          <a:prstGeom prst="rtTriangle">
            <a:avLst/>
          </a:prstGeom>
          <a:solidFill>
            <a:srgbClr val="ff66ff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rot="5215800">
            <a:off x="1047600" y="2775240"/>
            <a:ext cx="2865240" cy="860400"/>
          </a:xfrm>
          <a:custGeom>
            <a:avLst/>
            <a:gdLst/>
            <a:ahLst/>
            <a:rect l="l" t="t" r="r" b="b"/>
            <a:pathLst>
              <a:path w="3240" h="1080">
                <a:moveTo>
                  <a:pt x="0" y="0"/>
                </a:moveTo>
                <a:lnTo>
                  <a:pt x="2160" y="0"/>
                </a:lnTo>
                <a:lnTo>
                  <a:pt x="3240" y="1080"/>
                </a:lnTo>
                <a:lnTo>
                  <a:pt x="1080" y="1080"/>
                </a:lnTo>
                <a:lnTo>
                  <a:pt x="0" y="0"/>
                </a:lnTo>
                <a:close/>
              </a:path>
            </a:pathLst>
          </a:custGeom>
          <a:solidFill>
            <a:srgbClr val="ff66ff"/>
          </a:solidFill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903680" y="404640"/>
            <a:ext cx="6217920" cy="6124320"/>
            <a:chOff x="1903680" y="404640"/>
            <a:chExt cx="6217920" cy="6124320"/>
          </a:xfrm>
        </p:grpSpPr>
        <p:sp>
          <p:nvSpPr>
            <p:cNvPr id="267" name=""/>
            <p:cNvSpPr/>
            <p:nvPr/>
          </p:nvSpPr>
          <p:spPr>
            <a:xfrm rot="8094600">
              <a:off x="3043440" y="542160"/>
              <a:ext cx="1910880" cy="383904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66ff"/>
            </a:solidFill>
            <a:ln w="572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715600">
              <a:off x="4455000" y="1545120"/>
              <a:ext cx="1908360" cy="383904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66ff"/>
            </a:solidFill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4224240" y="5092200"/>
              <a:ext cx="1910880" cy="96228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66ff"/>
            </a:solidFill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878400">
              <a:off x="5811480" y="1100880"/>
              <a:ext cx="1910880" cy="191952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66ff"/>
            </a:solidFill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09560" y="404640"/>
              <a:ext cx="1919520" cy="95544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66ff"/>
            </a:solidFill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088600">
              <a:off x="2385720" y="800640"/>
              <a:ext cx="1910880" cy="1919520"/>
            </a:xfrm>
            <a:prstGeom prst="rtTriangle">
              <a:avLst/>
            </a:prstGeom>
            <a:solidFill>
              <a:srgbClr val="ff66ff"/>
            </a:solid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5215800">
              <a:off x="975960" y="2812680"/>
              <a:ext cx="2866320" cy="85932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ff"/>
            </a:solidFill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835280" y="221760"/>
            <a:ext cx="5258880" cy="6885720"/>
            <a:chOff x="1835280" y="221760"/>
            <a:chExt cx="5258880" cy="6885720"/>
          </a:xfrm>
        </p:grpSpPr>
        <p:sp>
          <p:nvSpPr>
            <p:cNvPr id="276" name=""/>
            <p:cNvSpPr/>
            <p:nvPr/>
          </p:nvSpPr>
          <p:spPr>
            <a:xfrm rot="10800000">
              <a:off x="5425560" y="2776680"/>
              <a:ext cx="1668600" cy="309384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2360" y="1557360"/>
              <a:ext cx="1665360" cy="309384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0800000">
              <a:off x="1835280" y="2349360"/>
              <a:ext cx="1668240" cy="77472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08360" y="765000"/>
              <a:ext cx="1668600" cy="154656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8131200">
              <a:off x="4811400" y="5860440"/>
              <a:ext cx="1668240" cy="77292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0638600">
              <a:off x="4024080" y="259920"/>
              <a:ext cx="1668240" cy="1546200"/>
            </a:xfrm>
            <a:prstGeom prst="rtTriangle">
              <a:avLst/>
            </a:prstGeom>
            <a:solidFill>
              <a:srgbClr val="00ff00"/>
            </a:solidFill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3324800">
              <a:off x="2625840" y="3319200"/>
              <a:ext cx="2319120" cy="74268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5425560" y="2776680"/>
            <a:ext cx="1668600" cy="309384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00ff00"/>
          </a:solidFill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62360" y="1557360"/>
            <a:ext cx="1665360" cy="309384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1835280" y="2349360"/>
            <a:ext cx="1668240" cy="77472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8360" y="765000"/>
            <a:ext cx="1668600" cy="1546560"/>
          </a:xfrm>
          <a:custGeom>
            <a:avLst/>
            <a:gdLst/>
            <a:ahLst/>
            <a:rect l="l" t="t" r="r" b="b"/>
            <a:pathLst>
              <a:path w="2160" h="2160">
                <a:moveTo>
                  <a:pt x="1080" y="0"/>
                </a:moveTo>
                <a:lnTo>
                  <a:pt x="0" y="1080"/>
                </a:lnTo>
                <a:lnTo>
                  <a:pt x="1080" y="216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8131200">
            <a:off x="4811400" y="5860440"/>
            <a:ext cx="1668240" cy="77292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0638600">
            <a:off x="4024080" y="259920"/>
            <a:ext cx="1668240" cy="1546200"/>
          </a:xfrm>
          <a:prstGeom prst="rtTriangle">
            <a:avLst/>
          </a:prstGeom>
          <a:solidFill>
            <a:srgbClr val="00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 rot="13324800">
            <a:off x="2625840" y="3319200"/>
            <a:ext cx="2319120" cy="742680"/>
          </a:xfrm>
          <a:custGeom>
            <a:avLst/>
            <a:gdLst/>
            <a:ahLst/>
            <a:rect l="l" t="t" r="r" b="b"/>
            <a:pathLst>
              <a:path w="3240" h="1080">
                <a:moveTo>
                  <a:pt x="0" y="0"/>
                </a:moveTo>
                <a:lnTo>
                  <a:pt x="2160" y="0"/>
                </a:lnTo>
                <a:lnTo>
                  <a:pt x="3240" y="1080"/>
                </a:lnTo>
                <a:lnTo>
                  <a:pt x="1080" y="108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357200" y="142560"/>
            <a:ext cx="5616360" cy="7174440"/>
            <a:chOff x="1357200" y="142560"/>
            <a:chExt cx="5616360" cy="7174440"/>
          </a:xfrm>
        </p:grpSpPr>
        <p:sp>
          <p:nvSpPr>
            <p:cNvPr id="293" name=""/>
            <p:cNvSpPr/>
            <p:nvPr/>
          </p:nvSpPr>
          <p:spPr>
            <a:xfrm rot="11209800">
              <a:off x="4890600" y="1544400"/>
              <a:ext cx="1795680" cy="326232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9933"/>
            </a:solidFill>
            <a:ln w="763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4082600">
              <a:off x="3986280" y="3817800"/>
              <a:ext cx="1630080" cy="359244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9933"/>
            </a:solidFill>
            <a:ln w="763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9546800">
              <a:off x="2916000" y="4370040"/>
              <a:ext cx="1795320" cy="81108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9933"/>
            </a:solidFill>
            <a:ln w="763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5800">
              <a:off x="5079600" y="687240"/>
              <a:ext cx="1795680" cy="163224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9933"/>
            </a:solidFill>
            <a:ln w="763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3989600">
              <a:off x="4851720" y="5593320"/>
              <a:ext cx="1631880" cy="89712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9933"/>
            </a:solidFill>
            <a:ln w="763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883000">
              <a:off x="4690080" y="178200"/>
              <a:ext cx="1631880" cy="1795680"/>
            </a:xfrm>
            <a:prstGeom prst="rtTriangle">
              <a:avLst/>
            </a:prstGeom>
            <a:solidFill>
              <a:srgbClr val="ff9933"/>
            </a:solidFill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8677800">
              <a:off x="1331640" y="5227920"/>
              <a:ext cx="2693880" cy="77148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889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1209800">
            <a:off x="4890600" y="1544400"/>
            <a:ext cx="1795680" cy="326232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9933"/>
          </a:solidFill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4082600">
            <a:off x="3986280" y="3817800"/>
            <a:ext cx="1630080" cy="359244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9933"/>
          </a:solidFill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9546800">
            <a:off x="2916000" y="4370040"/>
            <a:ext cx="1795320" cy="81108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9933"/>
          </a:solidFill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445800">
            <a:off x="5079600" y="687240"/>
            <a:ext cx="1795680" cy="1632240"/>
          </a:xfrm>
          <a:custGeom>
            <a:avLst/>
            <a:gdLst/>
            <a:ahLst/>
            <a:rect l="l" t="t" r="r" b="b"/>
            <a:pathLst>
              <a:path w="2160" h="2160">
                <a:moveTo>
                  <a:pt x="1080" y="0"/>
                </a:moveTo>
                <a:lnTo>
                  <a:pt x="0" y="1080"/>
                </a:lnTo>
                <a:lnTo>
                  <a:pt x="1080" y="216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9933"/>
          </a:solidFill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3989600">
            <a:off x="4851720" y="5593320"/>
            <a:ext cx="1631880" cy="89712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9933"/>
          </a:solidFill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883000">
            <a:off x="4690080" y="178200"/>
            <a:ext cx="1631880" cy="1795680"/>
          </a:xfrm>
          <a:prstGeom prst="rtTriangle">
            <a:avLst/>
          </a:prstGeom>
          <a:solidFill>
            <a:srgbClr val="ff9933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 rot="8677800">
            <a:off x="1331640" y="5227920"/>
            <a:ext cx="2693880" cy="771480"/>
          </a:xfrm>
          <a:custGeom>
            <a:avLst/>
            <a:gdLst/>
            <a:ahLst/>
            <a:rect l="l" t="t" r="r" b="b"/>
            <a:pathLst>
              <a:path w="3240" h="1080">
                <a:moveTo>
                  <a:pt x="0" y="0"/>
                </a:moveTo>
                <a:lnTo>
                  <a:pt x="2160" y="0"/>
                </a:lnTo>
                <a:lnTo>
                  <a:pt x="3240" y="1080"/>
                </a:lnTo>
                <a:lnTo>
                  <a:pt x="1080" y="1080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 w="889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32000" y="-192960"/>
            <a:ext cx="6648480" cy="7959600"/>
            <a:chOff x="1332000" y="-192960"/>
            <a:chExt cx="6648480" cy="7959600"/>
          </a:xfrm>
        </p:grpSpPr>
        <p:sp>
          <p:nvSpPr>
            <p:cNvPr id="310" name=""/>
            <p:cNvSpPr/>
            <p:nvPr/>
          </p:nvSpPr>
          <p:spPr>
            <a:xfrm rot="8113800">
              <a:off x="4356000" y="1772640"/>
              <a:ext cx="2184480" cy="435924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8895200">
              <a:off x="2788560" y="3269160"/>
              <a:ext cx="2176200" cy="436860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6000" y="2060640"/>
              <a:ext cx="2184480" cy="109224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710800">
              <a:off x="4356720" y="257760"/>
              <a:ext cx="2179800" cy="218448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3007080" y="1493280"/>
              <a:ext cx="2179800" cy="109188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1334160" y="978120"/>
              <a:ext cx="2179800" cy="2184480"/>
            </a:xfrm>
            <a:prstGeom prst="rtTriangle">
              <a:avLst/>
            </a:prstGeom>
            <a:solidFill>
              <a:srgbClr val="00ff00"/>
            </a:solidFill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10800000">
              <a:off x="3551040" y="2092320"/>
              <a:ext cx="3276360" cy="108432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68360" y="2276640"/>
            <a:ext cx="4391280" cy="42480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ffff"/>
                </a:solidFill>
                <a:latin typeface="Arial"/>
              </a:rPr>
              <a:t>Як виготовити головоломку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1" lang="uk-UA" sz="4800" spc="-1" strike="noStrike">
                <a:solidFill>
                  <a:srgbClr val="ff3399"/>
                </a:solidFill>
                <a:latin typeface="Arial"/>
              </a:rPr>
              <a:t>Т</a:t>
            </a:r>
            <a:r>
              <a:rPr b="1" lang="uk-UA" sz="4800" spc="-1" strike="noStrike">
                <a:solidFill>
                  <a:srgbClr val="00ff00"/>
                </a:solidFill>
                <a:latin typeface="Arial"/>
              </a:rPr>
              <a:t>А</a:t>
            </a:r>
            <a:r>
              <a:rPr b="1" lang="uk-UA" sz="4800" spc="-1" strike="noStrike">
                <a:solidFill>
                  <a:srgbClr val="00ccff"/>
                </a:solidFill>
                <a:latin typeface="Arial"/>
              </a:rPr>
              <a:t>Н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uk-UA" sz="4800" spc="-1" strike="noStrike">
                <a:solidFill>
                  <a:srgbClr val="99ff33"/>
                </a:solidFill>
                <a:latin typeface="Arial"/>
              </a:rPr>
              <a:t>А</a:t>
            </a:r>
            <a:r>
              <a:rPr b="1" lang="uk-UA" sz="4800" spc="-1" strike="noStrike">
                <a:solidFill>
                  <a:srgbClr val="ff3399"/>
                </a:solidFill>
                <a:latin typeface="Arial"/>
              </a:rPr>
              <a:t>М</a:t>
            </a:r>
            <a:r>
              <a:rPr b="0" lang="uk-UA" sz="4800" spc="-1" strike="noStrike">
                <a:solidFill>
                  <a:srgbClr val="00ffff"/>
                </a:solidFill>
                <a:latin typeface="Arial"/>
              </a:rPr>
              <a:t>”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276640"/>
            <a:ext cx="4391280" cy="424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4508640"/>
            <a:ext cx="2232360" cy="20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427640" y="5444640"/>
            <a:ext cx="1152360" cy="1079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48000" y="2276280"/>
            <a:ext cx="3311640" cy="31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48000" y="3284280"/>
            <a:ext cx="0" cy="21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32000" y="-192960"/>
            <a:ext cx="6648480" cy="7959600"/>
            <a:chOff x="1332000" y="-192960"/>
            <a:chExt cx="6648480" cy="7959600"/>
          </a:xfrm>
        </p:grpSpPr>
        <p:sp>
          <p:nvSpPr>
            <p:cNvPr id="319" name=""/>
            <p:cNvSpPr/>
            <p:nvPr/>
          </p:nvSpPr>
          <p:spPr>
            <a:xfrm rot="8113800">
              <a:off x="4356000" y="1772640"/>
              <a:ext cx="2184480" cy="435924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8895200">
              <a:off x="2788560" y="3269160"/>
              <a:ext cx="2176200" cy="436860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2060640"/>
              <a:ext cx="2184480" cy="109224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710800">
              <a:off x="4356720" y="257760"/>
              <a:ext cx="2179800" cy="218448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3007080" y="1493280"/>
              <a:ext cx="2179800" cy="109188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1334160" y="978120"/>
              <a:ext cx="2179800" cy="2184480"/>
            </a:xfrm>
            <a:prstGeom prst="rtTriangle">
              <a:avLst/>
            </a:prstGeom>
            <a:solidFill>
              <a:srgbClr val="00ff00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 rot="10800000">
              <a:off x="3551040" y="2092320"/>
              <a:ext cx="3276360" cy="108432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4000" y="47628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159920" y="189000"/>
            <a:ext cx="7069680" cy="7547400"/>
            <a:chOff x="1159920" y="189000"/>
            <a:chExt cx="7069680" cy="7547400"/>
          </a:xfrm>
        </p:grpSpPr>
        <p:sp>
          <p:nvSpPr>
            <p:cNvPr id="328" name=""/>
            <p:cNvSpPr/>
            <p:nvPr/>
          </p:nvSpPr>
          <p:spPr>
            <a:xfrm rot="18810000">
              <a:off x="3944520" y="3479400"/>
              <a:ext cx="1986120" cy="418932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6699"/>
            </a:solidFill>
            <a:ln w="5724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37120" y="2273400"/>
              <a:ext cx="2092320" cy="397188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6699"/>
            </a:solidFill>
            <a:ln w="763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0601400">
              <a:off x="1186920" y="5516280"/>
              <a:ext cx="2094120" cy="99540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6699"/>
            </a:solidFill>
            <a:ln w="763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35840" y="189000"/>
              <a:ext cx="2093760" cy="198576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6699"/>
            </a:solidFill>
            <a:ln w="763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6695280" y="4761720"/>
              <a:ext cx="1985760" cy="104760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6699"/>
            </a:solidFill>
            <a:ln w="763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043400">
              <a:off x="2106360" y="3444480"/>
              <a:ext cx="1984680" cy="2095560"/>
            </a:xfrm>
            <a:prstGeom prst="rtTriangle">
              <a:avLst/>
            </a:prstGeom>
            <a:solidFill>
              <a:srgbClr val="ff6699"/>
            </a:solidFill>
            <a:ln w="7632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rot="16200000">
              <a:off x="6179040" y="3189960"/>
              <a:ext cx="2978280" cy="100800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763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4000" y="47628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810000">
            <a:off x="3944520" y="3479400"/>
            <a:ext cx="1986120" cy="418932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6699"/>
          </a:solidFill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37120" y="2273400"/>
            <a:ext cx="2092320" cy="397188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6699"/>
          </a:solidFill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0601400">
            <a:off x="1186920" y="5516280"/>
            <a:ext cx="2094120" cy="99540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6699"/>
          </a:solidFill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5840" y="189000"/>
            <a:ext cx="2093760" cy="1985760"/>
          </a:xfrm>
          <a:custGeom>
            <a:avLst/>
            <a:gdLst/>
            <a:ahLst/>
            <a:rect l="l" t="t" r="r" b="b"/>
            <a:pathLst>
              <a:path w="2160" h="2160">
                <a:moveTo>
                  <a:pt x="1080" y="0"/>
                </a:moveTo>
                <a:lnTo>
                  <a:pt x="0" y="1080"/>
                </a:lnTo>
                <a:lnTo>
                  <a:pt x="1080" y="216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6699"/>
          </a:solidFill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6695280" y="4761720"/>
            <a:ext cx="1985760" cy="104760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6699"/>
          </a:solidFill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043400">
            <a:off x="2106360" y="3444480"/>
            <a:ext cx="1984680" cy="2095560"/>
          </a:xfrm>
          <a:prstGeom prst="rtTriangle">
            <a:avLst/>
          </a:prstGeom>
          <a:solidFill>
            <a:srgbClr val="ff6699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rot="16200000">
            <a:off x="6179040" y="3189960"/>
            <a:ext cx="2978280" cy="1008000"/>
          </a:xfrm>
          <a:custGeom>
            <a:avLst/>
            <a:gdLst/>
            <a:ahLst/>
            <a:rect l="l" t="t" r="r" b="b"/>
            <a:pathLst>
              <a:path w="3240" h="1080">
                <a:moveTo>
                  <a:pt x="0" y="0"/>
                </a:moveTo>
                <a:lnTo>
                  <a:pt x="2160" y="0"/>
                </a:lnTo>
                <a:lnTo>
                  <a:pt x="3240" y="1080"/>
                </a:lnTo>
                <a:lnTo>
                  <a:pt x="1080" y="108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7632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3520400">
            <a:off x="4229640" y="3915360"/>
            <a:ext cx="1679760" cy="344340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33cc"/>
          </a:solidFill>
          <a:ln w="763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995280" y="2133720"/>
            <a:ext cx="1724040" cy="334944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33cc"/>
          </a:solidFill>
          <a:ln w="763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2690640" y="888840"/>
            <a:ext cx="1674720" cy="86508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33cc"/>
          </a:solidFill>
          <a:ln w="763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5640" y="1279440"/>
            <a:ext cx="1722240" cy="1679760"/>
          </a:xfrm>
          <a:custGeom>
            <a:avLst/>
            <a:gdLst/>
            <a:ahLst/>
            <a:rect l="l" t="t" r="r" b="b"/>
            <a:pathLst>
              <a:path w="2160" h="2160">
                <a:moveTo>
                  <a:pt x="1080" y="0"/>
                </a:moveTo>
                <a:lnTo>
                  <a:pt x="0" y="1080"/>
                </a:lnTo>
                <a:lnTo>
                  <a:pt x="1080" y="216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33cc"/>
          </a:solidFill>
          <a:ln w="763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1788840" y="811080"/>
            <a:ext cx="1675080" cy="86184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33cc"/>
          </a:solidFill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680200">
            <a:off x="3131640" y="2491920"/>
            <a:ext cx="1719360" cy="1677960"/>
          </a:xfrm>
          <a:prstGeom prst="rtTriangle">
            <a:avLst/>
          </a:prstGeom>
          <a:solidFill>
            <a:srgbClr val="ff33cc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rot="21589200">
            <a:off x="5650920" y="5373720"/>
            <a:ext cx="2582640" cy="834840"/>
          </a:xfrm>
          <a:custGeom>
            <a:avLst/>
            <a:gdLst/>
            <a:ahLst/>
            <a:rect l="l" t="t" r="r" b="b"/>
            <a:pathLst>
              <a:path w="3240" h="1080">
                <a:moveTo>
                  <a:pt x="0" y="0"/>
                </a:moveTo>
                <a:lnTo>
                  <a:pt x="2160" y="0"/>
                </a:lnTo>
                <a:lnTo>
                  <a:pt x="3240" y="1080"/>
                </a:lnTo>
                <a:lnTo>
                  <a:pt x="1080" y="1080"/>
                </a:lnTo>
                <a:lnTo>
                  <a:pt x="0" y="0"/>
                </a:lnTo>
                <a:close/>
              </a:path>
            </a:pathLst>
          </a:custGeom>
          <a:solidFill>
            <a:srgbClr val="ff33cc"/>
          </a:solidFill>
          <a:ln w="763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195640" y="404640"/>
            <a:ext cx="6018840" cy="7023960"/>
            <a:chOff x="2195640" y="404640"/>
            <a:chExt cx="6018840" cy="7023960"/>
          </a:xfrm>
        </p:grpSpPr>
        <p:sp>
          <p:nvSpPr>
            <p:cNvPr id="181" name=""/>
            <p:cNvSpPr/>
            <p:nvPr/>
          </p:nvSpPr>
          <p:spPr>
            <a:xfrm rot="13520400">
              <a:off x="4221720" y="3899880"/>
              <a:ext cx="1679040" cy="344268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33cc"/>
            </a:solidFill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0800000">
              <a:off x="3912120" y="2155320"/>
              <a:ext cx="1724040" cy="334908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33cc"/>
            </a:solidFill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2690280" y="887760"/>
              <a:ext cx="1675440" cy="86580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33cc"/>
            </a:solidFill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95640" y="1279800"/>
              <a:ext cx="1721880" cy="167904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33cc"/>
            </a:solidFill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1788840" y="811440"/>
              <a:ext cx="1675440" cy="86184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33cc"/>
            </a:solidFill>
            <a:ln w="572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680200">
              <a:off x="3012120" y="2553480"/>
              <a:ext cx="1720080" cy="1679040"/>
            </a:xfrm>
            <a:prstGeom prst="rtTriangle">
              <a:avLst/>
            </a:prstGeom>
            <a:solidFill>
              <a:srgbClr val="ff33cc"/>
            </a:solid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21589200">
              <a:off x="5630040" y="5416920"/>
              <a:ext cx="2582640" cy="83484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cc"/>
            </a:solidFill>
            <a:ln w="7632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953000" y="256680"/>
            <a:ext cx="4878000" cy="6689520"/>
            <a:chOff x="1953000" y="256680"/>
            <a:chExt cx="4878000" cy="6689520"/>
          </a:xfrm>
        </p:grpSpPr>
        <p:sp>
          <p:nvSpPr>
            <p:cNvPr id="190" name=""/>
            <p:cNvSpPr/>
            <p:nvPr/>
          </p:nvSpPr>
          <p:spPr>
            <a:xfrm rot="8062200">
              <a:off x="4457160" y="3251880"/>
              <a:ext cx="1518840" cy="303084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cc00"/>
            </a:solidFill>
            <a:ln w="763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8853800">
              <a:off x="3344400" y="2214360"/>
              <a:ext cx="1517040" cy="303084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ffcc00"/>
            </a:solidFill>
            <a:ln w="763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3477200">
              <a:off x="5213160" y="5762160"/>
              <a:ext cx="1515240" cy="76140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cc00"/>
            </a:solidFill>
            <a:ln w="763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649000">
              <a:off x="2268000" y="818640"/>
              <a:ext cx="1515240" cy="151884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cc00"/>
            </a:solidFill>
            <a:ln w="763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57360" y="5684040"/>
              <a:ext cx="1515240" cy="75924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cc00"/>
            </a:solidFill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680200">
              <a:off x="2745000" y="3291120"/>
              <a:ext cx="1515240" cy="1518840"/>
            </a:xfrm>
            <a:prstGeom prst="rtTriangle">
              <a:avLst/>
            </a:prstGeom>
            <a:solidFill>
              <a:srgbClr val="ffcc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rot="21589200">
              <a:off x="3619440" y="259920"/>
              <a:ext cx="2273040" cy="75564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763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8062200">
            <a:off x="4463640" y="3321000"/>
            <a:ext cx="1519200" cy="303048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cc00"/>
          </a:solidFill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8853800">
            <a:off x="3423240" y="2258280"/>
            <a:ext cx="1517760" cy="303048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ffcc00"/>
          </a:solidFill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3477200">
            <a:off x="5292360" y="5805000"/>
            <a:ext cx="1515960" cy="76212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cc00"/>
          </a:solidFill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649000">
            <a:off x="2347560" y="861840"/>
            <a:ext cx="1515960" cy="1519560"/>
          </a:xfrm>
          <a:custGeom>
            <a:avLst/>
            <a:gdLst/>
            <a:ahLst/>
            <a:rect l="l" t="t" r="r" b="b"/>
            <a:pathLst>
              <a:path w="2160" h="2160">
                <a:moveTo>
                  <a:pt x="1080" y="0"/>
                </a:moveTo>
                <a:lnTo>
                  <a:pt x="0" y="1080"/>
                </a:lnTo>
                <a:lnTo>
                  <a:pt x="1080" y="216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cc00"/>
          </a:solidFill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36920" y="5727600"/>
            <a:ext cx="1516320" cy="75888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ffcc00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680200">
            <a:off x="2825280" y="3333600"/>
            <a:ext cx="1514520" cy="1519560"/>
          </a:xfrm>
          <a:prstGeom prst="rtTriangle">
            <a:avLst/>
          </a:prstGeom>
          <a:solidFill>
            <a:srgbClr val="ffcc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rot="21589200">
            <a:off x="3700080" y="302760"/>
            <a:ext cx="2273400" cy="755640"/>
          </a:xfrm>
          <a:custGeom>
            <a:avLst/>
            <a:gdLst/>
            <a:ahLst/>
            <a:rect l="l" t="t" r="r" b="b"/>
            <a:pathLst>
              <a:path w="3240" h="1080">
                <a:moveTo>
                  <a:pt x="0" y="0"/>
                </a:moveTo>
                <a:lnTo>
                  <a:pt x="2160" y="0"/>
                </a:lnTo>
                <a:lnTo>
                  <a:pt x="3240" y="1080"/>
                </a:lnTo>
                <a:lnTo>
                  <a:pt x="1080" y="108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01840" y="181080"/>
            <a:ext cx="8127360" cy="6036840"/>
            <a:chOff x="501840" y="181080"/>
            <a:chExt cx="8127360" cy="6036840"/>
          </a:xfrm>
        </p:grpSpPr>
        <p:sp>
          <p:nvSpPr>
            <p:cNvPr id="207" name=""/>
            <p:cNvSpPr/>
            <p:nvPr/>
          </p:nvSpPr>
          <p:spPr>
            <a:xfrm rot="2710800">
              <a:off x="2237040" y="2607840"/>
              <a:ext cx="1728000" cy="351576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60280" y="2817360"/>
              <a:ext cx="1757880" cy="86616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694000">
              <a:off x="2960280" y="549360"/>
              <a:ext cx="1757880" cy="172800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67640" y="3815640"/>
              <a:ext cx="1757880" cy="86400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37480" y="2001240"/>
              <a:ext cx="1757880" cy="1728000"/>
            </a:xfrm>
            <a:prstGeom prst="rtTriangle">
              <a:avLst/>
            </a:prstGeom>
            <a:solidFill>
              <a:srgbClr val="00ff00"/>
            </a:solidFill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9088400">
              <a:off x="468360" y="4540680"/>
              <a:ext cx="2636640" cy="90828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8125200">
              <a:off x="5912640" y="2637360"/>
              <a:ext cx="1756080" cy="345636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01840" y="181080"/>
            <a:ext cx="8127360" cy="6036840"/>
            <a:chOff x="501840" y="181080"/>
            <a:chExt cx="8127360" cy="6036840"/>
          </a:xfrm>
        </p:grpSpPr>
        <p:sp>
          <p:nvSpPr>
            <p:cNvPr id="216" name=""/>
            <p:cNvSpPr/>
            <p:nvPr/>
          </p:nvSpPr>
          <p:spPr>
            <a:xfrm rot="2710800">
              <a:off x="2237040" y="2607840"/>
              <a:ext cx="1728000" cy="351576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60280" y="2817360"/>
              <a:ext cx="1757880" cy="86616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694000">
              <a:off x="2960280" y="549360"/>
              <a:ext cx="1757880" cy="1728000"/>
            </a:xfrm>
            <a:custGeom>
              <a:avLst/>
              <a:gdLst/>
              <a:ahLst/>
              <a:rect l="l" t="t" r="r" b="b"/>
              <a:pathLst>
                <a:path w="2160" h="2160">
                  <a:moveTo>
                    <a:pt x="1080" y="0"/>
                  </a:moveTo>
                  <a:lnTo>
                    <a:pt x="0" y="1080"/>
                  </a:lnTo>
                  <a:lnTo>
                    <a:pt x="1080" y="216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67640" y="3815640"/>
              <a:ext cx="1757880" cy="864000"/>
            </a:xfrm>
            <a:custGeom>
              <a:avLst/>
              <a:gdLst/>
              <a:ahLst/>
              <a:rect l="l" t="t" r="r" b="b"/>
              <a:pathLst>
                <a:path w="2160" h="1080">
                  <a:moveTo>
                    <a:pt x="1080" y="0"/>
                  </a:moveTo>
                  <a:lnTo>
                    <a:pt x="0" y="1080"/>
                  </a:lnTo>
                  <a:lnTo>
                    <a:pt x="2160" y="108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37480" y="2001240"/>
              <a:ext cx="1757880" cy="1728000"/>
            </a:xfrm>
            <a:prstGeom prst="rtTriangle">
              <a:avLst/>
            </a:prstGeom>
            <a:solidFill>
              <a:srgbClr val="00ff00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 rot="19088400">
              <a:off x="468360" y="4540680"/>
              <a:ext cx="2636640" cy="908280"/>
            </a:xfrm>
            <a:custGeom>
              <a:avLst/>
              <a:gdLst/>
              <a:ahLst/>
              <a:rect l="l" t="t" r="r" b="b"/>
              <a:pathLst>
                <a:path w="3240" h="1080">
                  <a:moveTo>
                    <a:pt x="0" y="0"/>
                  </a:moveTo>
                  <a:lnTo>
                    <a:pt x="2160" y="0"/>
                  </a:lnTo>
                  <a:lnTo>
                    <a:pt x="3240" y="1080"/>
                  </a:lnTo>
                  <a:lnTo>
                    <a:pt x="1080" y="10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125200">
              <a:off x="5912640" y="2637360"/>
              <a:ext cx="1756080" cy="3456360"/>
            </a:xfrm>
            <a:custGeom>
              <a:avLst/>
              <a:gdLst/>
              <a:ahLst/>
              <a:rect l="l" t="t" r="r" b="b"/>
              <a:pathLst>
                <a:path w="2160" h="4320">
                  <a:moveTo>
                    <a:pt x="2160" y="0"/>
                  </a:moveTo>
                  <a:lnTo>
                    <a:pt x="2160" y="4320"/>
                  </a:lnTo>
                  <a:lnTo>
                    <a:pt x="0" y="2160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00ff00"/>
            </a:solidFill>
            <a:ln w="7632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4000" y="476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412800" y="2309760"/>
            <a:ext cx="2154240" cy="447516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00ffff"/>
          </a:solidFill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4851000" y="3076200"/>
            <a:ext cx="2151000" cy="4583160"/>
          </a:xfrm>
          <a:custGeom>
            <a:avLst/>
            <a:gdLst/>
            <a:ahLst/>
            <a:rect l="l" t="t" r="r" b="b"/>
            <a:pathLst>
              <a:path w="2160" h="4320">
                <a:moveTo>
                  <a:pt x="2160" y="0"/>
                </a:moveTo>
                <a:lnTo>
                  <a:pt x="2160" y="4320"/>
                </a:lnTo>
                <a:lnTo>
                  <a:pt x="0" y="2160"/>
                </a:lnTo>
                <a:lnTo>
                  <a:pt x="2160" y="0"/>
                </a:lnTo>
                <a:close/>
              </a:path>
            </a:pathLst>
          </a:custGeom>
          <a:solidFill>
            <a:srgbClr val="00ffff"/>
          </a:solidFill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6143400" y="776160"/>
            <a:ext cx="2154240" cy="112212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00ffff"/>
          </a:solidFill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649000">
            <a:off x="1907640" y="1628640"/>
            <a:ext cx="2238480" cy="2154240"/>
          </a:xfrm>
          <a:custGeom>
            <a:avLst/>
            <a:gdLst/>
            <a:ahLst/>
            <a:rect l="l" t="t" r="r" b="b"/>
            <a:pathLst>
              <a:path w="2160" h="2160">
                <a:moveTo>
                  <a:pt x="1080" y="0"/>
                </a:moveTo>
                <a:lnTo>
                  <a:pt x="0" y="1080"/>
                </a:lnTo>
                <a:lnTo>
                  <a:pt x="1080" y="216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00ffff"/>
          </a:solidFill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836640"/>
            <a:ext cx="2238480" cy="1076400"/>
          </a:xfrm>
          <a:custGeom>
            <a:avLst/>
            <a:gdLst/>
            <a:ahLst/>
            <a:rect l="l" t="t" r="r" b="b"/>
            <a:pathLst>
              <a:path w="2160" h="1080">
                <a:moveTo>
                  <a:pt x="1080" y="0"/>
                </a:moveTo>
                <a:lnTo>
                  <a:pt x="0" y="1080"/>
                </a:lnTo>
                <a:lnTo>
                  <a:pt x="2160" y="1080"/>
                </a:lnTo>
                <a:lnTo>
                  <a:pt x="1080" y="0"/>
                </a:lnTo>
                <a:close/>
              </a:path>
            </a:pathLst>
          </a:custGeom>
          <a:solidFill>
            <a:srgbClr val="00ffff"/>
          </a:solidFill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4542480" y="1226160"/>
            <a:ext cx="2154240" cy="2238120"/>
          </a:xfrm>
          <a:prstGeom prst="rtTriangle">
            <a:avLst/>
          </a:prstGeom>
          <a:solidFill>
            <a:srgbClr val="00ffff"/>
          </a:solidFill>
          <a:ln w="88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5348400">
            <a:off x="5589360" y="2410560"/>
            <a:ext cx="3343320" cy="1057320"/>
          </a:xfrm>
          <a:custGeom>
            <a:avLst/>
            <a:gdLst/>
            <a:ahLst/>
            <a:rect l="l" t="t" r="r" b="b"/>
            <a:pathLst>
              <a:path w="3240" h="1080">
                <a:moveTo>
                  <a:pt x="0" y="0"/>
                </a:moveTo>
                <a:lnTo>
                  <a:pt x="2160" y="0"/>
                </a:lnTo>
                <a:lnTo>
                  <a:pt x="3240" y="1080"/>
                </a:lnTo>
                <a:lnTo>
                  <a:pt x="1080" y="108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3:29:17Z</dcterms:created>
  <dc:creator>User</dc:creator>
  <dc:description/>
  <dc:language>en-US</dc:language>
  <cp:lastModifiedBy>User</cp:lastModifiedBy>
  <dcterms:modified xsi:type="dcterms:W3CDTF">2006-06-05T18:05:05Z</dcterms:modified>
  <cp:revision>76</cp:revision>
  <dc:subject/>
  <dc:title> СФІНКС</dc:title>
</cp:coreProperties>
</file>