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58E-EB3C-4F7C-90EE-F03E1BB0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E79-0B58-4707-91AF-E736E2E6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D25-8973-4445-8DF8-F8A22957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DA5-225C-4C76-A9BD-A59546D9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C516-9BAE-439A-8891-B061B880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CD2D-F3EE-4C17-A903-5A88C0B3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7A48-053E-4059-A3F2-4FA2D22F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E287-D39A-4535-9DD4-374B5856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A8EE-6906-4669-A443-6AF57763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2CA2-5692-4C4B-B8AF-58CA57C7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DDF6-4C51-47B1-A59B-20606D58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D1B-1004-433B-A73D-35F895F0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98BE-99D3-4DB1-A250-8A6C7188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40DE-1ECB-4C6E-B5A6-F1EAD94E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D929-F531-4B7B-A8D1-EB5A4A68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5C15-248F-4861-B3A0-902EC645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7D69-276C-4DFA-B2E5-6F1296B0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518-7094-483D-AE0F-4023AA2F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422-1B4C-42BC-9502-6D0A0C92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5B7-E9E6-4BE2-9F18-DF397C2C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E8E-9ECE-408F-9D80-A685FCCD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0A4-25BB-4BD3-AAAD-9B6FCEAB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752-F1A9-4B50-87D3-A3762FA1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319-AD8A-4F26-804F-F409F7A9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92DB-9EF3-4CC0-B00D-80D0D6EF2C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35CD-6DD7-4C84-BDF7-E9BEBE029D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:\01.jpg"/>
          <p:cNvPicPr/>
          <p:nvPr/>
        </p:nvPicPr>
        <p:blipFill>
          <a:blip r:embed="rId1"/>
          <a:srcRect l="0" t="4272" r="0" b="0"/>
          <a:stretch/>
        </p:blipFill>
        <p:spPr>
          <a:xfrm>
            <a:off x="0" y="0"/>
            <a:ext cx="922968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0" y="642960"/>
            <a:ext cx="91440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663300"/>
                </a:solidFill>
                <a:latin typeface="Arial"/>
                <a:ea typeface="LilyUPC"/>
              </a:rPr>
              <a:t>Урок 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663300"/>
                </a:solidFill>
                <a:latin typeface="Arial"/>
                <a:ea typeface="LilyUPC"/>
              </a:rPr>
              <a:t>развития речи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c00000"/>
                </a:solidFill>
                <a:latin typeface="Segoe Print"/>
              </a:rPr>
              <a:t>Что такое счастье? 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F:\01.jpg"/>
          <p:cNvPicPr/>
          <p:nvPr/>
        </p:nvPicPr>
        <p:blipFill>
          <a:blip r:embed="rId1"/>
          <a:srcRect l="0" t="4272" r="0" b="0"/>
          <a:stretch/>
        </p:blipFill>
        <p:spPr>
          <a:xfrm>
            <a:off x="0" y="0"/>
            <a:ext cx="922968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50920" y="642960"/>
            <a:ext cx="856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Arial"/>
              </a:rPr>
              <a:t>Сегодня на уро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готовимся к контрольному устному сочине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будем обсуждать философскую категорию «счастье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овторим правила написания сочинения – рассуж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будем учиться: рассуждать, высказывать собственное мнение, подбирать аргументы и факт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Segoe Prin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Segoe Print"/>
              </a:rPr>
              <a:t>напишем сочинение – миниатюру «Что такое счастье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F:\01.jpg"/>
          <p:cNvPicPr/>
          <p:nvPr/>
        </p:nvPicPr>
        <p:blipFill>
          <a:blip r:embed="rId1"/>
          <a:srcRect l="0" t="4272" r="0" b="0"/>
          <a:stretch/>
        </p:blipFill>
        <p:spPr>
          <a:xfrm>
            <a:off x="0" y="0"/>
            <a:ext cx="92296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1"/>
          <p:cNvSpPr/>
          <p:nvPr/>
        </p:nvSpPr>
        <p:spPr>
          <a:xfrm>
            <a:off x="468360" y="404640"/>
            <a:ext cx="835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Человек создан для счастья, как птица для поле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В.Г. Короленк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Счастливее всех счастливых тот, кто может осчастливи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А. Дюма-отец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амые прекрасные и в то же время самые счастливые люди те, кто прожил свою жизнь, заботясь о счастье други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В.А. Сухомлинск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F:\01.jpg"/>
          <p:cNvPicPr/>
          <p:nvPr/>
        </p:nvPicPr>
        <p:blipFill>
          <a:blip r:embed="rId1"/>
          <a:srcRect l="0" t="4272" r="0" b="0"/>
          <a:stretch/>
        </p:blipFill>
        <p:spPr>
          <a:xfrm>
            <a:off x="-571680" y="0"/>
            <a:ext cx="9715680" cy="7219800"/>
          </a:xfrm>
          <a:prstGeom prst="rect">
            <a:avLst/>
          </a:prstGeom>
          <a:ln w="0">
            <a:noFill/>
          </a:ln>
        </p:spPr>
      </p:pic>
      <p:pic>
        <p:nvPicPr>
          <p:cNvPr id="169" name="Содержимое 9" descr=""/>
          <p:cNvPicPr/>
          <p:nvPr/>
        </p:nvPicPr>
        <p:blipFill>
          <a:blip r:embed="rId2"/>
          <a:stretch/>
        </p:blipFill>
        <p:spPr>
          <a:xfrm>
            <a:off x="-212760" y="0"/>
            <a:ext cx="9070920" cy="80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468360" y="404640"/>
            <a:ext cx="8351640" cy="914400"/>
          </a:xfrm>
          <a:custGeom>
            <a:avLst/>
            <a:gdLst>
              <a:gd name="textAreaLeft" fmla="*/ 107640 w 8351640"/>
              <a:gd name="textAreaRight" fmla="*/ 8244000 w 835164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1972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3614" y="21600"/>
                </a:lnTo>
                <a:arcTo wR="3600" hR="3600" stAng="10800000" swAng="5400000"/>
                <a:lnTo>
                  <a:pt x="197214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хема построения сочинения-рассу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468360" y="1413000"/>
            <a:ext cx="835164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ff99"/>
                </a:solidFill>
                <a:latin typeface="Arial"/>
              </a:rPr>
              <a:t>Вступлени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468360" y="2492280"/>
            <a:ext cx="8351640" cy="158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Тезис, т.е. основная мысль, утверждение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539640" y="4149720"/>
            <a:ext cx="8352000" cy="158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Аргументы, т.е. доказательства, до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539640" y="5805360"/>
            <a:ext cx="83520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ff99"/>
                </a:solidFill>
                <a:latin typeface="Arial"/>
              </a:rPr>
              <a:t>Вывод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Модель сочинения-рассужд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324000" y="1268280"/>
            <a:ext cx="2303280" cy="1008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ступ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324000" y="2781360"/>
            <a:ext cx="2303280" cy="280836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2808360"/>
              <a:gd name="textAreaBottom" fmla="*/ 2696040 h 2808360"/>
            </a:gdLst>
            <a:ahLst/>
            <a:rect l="textAreaLeft" t="textAreaTop" r="textAreaRight" b="textAreaBottom"/>
            <a:pathLst>
              <a:path w="21600" h="26336">
                <a:moveTo>
                  <a:pt x="3600" y="0"/>
                </a:moveTo>
                <a:arcTo wR="3600" hR="3600" stAng="16200000" swAng="-5400000"/>
                <a:lnTo>
                  <a:pt x="0" y="22736"/>
                </a:lnTo>
                <a:arcTo wR="3600" hR="3600" stAng="10800000" swAng="-5400000"/>
                <a:lnTo>
                  <a:pt x="18000" y="26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Основ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ч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95280" y="6021360"/>
            <a:ext cx="2303640" cy="57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заклю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059280" y="1268280"/>
            <a:ext cx="5113080" cy="432000"/>
          </a:xfrm>
          <a:prstGeom prst="flowChartDelay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частье – эт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059280" y="1844640"/>
            <a:ext cx="5113080" cy="432000"/>
          </a:xfrm>
          <a:prstGeom prst="flowChartDelay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чу доказать, чт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059280" y="2781360"/>
            <a:ext cx="5113080" cy="503280"/>
          </a:xfrm>
          <a:prstGeom prst="flowChartDelay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? Потому что 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059280" y="3357720"/>
            <a:ext cx="5184720" cy="502920"/>
          </a:xfrm>
          <a:prstGeom prst="flowChartDelay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ечно, может быть и так, чт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059280" y="3933720"/>
            <a:ext cx="5113080" cy="503280"/>
          </a:xfrm>
          <a:prstGeom prst="flowChartDelay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посмотрите … Разве …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059280" y="4508640"/>
            <a:ext cx="5113080" cy="504720"/>
          </a:xfrm>
          <a:prstGeom prst="flowChartDelay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имер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2"/>
          <p:cNvSpPr/>
          <p:nvPr/>
        </p:nvSpPr>
        <p:spPr>
          <a:xfrm>
            <a:off x="3059280" y="5084640"/>
            <a:ext cx="5113080" cy="720720"/>
          </a:xfrm>
          <a:prstGeom prst="flowChartDelay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все-таки.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ы не говорили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059280" y="6021360"/>
            <a:ext cx="5113080" cy="836640"/>
          </a:xfrm>
          <a:prstGeom prst="flowChartDelay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им образом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кажется, что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2" descr="F:\01.jpg"/>
          <p:cNvPicPr/>
          <p:nvPr/>
        </p:nvPicPr>
        <p:blipFill>
          <a:blip r:embed="rId2"/>
          <a:srcRect l="0" t="4272" r="0" b="0"/>
          <a:stretch/>
        </p:blipFill>
        <p:spPr>
          <a:xfrm>
            <a:off x="0" y="0"/>
            <a:ext cx="92296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0" y="785880"/>
            <a:ext cx="914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Segoe Print"/>
              </a:rPr>
              <a:t>Схема построения сочинения-рассужд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Segoe Print"/>
              </a:rPr>
              <a:t>Тема урока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Segoe Print"/>
              </a:rPr>
              <a:t>«Мастерская счастья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D:\новая\img13.jpg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F:\01.jpg"/>
          <p:cNvPicPr/>
          <p:nvPr/>
        </p:nvPicPr>
        <p:blipFill>
          <a:blip r:embed="rId1"/>
          <a:srcRect l="0" t="4272" r="0" b="0"/>
          <a:stretch/>
        </p:blipFill>
        <p:spPr>
          <a:xfrm>
            <a:off x="0" y="0"/>
            <a:ext cx="92296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324000" y="64296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Домашнее задание: подготовиться к контрольному устному сочинению «Что такое счастье?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9:15:08Z</dcterms:created>
  <dc:creator>Учитель</dc:creator>
  <dc:description/>
  <dc:language>en-US</dc:language>
  <cp:lastModifiedBy>XTreme.ws</cp:lastModifiedBy>
  <dcterms:modified xsi:type="dcterms:W3CDTF">2018-10-02T19:14:39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