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7.png" ContentType="image/png"/>
  <Override PartName="/ppt/media/image16.jpeg" ContentType="image/jpeg"/>
  <Override PartName="/ppt/media/image15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8702-D7BA-436E-9161-913D9C260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269F7-5E90-417A-932E-2905E686A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C650-4A30-467F-B891-EC586BE58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6143-F684-43BC-8729-A346BC5EC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B1FB9-0741-4111-A784-F0F534168A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EBB48-3475-4196-938C-929156835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C0022-EFEC-4983-A33B-6D7D5E707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62F7-172C-43BF-A1C8-4E066440D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3C390-F7B9-40E2-A6B4-E2A40533F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70FE1-ADAD-4E87-B4A1-5DA189F66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F4AB3-713F-46C9-BEB2-A541F1EFD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BBE9-6FCD-4F0F-99A0-4D820E27F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949F6-7D1E-41F0-A687-20C23CFA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EF12-DB2F-4F8C-BCEF-0F27DEAA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3DEE5-8632-4B3F-A8B0-13594670D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1FA80-D277-41AA-94F8-A5B49AEB0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A2CF3-C2A3-4752-9D9C-4444464CF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E959C-AA45-44B1-B98F-6C33FDCA5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F104E-5523-4AB6-8679-BD5AD1D12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0010E-4F72-44B9-8342-AA77508FB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4F7AEB-E662-4029-8D4B-6370AD268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53DCAC-85EF-4EBF-8B23-EA613B483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310BB-7E96-4A5E-8DFD-E80928EF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CA51A9-02F1-469C-8EBD-2B736F3C9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B6E74-B7AA-47E5-A49D-95841E355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1334A-F859-417B-BD22-BB3B9EC11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1B63A9-9B96-4FEA-A045-BDD2589A2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8279E2-B3CB-45B4-98D3-5B0B32539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98390-6693-4837-8CE0-E312752FC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6DAFA6-6A9F-488B-995C-0DADC5EA7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21674-FD1B-4EBB-99A7-815AD9DA5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indent="0" algn="ctr">
              <a:spcBef>
                <a:spcPts val="55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AB1D86-3993-47D6-BF63-FF5978CD0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07B9E9-8765-4A43-845C-246BF014F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684B-CB55-4DEB-9F75-7E7F17A95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FDA8F1-C069-4E47-B0DF-0134E0C50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E35FA7-228D-4946-803D-AA8739941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E8040A-B6EF-47AD-97AA-CECFAE8A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41786D-1DDA-4E73-AE44-6A36E70A4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E9CEDE-464E-4B4D-95B3-9E217AC11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5D96A-2806-4DB4-9A1F-A8B462D5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04BE4-2CC4-4B8E-BBD6-804C1B54F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6ACDFC-528B-4938-BA19-592F4E526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30696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5471280" y="73152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14300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30696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5471280" y="2546640"/>
            <a:ext cx="206064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3762D9-0B52-4D46-B5CE-6F515C810F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B126-FE7B-49D0-8F5F-18B5A0E9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1793520" y="4371480"/>
            <a:ext cx="6512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6080" algn="ctr">
              <a:spcBef>
                <a:spcPts val="55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1D40-D283-4451-B1A0-C6F590D6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3A98-6BA7-4E0D-9213-3DEF44F57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422960" y="254664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23B7-BF41-48B4-981D-BFC6213D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422960" y="731520"/>
            <a:ext cx="312336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2546640"/>
            <a:ext cx="6400800" cy="165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C1DB-393D-454B-BCC3-3E57A0E5C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7.xml"/><Relationship Id="rId7" Type="http://schemas.openxmlformats.org/officeDocument/2006/relationships/slideLayout" Target="../slideLayouts/slideLayout38.xml"/><Relationship Id="rId8" Type="http://schemas.openxmlformats.org/officeDocument/2006/relationships/slideLayout" Target="../slideLayouts/slideLayout39.xml"/><Relationship Id="rId9" Type="http://schemas.openxmlformats.org/officeDocument/2006/relationships/slideLayout" Target="../slideLayouts/slideLayout40.xml"/><Relationship Id="rId10" Type="http://schemas.openxmlformats.org/officeDocument/2006/relationships/slideLayout" Target="../slideLayouts/slideLayout41.xml"/><Relationship Id="rId11" Type="http://schemas.openxmlformats.org/officeDocument/2006/relationships/slideLayout" Target="../slideLayouts/slideLayout42.xml"/><Relationship Id="rId12" Type="http://schemas.openxmlformats.org/officeDocument/2006/relationships/slideLayout" Target="../slideLayouts/slideLayout43.xml"/><Relationship Id="rId13" Type="http://schemas.openxmlformats.org/officeDocument/2006/relationships/slideLayout" Target="../slideLayouts/slideLayout44.xml"/><Relationship Id="rId14" Type="http://schemas.openxmlformats.org/officeDocument/2006/relationships/slideLayout" Target="../slideLayouts/slideLayout45.xml"/><Relationship Id="rId15" Type="http://schemas.openxmlformats.org/officeDocument/2006/relationships/slideLayout" Target="../slideLayouts/slideLayout46.xml"/><Relationship Id="rId16" Type="http://schemas.openxmlformats.org/officeDocument/2006/relationships/slideLayout" Target="../slideLayouts/slideLayout47.xml"/><Relationship Id="rId17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4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8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sldNum" idx="3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7855-6587-4DF5-A4EE-BD5016629524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Rectangle 10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52" name="Rectangle 10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Rectangle 11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55" name="Rectangle 11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Rectangle 12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Oval 13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59" name="Oval 13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4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5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6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71D01-1F41-43F3-B162-FF0B62935C5B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Rectangle 6"/>
          <p:cNvGrpSpPr/>
          <p:nvPr/>
        </p:nvGrpSpPr>
        <p:grpSpPr>
          <a:xfrm>
            <a:off x="0" y="5108400"/>
            <a:ext cx="9144000" cy="1749600"/>
            <a:chOff x="0" y="5108400"/>
            <a:chExt cx="9144000" cy="1749600"/>
          </a:xfrm>
        </p:grpSpPr>
        <p:pic>
          <p:nvPicPr>
            <p:cNvPr id="103" name="Rectangle 6" descr=""/>
            <p:cNvPicPr/>
            <p:nvPr/>
          </p:nvPicPr>
          <p:blipFill>
            <a:blip r:embed="rId3"/>
            <a:stretch/>
          </p:blipFill>
          <p:spPr>
            <a:xfrm>
              <a:off x="0" y="5110920"/>
              <a:ext cx="9144000" cy="174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0" y="5108400"/>
              <a:ext cx="9144000" cy="174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Rectangle 7"/>
          <p:cNvGrpSpPr/>
          <p:nvPr/>
        </p:nvGrpSpPr>
        <p:grpSpPr>
          <a:xfrm>
            <a:off x="0" y="0"/>
            <a:ext cx="9144000" cy="5108400"/>
            <a:chOff x="0" y="0"/>
            <a:chExt cx="9144000" cy="5108400"/>
          </a:xfrm>
        </p:grpSpPr>
        <p:pic>
          <p:nvPicPr>
            <p:cNvPr id="106" name="Rectangle 7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5108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0" y="0"/>
              <a:ext cx="9144000" cy="51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Rectangle 8"/>
          <p:cNvSpPr/>
          <p:nvPr/>
        </p:nvSpPr>
        <p:spPr>
          <a:xfrm>
            <a:off x="0" y="3768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10" name="Oval 9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Rectangle 6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13" name="Rectangle 6" descr=""/>
            <p:cNvPicPr/>
            <p:nvPr/>
          </p:nvPicPr>
          <p:blipFill>
            <a:blip r:embed="rId6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Rectangle 7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16" name="Rectangle 7" descr=""/>
            <p:cNvPicPr/>
            <p:nvPr/>
          </p:nvPicPr>
          <p:blipFill>
            <a:blip r:embed="rId7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Rectangle 8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Oval 9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20" name="Oval 9" descr=""/>
            <p:cNvPicPr/>
            <p:nvPr/>
          </p:nvPicPr>
          <p:blipFill>
            <a:blip r:embed="rId8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9D8DE-DF09-4A80-91A5-C6316AFBC7D6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3" name="Rectangle 7"/>
          <p:cNvGrpSpPr/>
          <p:nvPr/>
        </p:nvGrpSpPr>
        <p:grpSpPr>
          <a:xfrm>
            <a:off x="0" y="3865680"/>
            <a:ext cx="9144000" cy="2992320"/>
            <a:chOff x="0" y="3865680"/>
            <a:chExt cx="9144000" cy="2992320"/>
          </a:xfrm>
        </p:grpSpPr>
        <p:pic>
          <p:nvPicPr>
            <p:cNvPr id="164" name="Rectangle 7" descr=""/>
            <p:cNvPicPr/>
            <p:nvPr/>
          </p:nvPicPr>
          <p:blipFill>
            <a:blip r:embed="rId3"/>
            <a:stretch/>
          </p:blipFill>
          <p:spPr>
            <a:xfrm>
              <a:off x="0" y="3865680"/>
              <a:ext cx="9144000" cy="2992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0" y="3867120"/>
              <a:ext cx="9144000" cy="299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Rectangle 8"/>
          <p:cNvGrpSpPr/>
          <p:nvPr/>
        </p:nvGrpSpPr>
        <p:grpSpPr>
          <a:xfrm>
            <a:off x="0" y="0"/>
            <a:ext cx="9144000" cy="3865680"/>
            <a:chOff x="0" y="0"/>
            <a:chExt cx="9144000" cy="3865680"/>
          </a:xfrm>
        </p:grpSpPr>
        <p:pic>
          <p:nvPicPr>
            <p:cNvPr id="167" name="Rectangle 8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9144000" cy="386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0" y="0"/>
              <a:ext cx="9144000" cy="3865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9" name="Rectangle 9"/>
          <p:cNvSpPr/>
          <p:nvPr/>
        </p:nvSpPr>
        <p:spPr>
          <a:xfrm>
            <a:off x="0" y="2652840"/>
            <a:ext cx="9144000" cy="228600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ffffff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0" name="Oval 10"/>
          <p:cNvGrpSpPr/>
          <p:nvPr/>
        </p:nvGrpSpPr>
        <p:grpSpPr>
          <a:xfrm>
            <a:off x="0" y="1603440"/>
            <a:ext cx="9144000" cy="5102280"/>
            <a:chOff x="0" y="1603440"/>
            <a:chExt cx="9144000" cy="5102280"/>
          </a:xfrm>
        </p:grpSpPr>
        <p:pic>
          <p:nvPicPr>
            <p:cNvPr id="171" name="Oval 10" descr=""/>
            <p:cNvPicPr/>
            <p:nvPr/>
          </p:nvPicPr>
          <p:blipFill>
            <a:blip r:embed="rId5"/>
            <a:stretch/>
          </p:blipFill>
          <p:spPr>
            <a:xfrm>
              <a:off x="0" y="1603440"/>
              <a:ext cx="9144000" cy="510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1339920" y="2347920"/>
              <a:ext cx="6464160" cy="361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Click to edit the outline text format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1" marL="54756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con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2" marL="82224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Third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3" marL="1096920" indent="-18252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our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4" marL="1389240" indent="-182880">
              <a:spcBef>
                <a:spcPts val="550"/>
              </a:spcBef>
              <a:spcAft>
                <a:spcPts val="300"/>
              </a:spcAft>
              <a:buClr>
                <a:srgbClr val="c3260c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Fif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5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ix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  <a:p>
            <a:pPr lvl="6" marL="1389240" indent="-182880">
              <a:spcBef>
                <a:spcPts val="550"/>
              </a:spcBef>
              <a:spcAft>
                <a:spcPts val="300"/>
              </a:spcAft>
              <a:buClr>
                <a:srgbClr val="000000"/>
              </a:buClr>
              <a:buSzPct val="130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404040"/>
                </a:solidFill>
                <a:latin typeface="Trebuchet MS"/>
              </a:rPr>
              <a:t>Seventh Outline Level</a:t>
            </a: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171840" y="6172200"/>
            <a:ext cx="2514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456840" y="6172200"/>
            <a:ext cx="33526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3809880" y="6172200"/>
            <a:ext cx="1828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2BA4A-F1F3-4D9B-BB33-A18690C7B263}" type="slidenum">
              <a:rPr b="1" lang="en-US" sz="12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6"/>
    <p:sldLayoutId id="2147483689" r:id="rId7"/>
    <p:sldLayoutId id="2147483690" r:id="rId8"/>
    <p:sldLayoutId id="2147483691" r:id="rId9"/>
    <p:sldLayoutId id="2147483692" r:id="rId10"/>
    <p:sldLayoutId id="2147483693" r:id="rId11"/>
    <p:sldLayoutId id="2147483694" r:id="rId12"/>
    <p:sldLayoutId id="2147483695" r:id="rId13"/>
    <p:sldLayoutId id="2147483696" r:id="rId14"/>
    <p:sldLayoutId id="2147483697" r:id="rId15"/>
    <p:sldLayoutId id="2147483698" r:id="rId16"/>
    <p:sldLayoutId id="2147483699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18960" indent="-318960" algn="r">
              <a:lnSpc>
                <a:spcPct val="100000"/>
              </a:lnSpc>
              <a:buClr>
                <a:srgbClr val="c3260c"/>
              </a:buClr>
              <a:buSzPct val="128000"/>
              <a:buFont typeface="Georgia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Тема:</a:t>
            </a:r>
            <a:r>
              <a:rPr b="1" lang="uk-UA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uk-UA" sz="2400" spc="-1" strike="noStrike">
                <a:solidFill>
                  <a:srgbClr val="000000"/>
                </a:solidFill>
                <a:latin typeface="Arial"/>
              </a:rPr>
              <a:t>Узагальнення і систематизація знань учнів</a:t>
            </a:r>
            <a:r>
              <a:rPr b="1" i="1" lang="uk-UA" sz="4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Text Placeholder 2" descr=""/>
          <p:cNvPicPr/>
          <p:nvPr/>
        </p:nvPicPr>
        <p:blipFill>
          <a:blip r:embed="rId2"/>
          <a:stretch/>
        </p:blipFill>
        <p:spPr>
          <a:xfrm>
            <a:off x="0" y="692280"/>
            <a:ext cx="914400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258920" y="12679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2"/>
          <a:stretch/>
        </p:blipFill>
        <p:spPr>
          <a:xfrm>
            <a:off x="-181080" y="-216000"/>
            <a:ext cx="9614160" cy="70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-1189080" y="-69840"/>
            <a:ext cx="10333080" cy="687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701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79280" y="0"/>
            <a:ext cx="8777520" cy="710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-541440" y="17640"/>
            <a:ext cx="9937800" cy="66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93520" y="4371480"/>
            <a:ext cx="6512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143000" y="731520"/>
            <a:ext cx="6400800" cy="34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04040"/>
              </a:solidFill>
              <a:latin typeface="Trebuchet MS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2"/>
          <a:stretch/>
        </p:blipFill>
        <p:spPr>
          <a:xfrm>
            <a:off x="-4716360" y="22320"/>
            <a:ext cx="1366668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Прямоугольник 1"/>
          <p:cNvSpPr/>
          <p:nvPr/>
        </p:nvSpPr>
        <p:spPr>
          <a:xfrm>
            <a:off x="792000" y="404640"/>
            <a:ext cx="6156360" cy="47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b050"/>
                </a:solidFill>
                <a:latin typeface="Arial"/>
              </a:rPr>
              <a:t>Продовжіть рече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4e67c8"/>
                </a:solidFill>
                <a:latin typeface="Arial"/>
              </a:rPr>
              <a:t>Мені сподобалося…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ffff00"/>
                </a:solidFill>
                <a:latin typeface="Arial"/>
              </a:rPr>
              <a:t>Хочу, щоб усі…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800" spc="-1" strike="noStrike">
                <a:solidFill>
                  <a:srgbClr val="862a7f"/>
                </a:solidFill>
                <a:latin typeface="Arial"/>
              </a:rPr>
              <a:t>Тепер я знаю…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" descr="C:\Users\Дмитрий\Desktop\Untitled-112.gif"/>
          <p:cNvPicPr/>
          <p:nvPr/>
        </p:nvPicPr>
        <p:blipFill>
          <a:blip r:embed="rId2"/>
          <a:stretch/>
        </p:blipFill>
        <p:spPr>
          <a:xfrm>
            <a:off x="5003640" y="2565360"/>
            <a:ext cx="3532320" cy="35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" dur="1000"/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1000"/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" dur="1000"/>
                                        <p:tgtEl>
                                          <p:spTgt spid="2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8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" dur="1000"/>
                                        <p:tgtEl>
                                          <p:spTgt spid="2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26T05:28:58Z</dcterms:created>
  <dc:creator/>
  <dc:description/>
  <dc:language>en-US</dc:language>
  <cp:lastModifiedBy>Admin</cp:lastModifiedBy>
  <dcterms:modified xsi:type="dcterms:W3CDTF">2018-11-27T19:26:45Z</dcterms:modified>
  <cp:revision>68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ookName">
    <vt:lpwstr/>
  </property>
  <property fmtid="{D5CDD505-2E9C-101B-9397-08002B2CF9AE}" pid="3" name="IsFreeze">
    <vt:bool>0</vt:bool>
  </property>
  <property fmtid="{D5CDD505-2E9C-101B-9397-08002B2CF9AE}" pid="4" name="MayClose">
    <vt:bool>0</vt:bool>
  </property>
  <property fmtid="{D5CDD505-2E9C-101B-9397-08002B2CF9AE}" pid="5" name="UserClose">
    <vt:bool>0</vt:bool>
  </property>
</Properties>
</file>