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ED74-E983-4D03-A1B0-7B0C050EF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9790-072D-46E6-8322-817CD985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356D-8FA4-41AF-ACAE-931721A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3B77-9970-4284-B903-D2F68A36F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CD9F-B962-4829-AB81-F172AA425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D533D-AE0C-4ECE-926C-326B2B45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53B04-A4D3-40A5-86FF-5936E429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F693-5282-4C19-B202-5CE8415B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839D1-466F-461E-9E36-1D47650D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E7BDF-0115-448E-B8A4-484859CB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E24A3-3CF0-410F-A92F-09091A31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CB3B-F86D-45C7-BA67-11018BAA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B385C-D3D9-4FF3-95F2-A9F84C42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97C69-F72E-4CE9-8224-9274832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B0DA6-959D-4FF6-A9B2-F290A96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96F8A-1A90-407B-8CA0-8BA32F1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EF5E9-11A8-4752-934D-1D7BBCBB8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6CB2-2891-45E9-AF36-D9309B7C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2F19-15A6-4918-93D3-E488B76D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0C3A-4C43-46FA-A140-D4F9BD76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963F-0266-4AD8-8B9B-061C93B3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E2CB-D657-47D9-8E20-7E8C8AE6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C23B-5059-4711-8B81-D24B74C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1A13-6780-4062-949A-939E523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09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1/1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24C332-ECEC-4431-A8CB-BD2492339B54}" type="slidenum">
              <a: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1/1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ACAA40-260B-46AB-86D7-C1B1E336087A}" type="slidenum">
              <a:rPr b="0" lang="uk-UA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000" y="1635120"/>
            <a:ext cx="878364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500" spc="-1" strike="noStrike">
                <a:solidFill>
                  <a:srgbClr val="000000"/>
                </a:solidFill>
                <a:latin typeface="Calibri"/>
              </a:rPr>
              <a:t>Квадратична функція, її властивості та графік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08600" y="4319280"/>
            <a:ext cx="49924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Calibri Light"/>
              </a:rPr>
              <a:t>Урок систематизації та узагальнення матеріалу у 9 класі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232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І. Актуалізаія опорних знан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87280" y="1944720"/>
            <a:ext cx="9072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20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2. За наведеним графіком функції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y = ax² + bx + c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укажіть знаки коефіцієнтів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у кожному випадк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ІІ. Ров'язування зада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8560" y="2104920"/>
            <a:ext cx="77947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584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. Розв'яжіть графічно рівняння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x + 5=|x + 5|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4280" y="1825560"/>
            <a:ext cx="77677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яких значеннях параметра </a:t>
            </a:r>
            <a:r>
              <a:rPr b="0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буток коренів рівняння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 – 2ax + a² – 4a + 12 = 0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ває найменьшого значення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2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ІІІ. Домашне завд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8560" y="2303640"/>
            <a:ext cx="78440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N 8.37; 8.44; 8.48; 8.58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ІV. Cамостійн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2376360"/>
            <a:ext cx="691200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</a:rPr>
              <a:t>#12.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</a:rPr>
              <a:t>Квадратична функція,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</a:rPr>
              <a:t>її графік і властивості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</a:rPr>
              <a:t>СР 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200" y="742680"/>
            <a:ext cx="87775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Мета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83920" y="4830480"/>
            <a:ext cx="9675000" cy="1057680"/>
            <a:chOff x="-583920" y="4830480"/>
            <a:chExt cx="9675000" cy="1057680"/>
          </a:xfrm>
        </p:grpSpPr>
        <p:sp>
          <p:nvSpPr>
            <p:cNvPr id="89" name=""/>
            <p:cNvSpPr/>
            <p:nvPr/>
          </p:nvSpPr>
          <p:spPr>
            <a:xfrm>
              <a:off x="887400" y="5781240"/>
              <a:ext cx="6410160" cy="0"/>
            </a:xfrm>
            <a:prstGeom prst="line">
              <a:avLst/>
            </a:prstGeom>
            <a:ln cap="rnd" w="25560">
              <a:solidFill>
                <a:srgbClr val="969696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3420000">
              <a:off x="464400" y="4983480"/>
              <a:ext cx="726840" cy="6652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583920" y="5066280"/>
              <a:ext cx="967500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Розвивати увагу, пам'ять, мислення, культур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математичного мовл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1880" y="5001480"/>
              <a:ext cx="3499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-830880" y="1453680"/>
            <a:ext cx="10423440" cy="1074240"/>
            <a:chOff x="-830880" y="1453680"/>
            <a:chExt cx="10423440" cy="1074240"/>
          </a:xfrm>
        </p:grpSpPr>
        <p:sp>
          <p:nvSpPr>
            <p:cNvPr id="94" name=""/>
            <p:cNvSpPr/>
            <p:nvPr/>
          </p:nvSpPr>
          <p:spPr>
            <a:xfrm>
              <a:off x="787320" y="2474640"/>
              <a:ext cx="6850080" cy="0"/>
            </a:xfrm>
            <a:prstGeom prst="line">
              <a:avLst/>
            </a:prstGeom>
            <a:ln cap="rnd" w="25560">
              <a:solidFill>
                <a:srgbClr val="969696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3420000">
              <a:off x="334800" y="1618920"/>
              <a:ext cx="780840" cy="711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830880" y="1706040"/>
              <a:ext cx="10423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Формувати вміння аналізувати, контролюва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та оцінювати результати своєї навчальної діяльност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7120" y="1635120"/>
              <a:ext cx="3499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3440" y="2568960"/>
            <a:ext cx="8370000" cy="1100160"/>
            <a:chOff x="73440" y="2568960"/>
            <a:chExt cx="8370000" cy="1100160"/>
          </a:xfrm>
        </p:grpSpPr>
        <p:sp>
          <p:nvSpPr>
            <p:cNvPr id="99" name=""/>
            <p:cNvSpPr/>
            <p:nvPr/>
          </p:nvSpPr>
          <p:spPr>
            <a:xfrm>
              <a:off x="678600" y="3641400"/>
              <a:ext cx="7281720" cy="0"/>
            </a:xfrm>
            <a:prstGeom prst="line">
              <a:avLst/>
            </a:prstGeom>
            <a:ln cap="rnd" w="25560">
              <a:solidFill>
                <a:srgbClr val="969696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420000">
              <a:off x="203040" y="2741400"/>
              <a:ext cx="821520" cy="7552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9720" y="2836440"/>
              <a:ext cx="789372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Формувати вміння формулювати та відстоюва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ласну позиці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3720" y="2763360"/>
              <a:ext cx="3499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0760" y="3704040"/>
            <a:ext cx="8883000" cy="1101960"/>
            <a:chOff x="50760" y="3704040"/>
            <a:chExt cx="8883000" cy="1101960"/>
          </a:xfrm>
        </p:grpSpPr>
        <p:sp>
          <p:nvSpPr>
            <p:cNvPr id="104" name=""/>
            <p:cNvSpPr/>
            <p:nvPr/>
          </p:nvSpPr>
          <p:spPr>
            <a:xfrm>
              <a:off x="675360" y="4778280"/>
              <a:ext cx="7272000" cy="1800"/>
            </a:xfrm>
            <a:prstGeom prst="line">
              <a:avLst/>
            </a:prstGeom>
            <a:ln cap="rnd" w="25560">
              <a:solidFill>
                <a:srgbClr val="969696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3420000">
              <a:off x="193320" y="3876840"/>
              <a:ext cx="822960" cy="756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61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760" y="3971520"/>
              <a:ext cx="888300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Сприяти самовихованню толерантності,сприйнят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думки видмінної від власно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240" y="3898440"/>
              <a:ext cx="3499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280" y="130320"/>
            <a:ext cx="8245440" cy="65973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Те, щ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незрозуміло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потріб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з'ясувати</a:t>
            </a:r>
            <a:r>
              <a:rPr b="0" i="1" lang="uk-UA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Comic Sans MS"/>
              </a:rPr>
              <a:t>Конфу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І. Актуалізаія опорних знан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576360" y="1871640"/>
            <a:ext cx="986472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584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. Графік якої функції зображено на рисунк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3760" y="324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232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2232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232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232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10-30T20:13:00Z</dcterms:modified>
  <cp:revision>7</cp:revision>
  <dc:subject/>
  <dc:title/>
</cp:coreProperties>
</file>