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AE2-84DC-4047-B8D2-A22B38F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C6C-A67B-4331-A6F8-64B19EE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143-21BD-4EA6-8B85-BBC1F7DF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16D-7C94-4A5D-8C6A-F0EF4B2E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3A2-6C60-487F-A8F8-5391CE6B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8B6B-9586-48BE-B1CB-C3D9809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3119-601C-4599-A90F-3D25038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57AF-DCEF-4042-855B-5F34E47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F1DD-3544-4F96-AFB9-0DAAD2B5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F49A-DF62-4C7D-BD16-62108198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F459-276F-4F8A-9EA9-4D63CDA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C81-02D6-416A-ACC8-2A4E4E2C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6C7-2A67-4D26-9CD4-82F276F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CCD2-1389-4282-BE2C-02059F3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1039-DFCE-479F-AC8A-693BBCC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C5FD-1423-451C-B0C7-A08711E2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0405-A796-4CD6-BDB2-AC171D27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692-6A28-4300-8D4A-FCA5F3D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A11-62BC-48F0-AB5C-F7A57D7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905-102C-4F5A-9243-9EDEAB4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9F9-2636-4A9C-A236-DC078BC1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E5F-BDBD-4650-9638-B193D01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97D-9D59-430D-8B5E-A24584D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E2D-ED9F-4A2B-973E-9870EDD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8A1-6CDC-4297-A7F0-3252BD0ECA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B78-EA4D-44DA-A230-61163864F2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art-builder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9343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Хто </a:t>
            </a: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малого</a:t>
            </a: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не ЦІНУЄ,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той </a:t>
            </a: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великого</a:t>
            </a: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не вар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Луценко Н.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читель фіз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870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rot="14889600">
            <a:off x="1634040" y="205200"/>
            <a:ext cx="4997520" cy="5907240"/>
          </a:xfrm>
          <a:prstGeom prst="flowChartManualOperati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133720"/>
            <a:ext cx="5029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Копійка до копій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і комп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ютер школі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Успіхів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26668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ff"/>
                </a:solidFill>
                <a:latin typeface="Comic Sans MS"/>
              </a:rPr>
              <a:t>Мета проект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овторити і закріпити поняття електроенергія, потужність, сила струму, напруга, ресурси, вичерпність, бережливість, економі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Навчити визначати вартість електроенергії за даний ча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оказати значущість економії енергоносіїв, а значить і своїх кошті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ховувати наполегливість, самостійність, бережливі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33"/>
                </a:solidFill>
                <a:latin typeface="Comic Sans MS"/>
              </a:rPr>
              <a:t>Економити</a:t>
            </a:r>
            <a:r>
              <a:rPr b="0" lang="uk-UA" sz="4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990033"/>
                </a:solidFill>
                <a:latin typeface="Comic Sans MS"/>
              </a:rPr>
              <a:t>–</a:t>
            </a:r>
            <a:r>
              <a:rPr b="0" lang="uk-UA" sz="4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990033"/>
                </a:solidFill>
                <a:latin typeface="Comic Sans MS"/>
              </a:rPr>
              <a:t>це значить рахувати чи берегти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19520" y="22096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ВОСЬМИКЛАСНИКИ</a:t>
            </a: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  ПРИКИНЬТЕ 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505320"/>
            <a:ext cx="6096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200"/>
                </a:solidFill>
                <a:latin typeface="Comic Sans MS"/>
              </a:rPr>
              <a:t>      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Чи можливо за рахунок економії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електроенергії купити комп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’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ютер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800600"/>
            <a:ext cx="6553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Які існують шляхи економн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uk-UA" sz="2400" spc="-1" strike="noStrike">
                <a:solidFill>
                  <a:srgbClr val="333399"/>
                </a:solidFill>
                <a:latin typeface="Comic Sans MS"/>
              </a:rPr>
              <a:t>витрачення електроенергії</a:t>
            </a:r>
            <a:r>
              <a:rPr b="1" lang="uk-UA" sz="1800" spc="-1" strike="noStrike">
                <a:solidFill>
                  <a:srgbClr val="333399"/>
                </a:solidFill>
                <a:latin typeface="Comic Sans MS"/>
              </a:rPr>
              <a:t> 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71756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4753080"/>
            <a:ext cx="19051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Comic Sans MS"/>
              </a:rPr>
              <a:t>Під час роботи з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’</a:t>
            </a:r>
            <a:r>
              <a:rPr b="0" lang="uk-UA" sz="4400" spc="-1" strike="noStrike">
                <a:solidFill>
                  <a:srgbClr val="0000ff"/>
                </a:solidFill>
                <a:latin typeface="Comic Sans MS"/>
              </a:rPr>
              <a:t>ясуй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Скільки економиться електроенергії, коли скоротити роботу однієї лампочки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0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Скільки електроенергії витрачається у вашому будинку, школі, селі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0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Які існують способи економії електроенергії?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1865160"/>
            <a:ext cx="39625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479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Comic Sans MS"/>
              </a:rPr>
              <a:t>З а в д а н н 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uk-UA" sz="3200" spc="-1" strike="noStrike">
                <a:solidFill>
                  <a:srgbClr val="00cc99"/>
                </a:solidFill>
                <a:latin typeface="Comic Sans MS"/>
              </a:rPr>
              <a:t>Визначте проблем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33cccc"/>
                </a:solidFill>
                <a:latin typeface="Comic Sans MS"/>
              </a:rPr>
              <a:t>енергозбереження та встанові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0099ff"/>
                </a:solidFill>
                <a:latin typeface="Comic Sans MS"/>
              </a:rPr>
              <a:t>як можна зекономи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3366ff"/>
                </a:solidFill>
                <a:latin typeface="Comic Sans MS"/>
              </a:rPr>
              <a:t>на освітленні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Comic Sans MS"/>
              </a:rPr>
              <a:t>в школ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 rot="5400000">
            <a:off x="-1371960" y="2286000"/>
            <a:ext cx="48006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1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чен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685800"/>
            <a:ext cx="7010640" cy="4876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Comic Sans MS"/>
              </a:rPr>
              <a:t>З а в д а н н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uk-UA" sz="3200" spc="-1" strike="noStrike">
                <a:solidFill>
                  <a:srgbClr val="007400"/>
                </a:solidFill>
                <a:latin typeface="Comic Sans MS"/>
              </a:rPr>
              <a:t>Визначте проблем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ff0000"/>
                </a:solidFill>
                <a:latin typeface="Comic Sans MS"/>
              </a:rPr>
              <a:t>енергозбереження та встанові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0099ff"/>
                </a:solidFill>
                <a:latin typeface="Comic Sans MS"/>
              </a:rPr>
              <a:t>як можна зеконом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3366ff"/>
                </a:solidFill>
                <a:latin typeface="Comic Sans MS"/>
              </a:rPr>
              <a:t>на освітлен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Comic Sans MS"/>
              </a:rPr>
              <a:t>в шко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Comic Sans MS"/>
              </a:rPr>
              <a:t>Оформити повідом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5400000">
            <a:off x="-1562040" y="247644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ати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572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83808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858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762120"/>
            <a:ext cx="6248160" cy="4647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1447920"/>
            <a:ext cx="5715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Завданн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dff"/>
                </a:solidFill>
                <a:latin typeface="Comic Sans MS"/>
              </a:rPr>
              <a:t>Обчисліть споживання електричної енергії шкільних лам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dff"/>
                </a:solidFill>
                <a:latin typeface="Comic Sans MS"/>
              </a:rPr>
              <a:t>Зробити презентаці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81080" y="184104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Спрогнозуйте економію коштів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Скільки можна заощадити, замінивш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лампи розжарення на люмінесцентні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дома у школі та сел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Які існують сполсоби економії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електроенергії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ff"/>
                </a:solidFill>
                <a:latin typeface="Comic Sans MS"/>
              </a:rPr>
              <a:t>а це для вас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 rot="5400000">
            <a:off x="-1447920" y="213336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економі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905120"/>
            <a:ext cx="6781680" cy="4572000"/>
          </a:xfrm>
          <a:prstGeom prst="octagon">
            <a:avLst>
              <a:gd name="adj" fmla="val 2928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Спрогнозуйте економію коштів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Скільки можна заощади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замінивш лампи розжар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на люмінесцентні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дома, у школі та сел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Які існують способи економії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енергії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Створити публікац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426440" y="0"/>
            <a:ext cx="1717560" cy="2057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47920" y="380880"/>
            <a:ext cx="1981080" cy="7621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72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Допоміжна літератур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81080" y="1752480"/>
            <a:ext cx="617220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1.КоршакЄ.В.,ЛяшенкоО.І.,СавченкоВ.Ф.Фізика.,8 клас,підр. Київ;Ірпінь:ВТФ “Перун” 2000.– 192с.:і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2.БілявськийГ.О.,ПадунМ.Н.,Фурдуй Р.С. Основи загальної екології.-К.:Либідь, 2000.-186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3.Похід бережливих. Очерки.- К.:Веселка,1995.-158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art-builders.com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-mail:gomulina@indo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5410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mic Sans MS"/>
              </a:rPr>
              <a:t>Термін викон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5943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2 тиж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</cp:lastModifiedBy>
  <dcterms:modified xsi:type="dcterms:W3CDTF">2008-03-03T08:04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