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2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E858-2783-422A-9CEB-6DD0AE4A3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4C23-931F-4E75-9C3E-D2BA5F09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72A5-8BFF-47DD-978F-53A257DE6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B7CE-8C2F-43B2-AAE5-F7A7C5079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3F13-94F1-4579-87E1-AC231AD7E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CA67-1C18-4230-B79A-4C8A0D49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4254-945F-4C08-9D67-3A1EE151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91F5-5A97-4DDB-BA2E-15CE39D0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6B9D-DA55-4814-8668-6BD80156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4858-49F4-476F-AE42-F12FD730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2844-C215-4C2C-88FB-DF168F5C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BF5D-149B-400F-9206-360866F6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77F0-35AC-4B0F-BB84-06197023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310F-CC76-40A9-AA27-3250F6D5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36FB-B5ED-4C35-BB6D-885004CC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EBDB-CD95-4E8D-A82D-116057D4C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A083-A178-4BAE-9679-CA68773BB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3918D-7579-4E9A-8E95-D078F6791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2FAF2-3A01-4495-BD48-5E882154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28A9F-6096-4422-BBF6-58B82AAA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479E1-9AD1-4066-8C73-34511AF7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41240-168E-44CC-8BDB-72A086F5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2AA8-E506-4C89-8CDC-D3109C3A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D942A-DEEB-4A10-87CA-A4E2D115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2AD10-31E4-4173-AADA-F52500E9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A7B20-E191-4DD8-91FF-8A9AE811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EBF5A-8F7F-44EA-B0B9-D494DC11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332FB-4653-4F28-B3F0-E75FDD20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8837A-C3E4-44DA-9ED9-277985554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99038-8E32-4CF1-8A94-EF3988243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9C5C2-6727-471C-A552-79B352A13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A643B-692A-4C84-B633-B4DA3DDE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31727-015E-4F40-9C8B-3DF8E398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0502-3AB3-4835-9BC2-8E53268C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80D76-6D8A-4E1D-978F-4903FA0A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5CDD6-B23C-41D5-AFAB-5B12D186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CE392-014F-40D3-B832-2F250395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9AA2F-6B24-4588-9EFA-00A83A3E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F81C6-5128-4930-9089-0743F4AC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977DF-1802-437B-AE6E-15C7D176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2CB3B-CC7E-406B-A10D-943FF539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27CC0-7D2C-4912-858B-3C40C0FC5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FB0F3-BE33-4F71-8D61-A5BD91E1E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2D4E-398E-46A8-A8F6-873C9202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8668-4E0F-48B1-832E-72D94FF5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92FA-6A68-454F-8AAE-9F622579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F6F0-126E-4B48-B4FD-23EBD49F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5848-CC6B-435C-A6FE-1543903F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05E6-68E0-4F8F-9B40-CD8748D9943D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3780-FDE8-4417-B61B-A6AA66C0AF07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8A90-9025-486F-8FE4-1B1FD2D4B597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BBC8-070F-44FD-AC67-9F171DD2792E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tortoise-hare-3"/>
          <p:cNvPicPr/>
          <p:nvPr/>
        </p:nvPicPr>
        <p:blipFill>
          <a:blip r:embed="rId1"/>
          <a:srcRect l="41194" t="0" r="0" b="0"/>
          <a:stretch/>
        </p:blipFill>
        <p:spPr>
          <a:xfrm>
            <a:off x="5651640" y="1206360"/>
            <a:ext cx="3168360" cy="4040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&amp;Ucy;&amp;vcy;&amp;iecy;&amp;lcy;&amp;icy;&amp;chcy;&amp;icy;&amp;tcy;&amp;softcy; - &amp;scy;&amp;kcy;&amp;rcy;&amp;icy;&amp;ncy;&amp;shcy;&amp;ocy;&amp;tcy; &amp;icy;&amp;zcy; &amp;CHcy;&amp;iecy;&amp;rcy;&amp;iecy;&amp;pcy;&amp;acy;&amp;khcy;&amp;acy; &amp;icy; &amp;Zcy;&amp;acy;&amp;yacy;&amp;tscy;: &amp;scy;&amp;kcy;&amp;acy;&amp;zcy;&amp;ocy;&amp;chcy;&amp;ncy;&amp;ycy;&amp;jcy; HD &amp;dcy;&amp;lcy;&amp;yacy; Android"/>
          <p:cNvPicPr/>
          <p:nvPr/>
        </p:nvPicPr>
        <p:blipFill>
          <a:blip r:embed="rId2"/>
          <a:srcRect l="0" t="0" r="13545" b="0"/>
          <a:stretch/>
        </p:blipFill>
        <p:spPr>
          <a:xfrm>
            <a:off x="263520" y="3457440"/>
            <a:ext cx="4465800" cy="30974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http://upload.wikimedia.org/wikipedia/ru/thumb/5/5e/Toby_Tortoise_and_Max_Hare.jpg/220px-Toby_Tortoise_and_Max_Hare.jpg"/>
          <p:cNvPicPr/>
          <p:nvPr/>
        </p:nvPicPr>
        <p:blipFill>
          <a:blip r:embed="rId3"/>
          <a:stretch/>
        </p:blipFill>
        <p:spPr>
          <a:xfrm>
            <a:off x="281160" y="115920"/>
            <a:ext cx="443052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F:\587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3"/>
          <p:cNvSpPr/>
          <p:nvPr/>
        </p:nvSpPr>
        <p:spPr>
          <a:xfrm>
            <a:off x="325440" y="1197000"/>
            <a:ext cx="8497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1.Назвіть жанр твору про Зайця і Черепаху, який ви щойно прослухали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Trebuchet MS"/>
              </a:rPr>
              <a:t>                                                                 </a:t>
            </a:r>
            <a:r>
              <a:rPr b="0" lang="uk-UA" sz="1800" spc="-1" strike="noStrike">
                <a:solidFill>
                  <a:srgbClr val="ff0000"/>
                </a:solidFill>
                <a:latin typeface="Trebuchet MS"/>
              </a:rPr>
              <a:t>(байка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2.Назвіть ім’я засновника байкарського мистецтва.       </a:t>
            </a:r>
            <a:r>
              <a:rPr b="0" lang="uk-UA" sz="1800" spc="-1" strike="noStrike">
                <a:solidFill>
                  <a:srgbClr val="ff0000"/>
                </a:solidFill>
                <a:latin typeface="Trebuchet MS"/>
              </a:rPr>
              <a:t>(Езоп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3.Найвідоміший французький байкар.                            </a:t>
            </a:r>
            <a:r>
              <a:rPr b="0" lang="uk-UA" sz="1800" spc="-1" strike="noStrike">
                <a:solidFill>
                  <a:srgbClr val="ff0000"/>
                </a:solidFill>
                <a:latin typeface="Trebuchet MS"/>
              </a:rPr>
              <a:t>(Лафонтен)           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4.Всесвітньовідомий російський байкар.                        </a:t>
            </a:r>
            <a:r>
              <a:rPr b="0" lang="uk-UA" sz="1800" spc="-1" strike="noStrike">
                <a:solidFill>
                  <a:srgbClr val="ff0000"/>
                </a:solidFill>
                <a:latin typeface="Trebuchet MS"/>
              </a:rPr>
              <a:t>(І.Крилов)                   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5.Як називають авторів байок?                                        </a:t>
            </a:r>
            <a:r>
              <a:rPr b="0" lang="uk-UA" sz="1800" spc="-1" strike="noStrike">
                <a:solidFill>
                  <a:srgbClr val="ff0000"/>
                </a:solidFill>
                <a:latin typeface="Trebuchet MS"/>
              </a:rPr>
              <a:t>(байкарі)                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6.Назвіть українських байкарів. (</a:t>
            </a:r>
            <a:r>
              <a:rPr b="0" lang="uk-UA" sz="1800" spc="-1" strike="noStrike">
                <a:solidFill>
                  <a:srgbClr val="ff0000"/>
                </a:solidFill>
                <a:latin typeface="Trebuchet MS"/>
              </a:rPr>
              <a:t>Л.Глібов, Г.Сковорода, С.Олійник,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Trebuchet MS"/>
              </a:rPr>
              <a:t>О. Вишня, Є.Гребінка, П. Гулак-Артемовський,  Годованець,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Trebuchet MS"/>
              </a:rPr>
              <a:t>С. Руданський, Павло Глазовий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7.  Назвіть головних героїв байок.</a:t>
            </a:r>
            <a:r>
              <a:rPr b="0" lang="uk-UA" sz="1800" spc="-1" strike="noStrike">
                <a:solidFill>
                  <a:srgbClr val="ff0000"/>
                </a:solidFill>
                <a:latin typeface="Trebuchet MS"/>
              </a:rPr>
              <a:t>(люди, птахи, рослини, тварини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8.  Як називається мова байок, сповнена недомовок, натяків? </a:t>
            </a:r>
            <a:r>
              <a:rPr b="0" lang="uk-UA" sz="1800" spc="-1" strike="noStrike">
                <a:solidFill>
                  <a:srgbClr val="f14124"/>
                </a:solidFill>
                <a:latin typeface="Trebuchet MS"/>
              </a:rPr>
              <a:t>(Езопова )     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9.  З яких частин складається байка? </a:t>
            </a:r>
            <a:r>
              <a:rPr b="0" lang="uk-UA" sz="1800" spc="-1" strike="noStrike">
                <a:solidFill>
                  <a:srgbClr val="f14124"/>
                </a:solidFill>
                <a:latin typeface="Trebuchet MS"/>
              </a:rPr>
              <a:t>(оповідальна та повчальна/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14124"/>
                </a:solidFill>
                <a:latin typeface="Trebuchet MS"/>
              </a:rPr>
              <a:t>                                                                 </a:t>
            </a:r>
            <a:r>
              <a:rPr b="0" lang="uk-UA" sz="1800" spc="-1" strike="noStrike">
                <a:solidFill>
                  <a:srgbClr val="f14124"/>
                </a:solidFill>
                <a:latin typeface="Trebuchet MS"/>
              </a:rPr>
              <a:t>розповідь та мораль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10. Як називається частина байки, де міститься повчання? </a:t>
            </a:r>
            <a:r>
              <a:rPr b="0" lang="uk-UA" sz="1800" spc="-1" strike="noStrike">
                <a:solidFill>
                  <a:srgbClr val="f14124"/>
                </a:solidFill>
                <a:latin typeface="Trebuchet MS"/>
              </a:rPr>
              <a:t>(мораль)            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11. Відображення одного предмета через інший  називається.. </a:t>
            </a:r>
            <a:r>
              <a:rPr b="0" lang="uk-UA" sz="1800" spc="-1" strike="noStrike">
                <a:solidFill>
                  <a:srgbClr val="f14124"/>
                </a:solidFill>
                <a:latin typeface="Trebuchet MS"/>
              </a:rPr>
              <a:t>(алегорія)                   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12. Назвіть авторів байки про Вовка та Ягня</a:t>
            </a:r>
            <a:r>
              <a:rPr b="0" lang="uk-UA" sz="1800" spc="-1" strike="noStrike">
                <a:solidFill>
                  <a:srgbClr val="f14124"/>
                </a:solidFill>
                <a:latin typeface="Trebuchet MS"/>
              </a:rPr>
              <a:t>.    (Езоп,  І.А.Крилов, Л.Глібов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8" name="Прямоугольник 4" descr=""/>
          <p:cNvPicPr/>
          <p:nvPr/>
        </p:nvPicPr>
        <p:blipFill>
          <a:blip r:embed="rId1"/>
          <a:stretch/>
        </p:blipFill>
        <p:spPr>
          <a:xfrm>
            <a:off x="244440" y="-92160"/>
            <a:ext cx="905832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10" descr="http://www.cult.gov.ua/_nw/34/60523939.jpg"/>
          <p:cNvPicPr/>
          <p:nvPr/>
        </p:nvPicPr>
        <p:blipFill>
          <a:blip r:embed="rId1"/>
          <a:srcRect l="13517" t="0" r="9108" b="0"/>
          <a:stretch/>
        </p:blipFill>
        <p:spPr>
          <a:xfrm>
            <a:off x="6156360" y="2943360"/>
            <a:ext cx="3002040" cy="3879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2" descr="http://school.xvatit.com/images/3/35/T20k1.jpeg"/>
          <p:cNvPicPr/>
          <p:nvPr/>
        </p:nvPicPr>
        <p:blipFill>
          <a:blip r:embed="rId2"/>
          <a:stretch/>
        </p:blipFill>
        <p:spPr>
          <a:xfrm>
            <a:off x="2921040" y="1844640"/>
            <a:ext cx="3168720" cy="40813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http://artnow.ru/img/453000/453525.jpg"/>
          <p:cNvPicPr/>
          <p:nvPr/>
        </p:nvPicPr>
        <p:blipFill>
          <a:blip r:embed="rId3"/>
          <a:stretch/>
        </p:blipFill>
        <p:spPr>
          <a:xfrm>
            <a:off x="0" y="733320"/>
            <a:ext cx="2859120" cy="4149720"/>
          </a:xfrm>
          <a:prstGeom prst="rect">
            <a:avLst/>
          </a:prstGeom>
          <a:ln w="0">
            <a:noFill/>
          </a:ln>
        </p:spPr>
      </p:pic>
      <p:pic>
        <p:nvPicPr>
          <p:cNvPr id="222" name="Прямоугольник 5" descr=""/>
          <p:cNvPicPr/>
          <p:nvPr/>
        </p:nvPicPr>
        <p:blipFill>
          <a:blip r:embed="rId4"/>
          <a:stretch/>
        </p:blipFill>
        <p:spPr>
          <a:xfrm>
            <a:off x="-225360" y="55440"/>
            <a:ext cx="9551880" cy="12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Прямоугольник 4" descr=""/>
          <p:cNvPicPr/>
          <p:nvPr/>
        </p:nvPicPr>
        <p:blipFill>
          <a:blip r:embed="rId1"/>
          <a:stretch/>
        </p:blipFill>
        <p:spPr>
          <a:xfrm>
            <a:off x="-66600" y="-55440"/>
            <a:ext cx="9167760" cy="525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307800" y="549360"/>
          <a:ext cx="8425080" cy="597528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214720"/>
              </a:tblGrid>
              <a:tr h="714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«Вовк і Ягн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Езо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Крил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Гліб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714240">
                <a:tc gridSpan="4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піль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4600"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итуаці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4600"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кладові частини бай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пільна думка, яку стверджують бай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807840"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и є діалог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7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иси характеру Вовка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                           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Ягнят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Прямоугольник 4" descr=""/>
          <p:cNvPicPr/>
          <p:nvPr/>
        </p:nvPicPr>
        <p:blipFill>
          <a:blip r:embed="rId1"/>
          <a:stretch/>
        </p:blipFill>
        <p:spPr>
          <a:xfrm>
            <a:off x="-66600" y="-55440"/>
            <a:ext cx="9167760" cy="525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307800" y="549360"/>
          <a:ext cx="8425080" cy="612936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2147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«Вовк і Ягн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Езо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Крил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Гліб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36612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піль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озповідається про схожу ситуацію, в яку потрапило Ягня, зустрівшись із Вовко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Байки складаються з оповідальної та повчальної част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95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пільна думка, яку стверджують бай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«…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авіть справе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-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ливий захист не має сили для тих, хто заповзявся чинити кривду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«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У сильного  всегда бессильный виноват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…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«…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більший меншого кусає та ще й б'є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Затим що сила є...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852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іалог ведеться між Вовком та Ягням – алегоричні образи зухвалості(Вовк) та слабкості (Ягн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2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иси характеру Вовка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Ягнят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ицемірство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хижість, безсо-ромність, си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беззахисність,чес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ість, слабкі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ідлість, хижість, грубість, нахабство, злість, си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беззахисність,чес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ість, слабкість, вихованіст, логіч-ність поясн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ідлість, хижість, грубість, нахабство, злість, грубість,си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«Вовк, неначе комісар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беззахисність,чесність, слабкість, вихованість, логічність поясн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307800" y="549360"/>
          <a:ext cx="8425080" cy="391140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214720"/>
              </a:tblGrid>
              <a:tr h="508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«Вовк і Ягн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Езо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Крил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Гліб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510120">
                <a:tc gridSpan="4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ідмін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6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ов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63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Художні засоб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641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ораль, місце розташув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842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ас написання та краї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307800" y="549360"/>
          <a:ext cx="8425080" cy="3827520"/>
        </p:xfrm>
        <a:graphic>
          <a:graphicData uri="http://schemas.openxmlformats.org/drawingml/2006/table">
            <a:tbl>
              <a:tblPr/>
              <a:tblGrid>
                <a:gridCol w="2070360"/>
                <a:gridCol w="2070000"/>
                <a:gridCol w="2070000"/>
                <a:gridCol w="2214720"/>
              </a:tblGrid>
              <a:tr h="505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«Вовк і Ягн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Езо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Крил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Гліб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507240">
                <a:tc gridSpan="4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ідмін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6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ов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ро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іршов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іршов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63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Художні засоб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емає епітетів 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інших засоб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рислів’я, епіте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Епітети, порівнянн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563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ораль, місце розташув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У кінці бай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а почат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а почат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842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ас написання та краї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 ст. до н.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Греці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очаток 19 с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осі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ередина 19 с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Украї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http://www.gutenberg.org/files/19994/19994-h/images/i036_th.jpg"/>
          <p:cNvPicPr/>
          <p:nvPr/>
        </p:nvPicPr>
        <p:blipFill>
          <a:blip r:embed="rId1"/>
          <a:stretch/>
        </p:blipFill>
        <p:spPr>
          <a:xfrm>
            <a:off x="155520" y="189000"/>
            <a:ext cx="887580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Прямоугольник 3" descr=""/>
          <p:cNvPicPr/>
          <p:nvPr/>
        </p:nvPicPr>
        <p:blipFill>
          <a:blip r:embed="rId1"/>
          <a:stretch/>
        </p:blipFill>
        <p:spPr>
          <a:xfrm>
            <a:off x="-171360" y="-96840"/>
            <a:ext cx="4462200" cy="1108080"/>
          </a:xfrm>
          <a:prstGeom prst="rect">
            <a:avLst/>
          </a:prstGeom>
          <a:ln w="0">
            <a:noFill/>
          </a:ln>
        </p:spPr>
      </p:pic>
      <p:sp>
        <p:nvSpPr>
          <p:cNvPr id="231" name="TextBox 5"/>
          <p:cNvSpPr/>
          <p:nvPr/>
        </p:nvSpPr>
        <p:spPr>
          <a:xfrm>
            <a:off x="0" y="571680"/>
            <a:ext cx="864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rebuchet MS"/>
              </a:rPr>
              <a:t>Вивчити байку І.А.Крилова «Вовк та Ягня» (укр. мовою), підготуватися до її інсценізації (виразно читати у особах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2" name="Picture 2" descr="F:\5869.jpg"/>
          <p:cNvPicPr/>
          <p:nvPr/>
        </p:nvPicPr>
        <p:blipFill>
          <a:blip r:embed="rId2"/>
          <a:stretch/>
        </p:blipFill>
        <p:spPr>
          <a:xfrm>
            <a:off x="-4680" y="1285920"/>
            <a:ext cx="91486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5T10:08:39Z</dcterms:created>
  <dc:creator>1</dc:creator>
  <dc:description/>
  <dc:language>en-US</dc:language>
  <cp:lastModifiedBy>User</cp:lastModifiedBy>
  <dcterms:modified xsi:type="dcterms:W3CDTF">2012-12-01T12:49:29Z</dcterms:modified>
  <cp:revision>28</cp:revision>
  <dc:subject/>
  <dc:title>Презентация PowerPoint</dc:title>
</cp:coreProperties>
</file>