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2D7-92C7-4009-8F9B-AC7C2F2C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626-D0DD-47FE-A8A4-DE6CBABC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52A-F393-4B3E-A06C-A132B2CF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418-4F74-4550-A39D-68D4D556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5F3F-3B49-4155-9DFB-DAADE75C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02FD-CA3F-4272-BCE6-7C7F64C4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64A9-7E33-43AF-912D-58A8EA40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0200-8ED5-4090-A009-1E4B1CCD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DEE3-ED06-411D-9EE0-D43E26D6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1D30-78E4-4992-B4CA-FBE39010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77C9-4827-4F32-855A-2F069D7A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5E8-9289-4F62-B798-22047F8E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913A-D5AF-408A-B125-D370E32F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8AC8-537E-4D12-A3F8-AD73FA45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B4B1-DC3F-4CF8-A44E-05C49C55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0965-F203-44AF-A335-9E4595BB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8FDE-041B-4208-BAC3-47C35492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F4DC-4DEC-4BA8-A9AE-D19515C2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29F6-A1E5-41F9-B4DA-B2ADF19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4910-F968-4BC8-809C-9300CD50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CC8ED-3F0D-4387-BD21-8EBFB974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060B-886D-477A-8240-981C0AAA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7BC-9252-479C-861D-C9E26A58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82E3-D893-4D04-80C8-21135213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EDFB-F2EF-4A58-8912-57DFC8D9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80524-7AF5-43C5-B2A0-D84D071B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5E3C-CAFE-45EA-98AA-8118E81C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CFFE-995E-4AEC-AF95-51BDDEB6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F4A9-0FDE-4AE8-A7B9-F695D535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DD4F-D66F-4F07-961B-90041558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DEE22-39A5-4CA3-A478-84ED35B0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408A2-22AD-4ED3-9782-DBFA8D7C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E466-521E-4565-ADCC-B714FBC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C04-3E81-436D-B5EE-634F5566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148D7-5A8E-4C30-8531-76E0E408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B92D8-D4A5-4966-8D61-34B6A0AC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DF7A-5EEB-432E-8A10-9DB2223E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D289-0762-47A4-AAA9-4276D57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EBF0-D056-42B1-8F63-67FE4B2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C8E7-080B-4F85-B17B-2C2783A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B4489-77F6-4FCD-96DE-5C7D7B5A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F1E1-1AE9-4007-B793-2DBC7B4D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2346-33B0-4A8F-9C40-947B47DE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CB1-EBE3-41EF-B6A8-8699752F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45C-79EE-4A01-AE3B-9CBA9D99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CB6-4331-4D45-831E-3E7C3E3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251-E82E-40E0-920C-29C0E77B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7D4-8896-41D4-AEC8-5DAF003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B848-DF8B-42F6-94C5-E2A31A6BF82C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484E-9C7B-4427-9E1B-CED0EC56AD12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1BE9-FC92-486D-A94E-9C769C252698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E490-5809-42A4-8582-0DE9AAA48E3F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" y="4572000"/>
            <a:ext cx="88916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Verdana"/>
              </a:rPr>
              <a:t>ЛЮДИНА ПОЧИНАЄТЬСЯ З ДОБРА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98" name="Picture 4" descr="http://chuvstvnet.ru/dobrota/dobr-1-.jpg"/>
          <p:cNvPicPr/>
          <p:nvPr/>
        </p:nvPicPr>
        <p:blipFill>
          <a:blip r:embed="rId1"/>
          <a:stretch/>
        </p:blipFill>
        <p:spPr>
          <a:xfrm>
            <a:off x="138240" y="225360"/>
            <a:ext cx="4344840" cy="457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http://stat20.privet.ru/lr/0c0899158475e17cc6d508ee982941b1"/>
          <p:cNvPicPr/>
          <p:nvPr/>
        </p:nvPicPr>
        <p:blipFill>
          <a:blip r:embed="rId2"/>
          <a:stretch/>
        </p:blipFill>
        <p:spPr>
          <a:xfrm>
            <a:off x="4714920" y="189000"/>
            <a:ext cx="4167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1640" y="228240"/>
            <a:ext cx="436716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4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300" spc="-1" strike="noStrike">
                <a:solidFill>
                  <a:srgbClr val="0000cc"/>
                </a:solidFill>
                <a:latin typeface="Verdana"/>
              </a:rPr>
              <a:t>Сухомлинський Василь Олександрович- чудовий письменник,</a:t>
            </a:r>
            <a:r>
              <a:rPr b="0" lang="en-US" sz="3300" spc="-1" strike="noStrike">
                <a:solidFill>
                  <a:srgbClr val="0000cc"/>
                </a:solidFill>
                <a:latin typeface="Verdana"/>
              </a:rPr>
              <a:t>                         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uk-UA" sz="3300" spc="-1" strike="noStrike">
                <a:solidFill>
                  <a:srgbClr val="0000cc"/>
                </a:solidFill>
                <a:latin typeface="Verdana"/>
              </a:rPr>
              <a:t>учитель від Бога,</a:t>
            </a:r>
            <a:r>
              <a:rPr b="0" lang="en-US" sz="3300" spc="-1" strike="noStrike">
                <a:solidFill>
                  <a:srgbClr val="0000cc"/>
                </a:solidFill>
                <a:latin typeface="Verdana"/>
              </a:rPr>
              <a:t>           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300" spc="-1" strike="noStrike">
                <a:solidFill>
                  <a:srgbClr val="0000cc"/>
                </a:solidFill>
                <a:latin typeface="Verdana"/>
              </a:rPr>
              <a:t>прекрасна людина.</a:t>
            </a:r>
            <a:endParaRPr b="0" lang="en-US" sz="33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01" name="Picture 3" descr="DSC00697"/>
          <p:cNvPicPr/>
          <p:nvPr/>
        </p:nvPicPr>
        <p:blipFill>
          <a:blip r:embed="rId1"/>
          <a:stretch/>
        </p:blipFill>
        <p:spPr>
          <a:xfrm>
            <a:off x="324000" y="228600"/>
            <a:ext cx="4392360" cy="5511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63520" y="551160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800" spc="-1" strike="noStrike">
                <a:solidFill>
                  <a:srgbClr val="0000cc"/>
                </a:solidFill>
                <a:latin typeface="Verdana"/>
              </a:rPr>
              <a:t>1918 - 1970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1" descr="Село"/>
          <p:cNvPicPr/>
          <p:nvPr/>
        </p:nvPicPr>
        <p:blipFill>
          <a:blip r:embed="rId1"/>
          <a:stretch/>
        </p:blipFill>
        <p:spPr>
          <a:xfrm>
            <a:off x="539640" y="260280"/>
            <a:ext cx="8191440" cy="4103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036000" cy="2449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eea73">
                <a:alpha val="50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родився В. О. Сухомлинський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8 вересня 1918 року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селі Василівка на Кіровоградщині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родині бідного селянина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advTm="23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50560" y="5589360"/>
            <a:ext cx="8785080" cy="115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3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Verdana"/>
              </a:rPr>
              <a:t>В 1935 році розпочав свою педагогічну діяльність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06" name="Picture 7" descr="http://www.dnpb.gov.ua/datas/upload/imgs/188776765.jpg"/>
          <p:cNvPicPr/>
          <p:nvPr/>
        </p:nvPicPr>
        <p:blipFill>
          <a:blip r:embed="rId1"/>
          <a:stretch/>
        </p:blipFill>
        <p:spPr>
          <a:xfrm>
            <a:off x="250920" y="115920"/>
            <a:ext cx="8569080" cy="5473800"/>
          </a:xfrm>
          <a:prstGeom prst="rect">
            <a:avLst/>
          </a:prstGeom>
          <a:ln w="0">
            <a:noFill/>
          </a:ln>
        </p:spPr>
      </p:pic>
    </p:spTree>
  </p:cSld>
  <p:transition advTm="14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0" y="4797000"/>
            <a:ext cx="9144000" cy="191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eea73">
                <a:alpha val="50000"/>
              </a:srgbClr>
            </a:outerShdw>
          </a:effectLst>
        </p:spPr>
        <p:txBody>
          <a:bodyPr anchor="ctr">
            <a:normAutofit fontScale="88000"/>
          </a:bodyPr>
          <a:p>
            <a:pPr indent="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В. О. Сухомлинський – ветеран Великої Вітчизняної війни. З 1941 по 1942 рік воював, був двічі важко поранений.</a:t>
            </a:r>
            <a:endParaRPr b="0" lang="en-US" sz="3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08" name="Picture 5" descr="http://xn--80aaxgqbdi.xn--p1ai/00001kart/kart11.jpg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752720"/>
          </a:xfrm>
          <a:prstGeom prst="rect">
            <a:avLst/>
          </a:prstGeom>
          <a:ln w="0">
            <a:noFill/>
          </a:ln>
        </p:spPr>
      </p:pic>
    </p:spTree>
  </p:cSld>
  <p:transition advTm="21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5084280"/>
            <a:ext cx="9252000" cy="19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З 1948 року і до останнього подиху свого життя (1970 р.) Василь Сухомлинський — незмінний директор Павлиської школи. 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5040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eea73">
                <a:alpha val="50000"/>
              </a:srgbClr>
            </a:outerShdw>
          </a:effectLst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344520" y="262080"/>
            <a:ext cx="8558280" cy="5254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eea73">
                <a:alpha val="50000"/>
              </a:srgbClr>
            </a:outerShdw>
          </a:effectLst>
        </p:spPr>
      </p:pic>
      <p:sp>
        <p:nvSpPr>
          <p:cNvPr id="313" name="Прямоугольник 4"/>
          <p:cNvSpPr/>
          <p:nvPr/>
        </p:nvSpPr>
        <p:spPr>
          <a:xfrm>
            <a:off x="222120" y="551664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Гасло  всього  життя педагога –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 серце   віддаю дітя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В"/>
          <p:cNvPicPr/>
          <p:nvPr/>
        </p:nvPicPr>
        <p:blipFill>
          <a:blip r:embed="rId1"/>
          <a:stretch/>
        </p:blipFill>
        <p:spPr>
          <a:xfrm>
            <a:off x="250920" y="189000"/>
            <a:ext cx="4392360" cy="6119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762440" y="210600"/>
            <a:ext cx="4425840" cy="645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Сухомлинський - автор близько 1200 художніх творів – оповідань і казок для дітей.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advTm="14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544500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вори Сухомлинського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ля дітей і про дітей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17" name="Picture 2" descr="http://sukhomlynskyi.in.ua/assets/Uploads/Suxoml_0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9:00:11Z</dcterms:created>
  <dc:creator>user</dc:creator>
  <dc:description/>
  <dc:language>en-US</dc:language>
  <cp:lastModifiedBy>home</cp:lastModifiedBy>
  <dcterms:modified xsi:type="dcterms:W3CDTF">2018-11-07T15:31:54Z</dcterms:modified>
  <cp:revision>14</cp:revision>
  <dc:subject/>
  <dc:title>Презентация PowerPoint</dc:title>
</cp:coreProperties>
</file>