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F35-4DE0-478C-8FAA-FE5B6653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849-0E80-4CCB-AA96-2E82A267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7FB-FB54-4E9F-8E6D-5942D093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FEF-1D52-4208-81D0-8B63C324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AAC-280E-43F3-A0C2-EC4974D8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D04-08D4-453E-B1C8-82170523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FC5-7E07-46A4-B1A1-E962CE88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694-8A9A-4886-BF5C-19673EAD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D05-D174-4E5F-8799-1EA7FFD7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6BB-1FE3-4B03-9553-A07627CF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DD0-00A3-4A3F-8D8F-4EA4D2C0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CFD-E6FF-4875-ADBB-30047A45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9159-1969-4D84-ABFC-6BD1B47F8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22860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 "Ілюстрацію впізнай -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нею твір відгадай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07_ Zajchyk_i_Misiac_Vasyl_Suhomlynskyj"/>
          <p:cNvPicPr/>
          <p:nvPr/>
        </p:nvPicPr>
        <p:blipFill>
          <a:blip r:embed="rId5"/>
          <a:stretch/>
        </p:blipFill>
        <p:spPr>
          <a:xfrm>
            <a:off x="2133720" y="1447920"/>
            <a:ext cx="4755960" cy="5029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685800" y="5562720"/>
            <a:ext cx="769608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Зайчик  і Місяць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0_Velyke_i_male_Vasyl_Suhomlynskyj"/>
          <p:cNvPicPr/>
          <p:nvPr/>
        </p:nvPicPr>
        <p:blipFill>
          <a:blip r:embed="rId1"/>
          <a:stretch/>
        </p:blipFill>
        <p:spPr>
          <a:xfrm>
            <a:off x="1600200" y="304920"/>
            <a:ext cx="5468760" cy="609588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380880" y="5943600"/>
            <a:ext cx="807732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елике та мале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16_Kamin_Vasyl_Suhomlynskyj"/>
          <p:cNvPicPr/>
          <p:nvPr/>
        </p:nvPicPr>
        <p:blipFill>
          <a:blip r:embed="rId1"/>
          <a:stretch/>
        </p:blipFill>
        <p:spPr>
          <a:xfrm>
            <a:off x="1771560" y="228600"/>
            <a:ext cx="5467320" cy="6248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228600" y="5715000"/>
            <a:ext cx="815328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Камінь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Imenynnyj_obid_Vasyl_Suhomlynskyj_2"/>
          <p:cNvPicPr/>
          <p:nvPr/>
        </p:nvPicPr>
        <p:blipFill>
          <a:blip r:embed="rId1"/>
          <a:stretch/>
        </p:blipFill>
        <p:spPr>
          <a:xfrm>
            <a:off x="2065320" y="228600"/>
            <a:ext cx="5192640" cy="6629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304920" y="5715000"/>
            <a:ext cx="83818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Іменинний обід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olovej_i_zhuk_Vasyl_Suhomlynskyj_01"/>
          <p:cNvPicPr/>
          <p:nvPr/>
        </p:nvPicPr>
        <p:blipFill>
          <a:blip r:embed="rId1"/>
          <a:stretch/>
        </p:blipFill>
        <p:spPr>
          <a:xfrm>
            <a:off x="609480" y="138240"/>
            <a:ext cx="7848720" cy="651816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0" y="5943600"/>
            <a:ext cx="853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оловей і Жук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два метелики"/>
          <p:cNvPicPr/>
          <p:nvPr/>
        </p:nvPicPr>
        <p:blipFill>
          <a:blip r:embed="rId1"/>
          <a:stretch/>
        </p:blipFill>
        <p:spPr>
          <a:xfrm>
            <a:off x="1824120" y="380880"/>
            <a:ext cx="549576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304920" y="6019920"/>
            <a:ext cx="8229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Два метелики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vasyl_suhomlynski_hryzantema_i_cybulia_djmil_11a"/>
          <p:cNvPicPr/>
          <p:nvPr/>
        </p:nvPicPr>
        <p:blipFill>
          <a:blip r:embed="rId1"/>
          <a:stretch/>
        </p:blipFill>
        <p:spPr>
          <a:xfrm>
            <a:off x="990720" y="222120"/>
            <a:ext cx="7086600" cy="634392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228600" y="6019920"/>
            <a:ext cx="8381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Хризантема та цибул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vasyl_Suhomlynskyj_Ja_hochu_skazaty_swoje_slovo"/>
          <p:cNvPicPr/>
          <p:nvPr/>
        </p:nvPicPr>
        <p:blipFill>
          <a:blip r:embed="rId1"/>
          <a:stretch/>
        </p:blipFill>
        <p:spPr>
          <a:xfrm>
            <a:off x="1066680" y="228600"/>
            <a:ext cx="7010640" cy="629460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304920" y="5943600"/>
            <a:ext cx="8534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Я хочу сказати своє слово....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8-10-12T15:49:32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