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7.gif" ContentType="image/gif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640D-D129-47F7-BE1B-F78F9243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A603-F0DF-4463-8143-55385E2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CCE3-FDD4-4E6B-9EB1-0D5B654A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A0C0-C02D-4085-92B1-B185C15C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4E64-963C-4680-9C8B-F79F8AFE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257F-B038-43C6-B354-CC7E9BE9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5BD1-BD8A-4A2B-8816-1CB1EF32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CCA-EFC1-47E1-AF23-473F89E7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38E8-2AAE-4BBA-9154-A99A0A3D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D209-7E43-4B8D-B130-3F30A1B4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B206-AA73-4FDE-B196-3287E98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F954-5805-4D7C-BDD7-554CB9F1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34F7-CE59-4028-8258-D0B3E8C2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E339-9192-413D-9965-FF687FF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C69-CA78-4C3F-8A0A-7772063C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3EEC-690B-4820-8A1D-FF554C3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C3E8-AFAE-4EB9-9973-221ED97A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E771-1962-4785-A590-2452FAAC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95AE-BDF1-487A-8709-923504F6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5402-F881-4180-9554-03D9030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B9E9-79E4-4689-9A6F-33E8AC23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A9E5D-EEEF-4EF4-A37E-2ACBE63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6872-E90B-4EF9-9BA9-2004E44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8B0DD-558D-419F-89C8-040076D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4440-BC13-45C6-BAC6-D88727386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126-6558-43C6-8239-4080D50A1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gif"/><Relationship Id="rId3" Type="http://schemas.openxmlformats.org/officeDocument/2006/relationships/image" Target="../media/image8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КИСЛО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Картинки по запросу acids"/>
          <p:cNvPicPr/>
          <p:nvPr/>
        </p:nvPicPr>
        <p:blipFill>
          <a:blip r:embed="rId1"/>
          <a:stretch/>
        </p:blipFill>
        <p:spPr>
          <a:xfrm>
            <a:off x="250920" y="476280"/>
            <a:ext cx="2717640" cy="18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ртинки по запросу шлунок с кислотой"/>
          <p:cNvPicPr/>
          <p:nvPr/>
        </p:nvPicPr>
        <p:blipFill>
          <a:blip r:embed="rId2"/>
          <a:stretch/>
        </p:blipFill>
        <p:spPr>
          <a:xfrm>
            <a:off x="5219640" y="620640"/>
            <a:ext cx="3024360" cy="1893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250920" y="3789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Похожее изображение"/>
          <p:cNvPicPr/>
          <p:nvPr/>
        </p:nvPicPr>
        <p:blipFill>
          <a:blip r:embed="rId4"/>
          <a:stretch/>
        </p:blipFill>
        <p:spPr>
          <a:xfrm>
            <a:off x="5435640" y="3770280"/>
            <a:ext cx="32767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</a:rPr>
              <a:t>Хімічні властивості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1773360"/>
            <a:ext cx="78375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заємодія з основними оксида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  <a:ea typeface="Arial"/>
              </a:rPr>
              <a:t>Кислота + основний оксид = сіль + 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1816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16c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O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C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CaO + 2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= C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+ 3H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8000"/>
                </a:solidFill>
                <a:latin typeface="Arial"/>
              </a:rPr>
              <a:t>Хімічні властивості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00"/>
                </a:solidFill>
                <a:latin typeface="Arial"/>
              </a:rPr>
              <a:t>Взаємодія із основ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реакція нейтралізаці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основа + кислота = сіль + 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8080"/>
                </a:solidFill>
                <a:latin typeface="Arial"/>
              </a:rPr>
              <a:t>Хімічні властивості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заємодія із соля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лота1 + сіль1 = кислота2 + сіль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одна з утворених речовин нерозчи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 одна з утворених речовин газоподіб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77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Виберіть речовини з якими реагують дані кислоти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535640" cy="3751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35640" y="1700280"/>
            <a:ext cx="46083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0088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0000"/>
                </a:solidFill>
                <a:latin typeface="Times New Roman"/>
              </a:rPr>
              <a:t>Домашнє завдання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8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араграф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Вправа 5 (стр.1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Домашній експеримент №2 (стр.18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778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вніть пусті клітинки продуктами реакції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42920" y="1628640"/>
          <a:ext cx="7705440" cy="3524400"/>
        </p:xfrm>
        <a:graphic>
          <a:graphicData uri="http://schemas.openxmlformats.org/drawingml/2006/table">
            <a:tbl>
              <a:tblPr/>
              <a:tblGrid>
                <a:gridCol w="2862720"/>
                <a:gridCol w="1368720"/>
                <a:gridCol w="1888920"/>
                <a:gridCol w="1585080"/>
              </a:tblGrid>
              <a:tr h="140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ормула кисл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(ОН)</a:t>
                      </a:r>
                      <a:r>
                        <a:rPr b="1" lang="uk-UA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32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О</a:t>
                      </a:r>
                      <a:r>
                        <a:rPr b="1" lang="en-US" sz="32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7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ВІРЯЄМ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26920" y="1844640"/>
          <a:ext cx="8137800" cy="3429000"/>
        </p:xfrm>
        <a:graphic>
          <a:graphicData uri="http://schemas.openxmlformats.org/drawingml/2006/table">
            <a:tbl>
              <a:tblPr/>
              <a:tblGrid>
                <a:gridCol w="1820880"/>
                <a:gridCol w="1936800"/>
                <a:gridCol w="2003400"/>
                <a:gridCol w="2376720"/>
              </a:tblGrid>
              <a:tr h="13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Формула кисло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800" spc="-1" strike="noStrike" baseline="-25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Н)</a:t>
                      </a:r>
                      <a:r>
                        <a:rPr b="1" lang="uk-UA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103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ru-RU" sz="32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О</a:t>
                      </a:r>
                      <a:r>
                        <a:rPr b="1" lang="en-US" sz="3200" spc="-1" strike="noStrike" baseline="-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О</a:t>
                      </a:r>
                      <a:r>
                        <a:rPr b="1" lang="en-US" sz="1800" spc="-1" strike="noStrike" baseline="-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C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l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gCl</a:t>
                      </a:r>
                      <a:r>
                        <a:rPr b="1" lang="ru-RU" sz="16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16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imes New Roman"/>
              </a:rPr>
              <a:t>Повторимо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7" descr="J0254500"/>
          <p:cNvPicPr/>
          <p:nvPr/>
        </p:nvPicPr>
        <p:blipFill>
          <a:blip r:embed="rId1"/>
          <a:stretch/>
        </p:blipFill>
        <p:spPr>
          <a:xfrm>
            <a:off x="7308720" y="2602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9"/>
          <p:cNvSpPr/>
          <p:nvPr/>
        </p:nvSpPr>
        <p:spPr>
          <a:xfrm>
            <a:off x="468360" y="1268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Що таке кисло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з чого вони складають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Які групи кислот ви знає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Що являють собою безоксигенові кисло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Яка будова кисло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Які кислоти бувають за агрегатним станом (н.у.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Чи існують нерозчинні у воді кисло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995640" y="3936960"/>
            <a:ext cx="45640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70" dur="123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71" dur="123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73" dur="123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7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Arial"/>
              </a:rPr>
              <a:t>Назви кислот</a:t>
            </a:r>
            <a:br>
              <a:rPr sz="5900"/>
            </a:br>
            <a:br>
              <a:rPr sz="35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O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2)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H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4)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O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HNO</a:t>
            </a:r>
            <a:r>
              <a:rPr b="1" lang="en-US" sz="3200" spc="-1" strike="noStrike" baseline="-25000">
                <a:solidFill>
                  <a:srgbClr val="ccec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02240" y="2332080"/>
            <a:ext cx="454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а) Ортофосфа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б)Нітра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)</a:t>
            </a: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Сульфа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г)Карбонат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Arial Unicode MS"/>
              <a:buChar char="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д)Хлори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J0254500"/>
          <p:cNvPicPr/>
          <p:nvPr/>
        </p:nvPicPr>
        <p:blipFill>
          <a:blip r:embed="rId1"/>
          <a:stretch/>
        </p:blipFill>
        <p:spPr>
          <a:xfrm>
            <a:off x="7451640" y="2602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 rot="1254600">
            <a:off x="2268000" y="3141720"/>
            <a:ext cx="3038760" cy="218880"/>
          </a:xfrm>
          <a:prstGeom prst="rightArrow">
            <a:avLst>
              <a:gd name="adj1" fmla="val 50000"/>
              <a:gd name="adj2" fmla="val 34708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 rot="1917000">
            <a:off x="2050560" y="4149720"/>
            <a:ext cx="3168720" cy="216000"/>
          </a:xfrm>
          <a:prstGeom prst="rightArrow">
            <a:avLst>
              <a:gd name="adj1" fmla="val 50000"/>
              <a:gd name="adj2" fmla="val 36675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0"/>
          <p:cNvSpPr/>
          <p:nvPr/>
        </p:nvSpPr>
        <p:spPr>
          <a:xfrm rot="630000">
            <a:off x="2339640" y="4221000"/>
            <a:ext cx="3024000" cy="228600"/>
          </a:xfrm>
          <a:prstGeom prst="rightArrow">
            <a:avLst>
              <a:gd name="adj1" fmla="val 50000"/>
              <a:gd name="adj2" fmla="val 33070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 rot="19681200">
            <a:off x="1979280" y="3573360"/>
            <a:ext cx="3351240" cy="217440"/>
          </a:xfrm>
          <a:prstGeom prst="rightArrow">
            <a:avLst>
              <a:gd name="adj1" fmla="val 50000"/>
              <a:gd name="adj2" fmla="val 38530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2"/>
          <p:cNvSpPr/>
          <p:nvPr/>
        </p:nvSpPr>
        <p:spPr>
          <a:xfrm flipV="1" rot="19605000">
            <a:off x="1907640" y="4149000"/>
            <a:ext cx="3419640" cy="239760"/>
          </a:xfrm>
          <a:prstGeom prst="rightArrow">
            <a:avLst>
              <a:gd name="adj1" fmla="val 50000"/>
              <a:gd name="adj2" fmla="val 35656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187280" y="112536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Встановіть відповідність між формулою і назво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 rot="19681200">
            <a:off x="1979280" y="3573360"/>
            <a:ext cx="3351240" cy="217440"/>
          </a:xfrm>
          <a:prstGeom prst="rightArrow">
            <a:avLst>
              <a:gd name="adj1" fmla="val 50000"/>
              <a:gd name="adj2" fmla="val 38530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 rot="19681200">
            <a:off x="1979280" y="3573360"/>
            <a:ext cx="3351240" cy="217440"/>
          </a:xfrm>
          <a:prstGeom prst="rightArrow">
            <a:avLst>
              <a:gd name="adj1" fmla="val 50000"/>
              <a:gd name="adj2" fmla="val 38530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4" dur="123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5" dur="123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7" dur="123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6840720" cy="1757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ХІМІЧНІ ВЛАСТИВОСТІ КИСЛОТ. ЗАХОДИ БЕЗПЕКИ ПРИ РОБОТІ З КИЛ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49760" y="529524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ЗЗСО "Любешівський ліцей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читель Гапончук Олег Сергій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Подума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J0254466"/>
          <p:cNvPicPr/>
          <p:nvPr/>
        </p:nvPicPr>
        <p:blipFill>
          <a:blip r:embed="rId1"/>
          <a:stretch/>
        </p:blipFill>
        <p:spPr>
          <a:xfrm>
            <a:off x="755640" y="4869000"/>
            <a:ext cx="2232000" cy="1652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J0254500"/>
          <p:cNvPicPr/>
          <p:nvPr/>
        </p:nvPicPr>
        <p:blipFill>
          <a:blip r:embed="rId2"/>
          <a:stretch/>
        </p:blipFill>
        <p:spPr>
          <a:xfrm>
            <a:off x="6732720" y="40464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4788000" y="2060640"/>
            <a:ext cx="378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Епіграф уроку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«Індикатор розчиня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І кислоти визнач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І як впізнаєш, що це 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Руки й одяг бережи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Картинки по запросу кислоти"/>
          <p:cNvPicPr/>
          <p:nvPr/>
        </p:nvPicPr>
        <p:blipFill>
          <a:blip r:embed="rId3"/>
          <a:stretch/>
        </p:blipFill>
        <p:spPr>
          <a:xfrm>
            <a:off x="468360" y="1844640"/>
            <a:ext cx="3282840" cy="217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254466"/>
          <p:cNvPicPr/>
          <p:nvPr/>
        </p:nvPicPr>
        <p:blipFill>
          <a:blip r:embed="rId4"/>
          <a:stretch/>
        </p:blipFill>
        <p:spPr>
          <a:xfrm>
            <a:off x="755640" y="4869000"/>
            <a:ext cx="22320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0" dur="123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1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3" dur="123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66ff"/>
                </a:solidFill>
                <a:latin typeface="Arial"/>
              </a:rPr>
              <a:t>При роботі із кислотами пам</a:t>
            </a:r>
            <a:r>
              <a:rPr b="0" lang="en-US" sz="3900" spc="-1" strike="noStrike">
                <a:solidFill>
                  <a:srgbClr val="0066ff"/>
                </a:solidFill>
                <a:latin typeface="Arial"/>
              </a:rPr>
              <a:t>`</a:t>
            </a:r>
            <a:r>
              <a:rPr b="0" lang="uk-UA" sz="3900" spc="-1" strike="noStrike">
                <a:solidFill>
                  <a:srgbClr val="0066ff"/>
                </a:solidFill>
                <a:latin typeface="Arial"/>
              </a:rPr>
              <a:t>ята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4818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ff"/>
                </a:solidFill>
                <a:latin typeface="Arial"/>
              </a:rPr>
              <a:t>При роботі із кислотами пам</a:t>
            </a:r>
            <a:r>
              <a:rPr b="0" lang="en-US" sz="3900" spc="-1" strike="noStrike">
                <a:solidFill>
                  <a:srgbClr val="0000ff"/>
                </a:solidFill>
                <a:latin typeface="Arial"/>
              </a:rPr>
              <a:t>`</a:t>
            </a:r>
            <a:r>
              <a:rPr b="0" lang="uk-UA" sz="3900" spc="-1" strike="noStrike">
                <a:solidFill>
                  <a:srgbClr val="0000ff"/>
                </a:solidFill>
                <a:latin typeface="Arial"/>
              </a:rPr>
              <a:t>ята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728720"/>
            <a:ext cx="66978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cc"/>
                </a:solidFill>
                <a:latin typeface="Arial"/>
              </a:rPr>
              <a:t>При роботі із кислотами пам</a:t>
            </a:r>
            <a:r>
              <a:rPr b="0" lang="en-US" sz="3900" spc="-1" strike="noStrike">
                <a:solidFill>
                  <a:srgbClr val="0000cc"/>
                </a:solidFill>
                <a:latin typeface="Arial"/>
              </a:rPr>
              <a:t>`</a:t>
            </a:r>
            <a:r>
              <a:rPr b="0" lang="uk-UA" sz="3900" spc="-1" strike="noStrike">
                <a:solidFill>
                  <a:srgbClr val="0000cc"/>
                </a:solidFill>
                <a:latin typeface="Arial"/>
              </a:rPr>
              <a:t>ятай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332000" y="1719360"/>
            <a:ext cx="6408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336600"/>
                </a:solidFill>
                <a:latin typeface="Arial"/>
              </a:rPr>
              <a:t>Хімічні властивості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Зміна забарвлення індикаторів у кислот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ff"/>
                </a:solidFill>
                <a:latin typeface="Arial"/>
              </a:rPr>
              <a:t>Лакмус (фіолетовий)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черво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9900"/>
                </a:solidFill>
                <a:latin typeface="Arial"/>
              </a:rPr>
              <a:t>Метилоранж (оранжевий)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роже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енолфталеїн (безбарвний) – без змі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J0254466"/>
          <p:cNvPicPr/>
          <p:nvPr/>
        </p:nvPicPr>
        <p:blipFill>
          <a:blip r:embed="rId1"/>
          <a:stretch/>
        </p:blipFill>
        <p:spPr>
          <a:xfrm>
            <a:off x="755640" y="4869000"/>
            <a:ext cx="22320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9:56:50Z</dcterms:created>
  <dc:creator>User</dc:creator>
  <dc:description/>
  <dc:language>en-US</dc:language>
  <cp:lastModifiedBy>PCN-Plent</cp:lastModifiedBy>
  <dcterms:modified xsi:type="dcterms:W3CDTF">2018-11-23T16:17:24Z</dcterms:modified>
  <cp:revision>48</cp:revision>
  <dc:subject/>
  <dc:title>ХИМИЧЕСКИЕ РЕАКЦИИ</dc:title>
</cp:coreProperties>
</file>