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B2B-00B9-409C-803F-42C6A1250C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9F9-F558-4204-8852-522C9012B3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605-CD89-410E-9B3E-66FC449F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A9F-08B6-4335-90C8-DC295AD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100-FAAE-4D2E-89AE-7E0DEAAF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C1C-9330-4F38-B10D-223D72D4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9C2B-2B94-49C8-BBBD-599DDE48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172-ADDB-4CC6-BC40-EF3012FB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B0E-1AD5-4C9A-BB05-3053B2D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F361-4C70-4673-95CF-BAB2AC5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A99-03A6-46B8-9065-A4E90CF2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7E8-2ADD-42A4-B6DD-D3B292F1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15F6-EE33-4603-9D0D-4AB9967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024-648A-4A0D-9B34-4DC7BA29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394E-AA30-44DC-AD5E-ED53C84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8CF-7E72-40D8-B279-9F4427CF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B984-C8D1-45EF-B88B-81CB4E6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7938-607C-491C-B77C-C6979227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ADC-365F-444A-89AC-0DD0A921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14D-6B8C-46E9-B6FF-81D07EE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FCF-E133-40D6-B1E9-5B2DF7E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72F-7DA3-409C-BADE-D7B69340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66C-757E-4CCF-80F9-2C9683E1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0D2-AD75-4638-8779-8710EC0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867-967E-4F9A-A4EB-09A5D6A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BF5-C471-49D8-A998-D2D648E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8CB-8837-4290-84DA-6EB061589C9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E72D-FF92-46FB-8DAC-8A82DC12C47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1341360"/>
            <a:ext cx="6400800" cy="2735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Bookman Old Style"/>
              </a:rPr>
              <a:t>Українська мова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man Old Style"/>
              </a:rPr>
              <a:t>Подорож  у  країну  Лексикологі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687060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Bookman Old Style"/>
              </a:rPr>
              <a:t>АНТОНІМИ-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8400" y="1928880"/>
            <a:ext cx="82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 слова, протилежні за значенням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які відповідають на одне питанн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68706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ДЛЯ  ЧОГО   ПОТРІБНІ  В  МОВІ АНТОНІМИ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400" y="1928880"/>
            <a:ext cx="82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mic Sans MS"/>
              </a:rPr>
              <a:t>!</a:t>
            </a:r>
            <a:r>
              <a:rPr b="0" lang="uk-UA" sz="3200" spc="-1" strike="noStrike">
                <a:solidFill>
                  <a:srgbClr val="00b050"/>
                </a:solidFill>
                <a:latin typeface="Comic Sans MS"/>
              </a:rPr>
              <a:t>  Антоніми  увиразнюють  мовленн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mic Sans MS"/>
              </a:rPr>
              <a:t>!</a:t>
            </a:r>
            <a:r>
              <a:rPr b="0" lang="uk-UA" sz="3200" spc="-1" strike="noStrike">
                <a:solidFill>
                  <a:srgbClr val="00b050"/>
                </a:solidFill>
                <a:latin typeface="Comic Sans MS"/>
              </a:rPr>
              <a:t>  Вони   допомагають  висловити  свою  думку,  загострити  увагу  на     чомусь  особливом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mic Sans MS"/>
              </a:rPr>
              <a:t>!</a:t>
            </a:r>
            <a:r>
              <a:rPr b="1" lang="uk-UA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00b050"/>
                </a:solidFill>
                <a:latin typeface="Comic Sans MS"/>
              </a:rPr>
              <a:t>Дають  можливість  яскравіше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Comic Sans MS"/>
              </a:rPr>
              <a:t>                  </a:t>
            </a:r>
            <a:r>
              <a:rPr b="0" lang="uk-UA" sz="3200" spc="-1" strike="noStrike">
                <a:solidFill>
                  <a:srgbClr val="00b050"/>
                </a:solidFill>
                <a:latin typeface="Comic Sans MS"/>
              </a:rPr>
              <a:t>виразити  протилежні  явища</a:t>
            </a:r>
            <a:r>
              <a:rPr b="0" lang="uk-UA" sz="3200" spc="-1" strike="noStrike" u="sng">
                <a:solidFill>
                  <a:srgbClr val="00b050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838080" y="2057400"/>
            <a:ext cx="76201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вилинка для відпочинк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Picture 5" descr="Глаз"/>
          <p:cNvPicPr/>
          <p:nvPr/>
        </p:nvPicPr>
        <p:blipFill>
          <a:blip r:embed="rId3"/>
          <a:stretch/>
        </p:blipFill>
        <p:spPr>
          <a:xfrm>
            <a:off x="594360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4" descr="butterfly61"/>
          <p:cNvPicPr/>
          <p:nvPr/>
        </p:nvPicPr>
        <p:blipFill>
          <a:blip r:embed="rId1"/>
          <a:stretch/>
        </p:blipFill>
        <p:spPr>
          <a:xfrm>
            <a:off x="3962520" y="914400"/>
            <a:ext cx="1714320" cy="158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79186E-006 C 0.03455 -0.06521 0.09566 -0.15841 0.16788 -0.15841 C 0.27535 -0.15841 0.3625 -0.06151 0.3625 0.06198 C 0.3625 0.1013 0.35382 0.13784 0.33628 0.17068 C 0.33906 0.17068 2.77778E-007 0.65865 2.77778E-007 0.66305 C 2.77778E-007 0.65865 -0.33924 0.17068 -0.33646 0.17068 C -0.35399 0.13784 -0.36233 0.1013 -0.36233 0.06198 C -0.36233 -0.06151 -0.27569 -0.15841 -0.16528 -0.15841 C -0.09583 -0.15841 -0.03507 -0.06521 2.77778E-007 -4.79186E-006 Z">
                                      <p:cBhvr>
                                        <p:cTn id="305" dur="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4" descr="J0283615"/>
          <p:cNvPicPr/>
          <p:nvPr/>
        </p:nvPicPr>
        <p:blipFill>
          <a:blip r:embed="rId1"/>
          <a:stretch/>
        </p:blipFill>
        <p:spPr>
          <a:xfrm>
            <a:off x="152280" y="2743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11262 C 3.33333E-006 0.21831 0.09965 0.30527 0.22118 0.30527 C 0.36441 0.30527 0.41614 0.20883 0.43802 0.15101 L 0.46041 0.074 C 0.48264 0.01618 0.53767 -0.08002 0.69948 -0.08002 C 0.80312 -0.08002 0.92083 0.0067 0.92083 0.11262 C 0.92083 0.21831 0.80312 0.30527 0.69948 0.30527 C 0.53767 0.30527 0.48264 0.20883 0.46041 0.15101 L 0.43802 0.074 C 0.41614 0.01618 0.36441 -0.08002 0.22118 -0.08002 C 0.09965 -0.08002 3.33333E-006 0.0067 3.33333E-006 0.11262 Z">
                                      <p:cBhvr>
                                        <p:cTn id="311" dur="3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omic Sans MS"/>
              </a:rPr>
              <a:t>ГРА «Чарівний кубик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2640"/>
            <a:ext cx="7697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70c0"/>
                </a:solidFill>
                <a:uFillTx/>
                <a:latin typeface="Cambria"/>
                <a:ea typeface="Times New Roman"/>
              </a:rPr>
              <a:t>Синя</a:t>
            </a:r>
            <a:r>
              <a:rPr b="0" lang="uk-UA" sz="3200" spc="-1" strike="noStrike" u="sng">
                <a:solidFill>
                  <a:srgbClr val="7030a0"/>
                </a:solidFill>
                <a:uFillTx/>
                <a:latin typeface="Cambria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Times New Roman"/>
              </a:rPr>
              <a:t>–підбери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 слова- 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Times New Roman"/>
              </a:rPr>
              <a:t>антонім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Cambria"/>
                <a:ea typeface="Times New Roman"/>
              </a:rPr>
              <a:t>Жовта</a:t>
            </a:r>
            <a:r>
              <a:rPr b="0" lang="uk-UA" sz="3200" spc="-1" strike="noStrike" u="sng">
                <a:solidFill>
                  <a:srgbClr val="7030a0"/>
                </a:solidFill>
                <a:uFillTx/>
                <a:latin typeface="Cambria"/>
                <a:ea typeface="Times New Roman"/>
              </a:rPr>
              <a:t>- 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Times New Roman"/>
              </a:rPr>
              <a:t>підбери слова- синонім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6600"/>
                </a:solidFill>
                <a:uFillTx/>
                <a:latin typeface="Cambria"/>
                <a:ea typeface="Times New Roman"/>
              </a:rPr>
              <a:t>Жовто-гаряча</a:t>
            </a:r>
            <a:r>
              <a:rPr b="0" lang="uk-UA" sz="3200" spc="-1" strike="noStrike" u="sng">
                <a:solidFill>
                  <a:srgbClr val="ff6600"/>
                </a:solidFill>
                <a:uFillTx/>
                <a:latin typeface="Cambria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Times New Roman"/>
              </a:rPr>
              <a:t>     підбери словосполучення   антонім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20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20ff"/>
                </a:solidFill>
                <a:uFillTx/>
                <a:latin typeface="Cambria"/>
                <a:ea typeface="Calibri"/>
              </a:rPr>
              <a:t>Рожевий</a:t>
            </a:r>
            <a:r>
              <a:rPr b="1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-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 замініть вираз одним словом і підберіть антонім до цих слів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b050"/>
                </a:solidFill>
                <a:uFillTx/>
                <a:latin typeface="Cambria"/>
                <a:ea typeface="Calibri"/>
              </a:rPr>
              <a:t>Малюнок</a:t>
            </a:r>
            <a:r>
              <a:rPr b="0" lang="uk-UA" sz="3200" spc="-1" strike="noStrike" u="sng">
                <a:solidFill>
                  <a:srgbClr val="00b050"/>
                </a:solidFill>
                <a:uFillTx/>
                <a:latin typeface="Cambria"/>
                <a:ea typeface="Calibri"/>
              </a:rPr>
              <a:t> - 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скажіть фразеологізмом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Cambria"/>
                <a:ea typeface="Calibri"/>
              </a:rPr>
              <a:t>Червона</a:t>
            </a:r>
            <a:r>
              <a:rPr b="1" lang="uk-UA" sz="3200" spc="-1" strike="noStrike" u="sng">
                <a:solidFill>
                  <a:srgbClr val="7030a0"/>
                </a:solidFill>
                <a:uFillTx/>
                <a:latin typeface="Cambria"/>
                <a:ea typeface="Calibri"/>
              </a:rPr>
              <a:t>- 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складіть речення за 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	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	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	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	</a:t>
            </a:r>
            <a:r>
              <a:rPr b="0" lang="uk-UA" sz="3200" spc="-1" strike="noStrike">
                <a:solidFill>
                  <a:srgbClr val="7030a0"/>
                </a:solidFill>
                <a:latin typeface="Cambria"/>
                <a:ea typeface="Calibri"/>
              </a:rPr>
              <a:t>малюнко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229600" cy="292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omic Sans MS"/>
              </a:rPr>
              <a:t>Прочитайте. Замініть виділені слова в реченнях антонімами й запишіть.</a:t>
            </a: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 </a:t>
            </a:r>
            <a:br>
              <a:rPr sz="2900"/>
            </a:b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Закінчився</a:t>
            </a:r>
            <a:r>
              <a:rPr b="0" i="1" lang="ru-RU" sz="2900" spc="-1" strike="noStrike">
                <a:solidFill>
                  <a:srgbClr val="7030a0"/>
                </a:solidFill>
                <a:latin typeface="Comic Sans MS"/>
              </a:rPr>
              <a:t>  урок. У коридорах і класах </a:t>
            </a: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гомін.</a:t>
            </a:r>
            <a:r>
              <a:rPr b="0" i="1" lang="ru-RU" sz="29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Заговорив </a:t>
            </a:r>
            <a:r>
              <a:rPr b="0" i="1" lang="ru-RU" sz="2900" spc="-1" strike="noStrike">
                <a:solidFill>
                  <a:srgbClr val="7030a0"/>
                </a:solidFill>
                <a:latin typeface="Comic Sans MS"/>
              </a:rPr>
              <a:t> шкільний радіовузол, </a:t>
            </a: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заграла </a:t>
            </a:r>
            <a:r>
              <a:rPr b="1" i="1" lang="uk-UA" sz="29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i="1" lang="uk-UA" sz="2900" spc="-1" strike="noStrike">
                <a:solidFill>
                  <a:srgbClr val="7030a0"/>
                </a:solidFill>
                <a:latin typeface="Comic Sans MS"/>
              </a:rPr>
              <a:t>весела </a:t>
            </a:r>
            <a:r>
              <a:rPr b="0" i="1" lang="ru-RU" sz="2900" spc="-1" strike="noStrike">
                <a:solidFill>
                  <a:srgbClr val="7030a0"/>
                </a:solidFill>
                <a:latin typeface="Comic Sans MS"/>
              </a:rPr>
              <a:t>музика. Школярі  </a:t>
            </a:r>
            <a:r>
              <a:rPr b="1" i="1" lang="ru-RU" sz="2900" spc="-1" strike="noStrike">
                <a:solidFill>
                  <a:srgbClr val="7030a0"/>
                </a:solidFill>
                <a:latin typeface="Comic Sans MS"/>
              </a:rPr>
              <a:t>відпочивають.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0040" y="35719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omic Sans MS"/>
              </a:rPr>
              <a:t>Почався 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урок. У коридорах і класах </a:t>
            </a:r>
            <a:r>
              <a:rPr b="0" lang="uk-UA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7030a0"/>
                </a:solidFill>
                <a:latin typeface="Comic Sans MS"/>
              </a:rPr>
              <a:t>тиша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omic Sans MS"/>
              </a:rPr>
              <a:t>Замовк 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шкільний  радіовузол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, </a:t>
            </a:r>
            <a:r>
              <a:rPr b="1" lang="uk-UA" sz="3200" spc="-1" strike="noStrike">
                <a:solidFill>
                  <a:srgbClr val="7030a0"/>
                </a:solidFill>
                <a:latin typeface="Comic Sans MS"/>
              </a:rPr>
              <a:t>стихла  </a:t>
            </a:r>
            <a:r>
              <a:rPr b="0" lang="uk-UA" sz="3200" spc="-1" strike="noStrike">
                <a:solidFill>
                  <a:srgbClr val="7030a0"/>
                </a:solidFill>
                <a:latin typeface="Comic Sans MS"/>
              </a:rPr>
              <a:t>весела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узик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Школярі  </a:t>
            </a:r>
            <a:r>
              <a:rPr b="1" lang="uk-UA" sz="3200" spc="-1" strike="noStrike">
                <a:solidFill>
                  <a:srgbClr val="7030a0"/>
                </a:solidFill>
                <a:latin typeface="Comic Sans MS"/>
              </a:rPr>
              <a:t>працюють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3"/>
          <p:cNvSpPr/>
          <p:nvPr/>
        </p:nvSpPr>
        <p:spPr>
          <a:xfrm>
            <a:off x="324000" y="57168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c00000"/>
                </a:solidFill>
                <a:uFillTx/>
                <a:latin typeface="Comic Sans MS"/>
              </a:rPr>
              <a:t>РОБОТА  В ПАРАХ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4"/>
          <p:cNvSpPr/>
          <p:nvPr/>
        </p:nvSpPr>
        <p:spPr>
          <a:xfrm>
            <a:off x="179280" y="1285920"/>
            <a:ext cx="3106800" cy="57132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жити душа в душ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179280" y="2286000"/>
            <a:ext cx="3106800" cy="4287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водою не розлити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179280" y="3286080"/>
            <a:ext cx="3106800" cy="35712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0" lang="uk-UA" sz="2400" spc="-1" strike="noStrike">
                <a:solidFill>
                  <a:srgbClr val="ffffff"/>
                </a:solidFill>
                <a:latin typeface="Comic Sans MS"/>
              </a:rPr>
              <a:t>идно як на долон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5072040" y="1214280"/>
            <a:ext cx="3643200" cy="6429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горщики  поб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5072040" y="2071800"/>
            <a:ext cx="3643200" cy="6429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емно,хоч в око стр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072040" y="3071880"/>
            <a:ext cx="3714840" cy="6429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Comic Sans MS"/>
              </a:rPr>
              <a:t>жити як кіт з собак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Прямая со стрелкой 13"/>
          <p:cNvCxnSpPr>
            <a:stCxn id="270" idx="3"/>
            <a:endCxn id="275" idx="1"/>
          </p:cNvCxnSpPr>
          <p:nvPr/>
        </p:nvCxnSpPr>
        <p:spPr>
          <a:xfrm>
            <a:off x="3285720" y="1571760"/>
            <a:ext cx="1786680" cy="182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>
            <a:stCxn id="271" idx="3"/>
            <a:endCxn id="273" idx="1"/>
          </p:cNvCxnSpPr>
          <p:nvPr/>
        </p:nvCxnSpPr>
        <p:spPr>
          <a:xfrm flipV="1">
            <a:off x="3285720" y="1536480"/>
            <a:ext cx="1786680" cy="964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>
            <a:stCxn id="272" idx="3"/>
            <a:endCxn id="274" idx="1"/>
          </p:cNvCxnSpPr>
          <p:nvPr/>
        </p:nvCxnSpPr>
        <p:spPr>
          <a:xfrm flipV="1">
            <a:off x="3285720" y="2391840"/>
            <a:ext cx="1786680" cy="1073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9" name="Picture 5" descr="j0343343"/>
          <p:cNvPicPr/>
          <p:nvPr/>
        </p:nvPicPr>
        <p:blipFill>
          <a:blip r:embed="rId1"/>
          <a:stretch/>
        </p:blipFill>
        <p:spPr>
          <a:xfrm>
            <a:off x="2987640" y="3746520"/>
            <a:ext cx="3035160" cy="3157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omic Sans MS"/>
              </a:rPr>
              <a:t>Гра «Другий зайвий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428760" y="1285920"/>
            <a:ext cx="7599240" cy="8571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День- ніч;</a:t>
            </a:r>
            <a:r>
              <a:rPr b="0" lang="uk-UA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3276720" y="13604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тихий-тем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428760" y="2428920"/>
            <a:ext cx="7599240" cy="72216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добрий-зл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428760" y="3500280"/>
            <a:ext cx="7599240" cy="78588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 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життя-смерть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428760" y="4572000"/>
            <a:ext cx="7599240" cy="785880"/>
          </a:xfrm>
          <a:prstGeom prst="rect">
            <a:avLst/>
          </a:prstGeom>
          <a:solidFill>
            <a:srgbClr val="cc66ff"/>
          </a:solidFill>
          <a:ln w="25560">
            <a:solidFill>
              <a:srgbClr val="95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північ- південь;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4140360" y="2340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естра-друг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428760" y="3584520"/>
            <a:ext cx="4359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глибокий-широ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3780000" y="46418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уровий-чарів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j0343363"/>
          <p:cNvPicPr/>
          <p:nvPr/>
        </p:nvPicPr>
        <p:blipFill>
          <a:blip r:embed="rId1"/>
          <a:stretch/>
        </p:blipFill>
        <p:spPr>
          <a:xfrm>
            <a:off x="1476360" y="1197000"/>
            <a:ext cx="5832360" cy="4896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826920" y="476280"/>
            <a:ext cx="752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бота в груп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14"/>
          <p:cNvSpPr/>
          <p:nvPr/>
        </p:nvSpPr>
        <p:spPr>
          <a:xfrm>
            <a:off x="3070080" y="492120"/>
            <a:ext cx="2081520" cy="4299120"/>
          </a:xfrm>
          <a:custGeom>
            <a:avLst/>
            <a:gdLst/>
            <a:ahLst/>
            <a:rect l="l" t="t" r="r" b="b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08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AutoShape 10"/>
          <p:cNvSpPr/>
          <p:nvPr/>
        </p:nvSpPr>
        <p:spPr>
          <a:xfrm>
            <a:off x="4853160" y="585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12"/>
          <p:cNvSpPr/>
          <p:nvPr/>
        </p:nvSpPr>
        <p:spPr>
          <a:xfrm>
            <a:off x="309600" y="544680"/>
            <a:ext cx="3348000" cy="4300200"/>
          </a:xfrm>
          <a:custGeom>
            <a:avLst/>
            <a:gdLst/>
            <a:ahLst/>
            <a:rect l="l" t="t" r="r" b="b"/>
            <a:pathLst>
              <a:path w="2200" h="2567">
                <a:moveTo>
                  <a:pt x="23" y="2132"/>
                </a:moveTo>
                <a:cubicBezTo>
                  <a:pt x="11" y="2211"/>
                  <a:pt x="0" y="2291"/>
                  <a:pt x="23" y="2359"/>
                </a:cubicBezTo>
                <a:cubicBezTo>
                  <a:pt x="46" y="2427"/>
                  <a:pt x="98" y="2517"/>
                  <a:pt x="159" y="2540"/>
                </a:cubicBezTo>
                <a:cubicBezTo>
                  <a:pt x="220" y="2563"/>
                  <a:pt x="285" y="2567"/>
                  <a:pt x="386" y="2495"/>
                </a:cubicBezTo>
                <a:cubicBezTo>
                  <a:pt x="487" y="2423"/>
                  <a:pt x="570" y="2385"/>
                  <a:pt x="767" y="2105"/>
                </a:cubicBezTo>
                <a:cubicBezTo>
                  <a:pt x="964" y="1825"/>
                  <a:pt x="1369" y="1135"/>
                  <a:pt x="1565" y="817"/>
                </a:cubicBezTo>
                <a:cubicBezTo>
                  <a:pt x="1761" y="499"/>
                  <a:pt x="1838" y="335"/>
                  <a:pt x="1944" y="199"/>
                </a:cubicBezTo>
                <a:cubicBezTo>
                  <a:pt x="2050" y="63"/>
                  <a:pt x="2147" y="42"/>
                  <a:pt x="2200" y="0"/>
                </a:cubicBezTo>
              </a:path>
            </a:pathLst>
          </a:custGeom>
          <a:noFill/>
          <a:ln w="15228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13"/>
          <p:cNvSpPr/>
          <p:nvPr/>
        </p:nvSpPr>
        <p:spPr>
          <a:xfrm>
            <a:off x="1603440" y="449280"/>
            <a:ext cx="2017800" cy="4395600"/>
          </a:xfrm>
          <a:custGeom>
            <a:avLst/>
            <a:gdLst/>
            <a:ahLst/>
            <a:rect l="l" t="t" r="r" b="b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3419640" y="5014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4997520" y="2637000"/>
            <a:ext cx="3543120" cy="2232000"/>
            <a:chOff x="4997520" y="2637000"/>
            <a:chExt cx="3543120" cy="2232000"/>
          </a:xfrm>
        </p:grpSpPr>
        <p:sp>
          <p:nvSpPr>
            <p:cNvPr id="216" name="Freeform 15"/>
            <p:cNvSpPr/>
            <p:nvPr/>
          </p:nvSpPr>
          <p:spPr>
            <a:xfrm>
              <a:off x="6040440" y="2637000"/>
              <a:ext cx="1405080" cy="223200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7236000" y="2637000"/>
              <a:ext cx="1304640" cy="220788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4997520" y="2641680"/>
              <a:ext cx="2084400" cy="2111400"/>
            </a:xfrm>
            <a:custGeom>
              <a:avLst/>
              <a:gdLst/>
              <a:ahLst/>
              <a:rect l="l" t="t" r="r" b="b"/>
              <a:pathLst>
                <a:path w="1222" h="1284">
                  <a:moveTo>
                    <a:pt x="27" y="828"/>
                  </a:moveTo>
                  <a:cubicBezTo>
                    <a:pt x="15" y="907"/>
                    <a:pt x="0" y="980"/>
                    <a:pt x="27" y="1055"/>
                  </a:cubicBezTo>
                  <a:cubicBezTo>
                    <a:pt x="54" y="1130"/>
                    <a:pt x="104" y="1284"/>
                    <a:pt x="189" y="1280"/>
                  </a:cubicBezTo>
                  <a:cubicBezTo>
                    <a:pt x="274" y="1276"/>
                    <a:pt x="365" y="1246"/>
                    <a:pt x="537" y="1033"/>
                  </a:cubicBezTo>
                  <a:cubicBezTo>
                    <a:pt x="709" y="820"/>
                    <a:pt x="1079" y="215"/>
                    <a:pt x="1222" y="0"/>
                  </a:cubicBezTo>
                </a:path>
              </a:pathLst>
            </a:custGeom>
            <a:noFill/>
            <a:ln w="1522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"/>
            <p:cNvSpPr/>
            <p:nvPr/>
          </p:nvSpPr>
          <p:spPr>
            <a:xfrm>
              <a:off x="6937200" y="26416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8"/>
            <p:cNvSpPr/>
            <p:nvPr/>
          </p:nvSpPr>
          <p:spPr>
            <a:xfrm>
              <a:off x="809928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AutoShape 20"/>
          <p:cNvSpPr/>
          <p:nvPr/>
        </p:nvSpPr>
        <p:spPr>
          <a:xfrm rot="12875400">
            <a:off x="3477960" y="67248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0781 0.00994 -0.03125 0.03283 -0.04739 0.05919 C -0.06354 0.08555 -0.05642 0.07237 -0.0967 0.15861 C -0.13698 0.24485 -0.24392 0.50589 -0.28889 0.57665 C -0.33385 0.6474 -0.35052 0.59376 -0.36666 0.58312 C -0.38281 0.57248 -0.38177 0.52786 -0.38576 0.51329 E">
                                      <p:cBhvr>
                                        <p:cTn id="31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7239 0.21017 -0.14409 0.41711 -0.16996 0.52208 C -0.19583 0.62705 -0.17708 0.62821 -0.15555 0.62959 C -0.13403 0.63098 -0.0651 0.55098 -0.04132 0.5304 E">
                                      <p:cBhvr>
                                        <p:cTn id="34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5 0.00393 C 0.06598 0.21341 -0.00954 0.42289 -0.03472 0.52809 C -0.05989 0.63306 -0.03107 0.63167 -0.00937 0.63584 C 0.01233 0.64 0.05382 0.59676 0.09549 0.55352 E">
                                      <p:cBhvr>
                                        <p:cTn id="37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69 0.29688 C 0.35955 0.33618 0.29375 0.47907 0.25747 0.53341 C 0.22118 0.58774 0.18143 0.62173 0.16216 0.62243 C 0.14289 0.62335 0.14584 0.55561 0.1415 0.53826 E">
                                      <p:cBhvr>
                                        <p:cTn id="40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33271 C 0.33681 0.4437 0.29445 0.55491 0.28698 0.60115 C 0.27952 0.6474 0.31302 0.61919 0.33473 0.60971 C 0.35643 0.60023 0.40348 0.55514 0.41719 0.54428 E">
                                      <p:cBhvr>
                                        <p:cTn id="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393 0.31237 C 0.45799 0.41017 0.42223 0.50797 0.40973 0.55977 C 0.39723 0.61156 0.40261 0.62196 0.41927 0.62312 C 0.43594 0.62428 0.49011 0.58034 0.50973 0.56624 C 0.52934 0.55214 0.53299 0.54543 0.53681 0.53873 E">
                                      <p:cBhvr>
                                        <p:cTn id="4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Bookman Old Style"/>
              </a:rPr>
              <a:t>ДОМАШНЄ   ЗАВДАННЯ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Comic Sans MS"/>
              </a:rPr>
              <a:t>*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Сторінка 91,вправа 212;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Скласти два речення зі словами-антонімами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172360" y="3499920"/>
            <a:ext cx="20952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7" descr="03"/>
          <p:cNvPicPr/>
          <p:nvPr/>
        </p:nvPicPr>
        <p:blipFill>
          <a:blip r:embed="rId1"/>
          <a:stretch/>
        </p:blipFill>
        <p:spPr>
          <a:xfrm>
            <a:off x="5159520" y="3716280"/>
            <a:ext cx="3333600" cy="227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вилинка каліграфії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395280" y="981000"/>
            <a:ext cx="83534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ru-RU" sz="8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 мо в  ва  </a:t>
            </a:r>
            <a:r>
              <a:rPr b="0" lang="ru-RU" sz="8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8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о  в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Мова –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солов’їна,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кольорова,</a:t>
            </a: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  дзвінкотюч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КРАЇНА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ЛЕКСИКОЛОГІ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15680" y="1997280"/>
            <a:ext cx="1891440" cy="17830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64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Comic Sans MS"/>
              </a:rPr>
              <a:t>СИНОНІ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Улыбающееся лицо 4"/>
          <p:cNvSpPr/>
          <p:nvPr/>
        </p:nvSpPr>
        <p:spPr>
          <a:xfrm>
            <a:off x="2916360" y="2492280"/>
            <a:ext cx="3024000" cy="2459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6480">
            <a:solidFill>
              <a:srgbClr val="dd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БАГАТОЗНАЧНІ ТА  ОДНОЗНА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С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Улыбающееся лицо 5"/>
          <p:cNvSpPr/>
          <p:nvPr/>
        </p:nvSpPr>
        <p:spPr>
          <a:xfrm>
            <a:off x="5940360" y="1628640"/>
            <a:ext cx="2519280" cy="2521080"/>
          </a:xfrm>
          <a:prstGeom prst="smileyFace">
            <a:avLst>
              <a:gd name="adj" fmla="val 9282"/>
            </a:avLst>
          </a:prstGeom>
          <a:solidFill>
            <a:srgbClr val="e2b8ff"/>
          </a:solidFill>
          <a:ln w="25560">
            <a:solidFill>
              <a:srgbClr val="a68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Comic Sans MS"/>
              </a:rPr>
              <a:t>ОМОНІ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кругленный прямоугольник 6"/>
          <p:cNvSpPr/>
          <p:nvPr/>
        </p:nvSpPr>
        <p:spPr>
          <a:xfrm>
            <a:off x="0" y="5143680"/>
            <a:ext cx="752472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a3ed"/>
              </a:gs>
              <a:gs pos="100000">
                <a:srgbClr val="fae6fa"/>
              </a:gs>
            </a:gsLst>
            <a:lin ang="16200000"/>
          </a:gradFill>
          <a:ln w="9360">
            <a:solidFill>
              <a:srgbClr val="99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Лексикологія- розділ мовознавства, що вивчає лексику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" name="Объект 3"/>
          <p:cNvGrpSpPr/>
          <p:nvPr/>
        </p:nvGrpSpPr>
        <p:grpSpPr>
          <a:xfrm>
            <a:off x="615960" y="1798560"/>
            <a:ext cx="7821720" cy="3767040"/>
            <a:chOff x="615960" y="1798560"/>
            <a:chExt cx="7821720" cy="3767040"/>
          </a:xfrm>
        </p:grpSpPr>
        <p:pic>
          <p:nvPicPr>
            <p:cNvPr id="231" name="Объект 3" descr=""/>
            <p:cNvPicPr/>
            <p:nvPr/>
          </p:nvPicPr>
          <p:blipFill>
            <a:blip r:embed="rId1"/>
            <a:stretch/>
          </p:blipFill>
          <p:spPr>
            <a:xfrm>
              <a:off x="615960" y="1798560"/>
              <a:ext cx="782172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63640" y="2006640"/>
              <a:ext cx="7340400" cy="33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206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2060"/>
                  </a:solidFill>
                  <a:latin typeface="Comic Sans MS"/>
                </a:rPr>
                <a:t>Лексика </a:t>
              </a:r>
              <a:r>
                <a:rPr b="0" lang="uk-UA" sz="3200" spc="-1" strike="noStrike">
                  <a:solidFill>
                    <a:srgbClr val="002060"/>
                  </a:solidFill>
                  <a:latin typeface="Comic Sans MS"/>
                </a:rPr>
                <a:t>– сукупність слів мови, її словниковий скл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13880" y="2143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Пасивний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день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голосно –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песиміст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вчений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omic Sans MS"/>
              </a:rPr>
              <a:t>колективний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багато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Выноска-облако 6"/>
          <p:cNvSpPr/>
          <p:nvPr/>
        </p:nvSpPr>
        <p:spPr>
          <a:xfrm>
            <a:off x="1428840" y="0"/>
            <a:ext cx="564336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mic Sans MS"/>
              </a:rPr>
              <a:t>До поданих слів доберіть протилежні за значенням слова. Прочитайте перші літери дібраних сл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4084560" y="2143080"/>
            <a:ext cx="21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ктив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4148280" y="2714760"/>
            <a:ext cx="8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н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іч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4146840" y="3286080"/>
            <a:ext cx="12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их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4131000" y="3857760"/>
            <a:ext cx="216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птиміст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4146840" y="450072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н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е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4155480" y="5072040"/>
            <a:ext cx="342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і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ндивідуальний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4150440" y="5643720"/>
            <a:ext cx="11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42920" y="1071360"/>
            <a:ext cx="82389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Я  антонім  слова  літо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В мене  біла,  тепла  свита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Хоч  мороз  люблю  сама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Адже  звуть  мене  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                                       </a:t>
            </a: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Я  антонім шуму,  стуку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                                        </a:t>
            </a: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Уночі  без  мене  мука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                                       </a:t>
            </a: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Для  спочинку  наймиліша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                                        </a:t>
            </a:r>
            <a:r>
              <a:rPr b="0" lang="uk-UA" sz="2400" spc="-1" strike="noStrike">
                <a:solidFill>
                  <a:srgbClr val="400040"/>
                </a:solidFill>
                <a:latin typeface="Bookman Old Style"/>
              </a:rPr>
              <a:t>Відгадайте, хто  я 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5" name="Прямоугольник 3" descr=""/>
          <p:cNvPicPr/>
          <p:nvPr/>
        </p:nvPicPr>
        <p:blipFill>
          <a:blip r:embed="rId1"/>
          <a:stretch/>
        </p:blipFill>
        <p:spPr>
          <a:xfrm>
            <a:off x="-407880" y="-73080"/>
            <a:ext cx="9246960" cy="12002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зимушка.jpeg"/>
          <p:cNvPicPr/>
          <p:nvPr/>
        </p:nvPicPr>
        <p:blipFill>
          <a:blip r:embed="rId2"/>
          <a:stretch/>
        </p:blipFill>
        <p:spPr>
          <a:xfrm>
            <a:off x="5214960" y="12142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тишина.jpg"/>
          <p:cNvPicPr/>
          <p:nvPr/>
        </p:nvPicPr>
        <p:blipFill>
          <a:blip r:embed="rId3"/>
          <a:stretch/>
        </p:blipFill>
        <p:spPr>
          <a:xfrm>
            <a:off x="0" y="2857680"/>
            <a:ext cx="2994120" cy="4000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920" y="4220640"/>
            <a:ext cx="765648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700b3"/>
                </a:solidFill>
                <a:latin typeface="Bookman Old Style"/>
              </a:rPr>
              <a:t>Чорна  корова  всіх  поборола,  а  білий  віл  всіх  людей  підві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9" name="Рисунок 5" descr="ночь.jpeg"/>
          <p:cNvPicPr/>
          <p:nvPr/>
        </p:nvPicPr>
        <p:blipFill>
          <a:blip r:embed="rId1"/>
          <a:stretch/>
        </p:blipFill>
        <p:spPr>
          <a:xfrm>
            <a:off x="285840" y="571680"/>
            <a:ext cx="3713040" cy="23526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8" descr="утро.jpeg"/>
          <p:cNvPicPr/>
          <p:nvPr/>
        </p:nvPicPr>
        <p:blipFill>
          <a:blip r:embed="rId2"/>
          <a:stretch/>
        </p:blipFill>
        <p:spPr>
          <a:xfrm>
            <a:off x="4500720" y="1747800"/>
            <a:ext cx="3566880" cy="273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54:38Z</dcterms:created>
  <dc:creator>kompik</dc:creator>
  <dc:description/>
  <dc:language>en-US</dc:language>
  <cp:lastModifiedBy>user</cp:lastModifiedBy>
  <dcterms:modified xsi:type="dcterms:W3CDTF">2014-02-24T12:07:48Z</dcterms:modified>
  <cp:revision>99</cp:revision>
  <dc:subject/>
  <dc:title>Слайд 1</dc:title>
</cp:coreProperties>
</file>