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.jpeg" ContentType="image/jpeg"/>
  <Override PartName="/ppt/media/image7.png" ContentType="image/png"/>
  <Override PartName="/ppt/media/image15.wmf" ContentType="image/x-wmf"/>
  <Override PartName="/ppt/media/image32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10.wmf" ContentType="image/x-wmf"/>
  <Override PartName="/ppt/media/image2.gif" ContentType="image/gif"/>
  <Override PartName="/ppt/media/image25.png" ContentType="image/png"/>
  <Override PartName="/ppt/media/image5.wmf" ContentType="image/x-wmf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A7E-CE56-4D68-99F0-1B75C97C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3CB-7334-40DC-87D6-71164933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11C-E18A-4EE3-A473-2A112F4A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426-1911-4F28-ACE8-8483B3E5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B9A-2629-4A18-B39F-F3AC97C9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9C7-7A3F-4626-A3EB-D3DEA8A6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1E1-C29B-4009-BE49-210DD3F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28B-6FA5-4776-970B-9FA223B8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574-6174-47D6-A7B0-EEBA8D2C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982-60A5-4167-AE4A-F78ADBD7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48B-3582-43FA-B272-80EA8587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C56-C18D-467B-BC13-A93004F2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0BA4-C2FF-47D8-85A4-48E619BBE51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CFE9-85B5-4161-9040-C9D0A7F8E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oldskola1.narod.ru/TrigF42/sinxMa.gif"/>
          <p:cNvPicPr/>
          <p:nvPr/>
        </p:nvPicPr>
        <p:blipFill>
          <a:blip r:embed="rId1"/>
          <a:stretch/>
        </p:blipFill>
        <p:spPr>
          <a:xfrm>
            <a:off x="5078520" y="2755800"/>
            <a:ext cx="3500280" cy="350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46000" y="255240"/>
            <a:ext cx="7732800" cy="21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озв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язування найпростіших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тригонометричних рівня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H:\Documents and Settings\Aida\Рабочий стол\текстуры и фоны, клипарты\EDUCATION\2 (111).png"/>
          <p:cNvPicPr/>
          <p:nvPr/>
        </p:nvPicPr>
        <p:blipFill>
          <a:blip r:embed="rId2"/>
          <a:stretch/>
        </p:blipFill>
        <p:spPr>
          <a:xfrm>
            <a:off x="577800" y="4005360"/>
            <a:ext cx="3783240" cy="1784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H:\Documents and Settings\Aida\Рабочий стол\текстуры и фоны, клипарты\Scool_objekts\scool (46).png"/>
          <p:cNvPicPr/>
          <p:nvPr/>
        </p:nvPicPr>
        <p:blipFill>
          <a:blip r:embed="rId3"/>
          <a:stretch/>
        </p:blipFill>
        <p:spPr>
          <a:xfrm>
            <a:off x="826920" y="5781600"/>
            <a:ext cx="165744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8"/>
          <p:cNvGraphicFramePr/>
          <p:nvPr/>
        </p:nvGraphicFramePr>
        <p:xfrm>
          <a:off x="250920" y="2595600"/>
          <a:ext cx="6086520" cy="88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2595600"/>
                    <a:ext cx="60865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"/>
          <p:cNvPicPr/>
          <p:nvPr/>
        </p:nvPicPr>
        <p:blipFill>
          <a:blip r:embed="rId1"/>
          <a:srcRect l="22905" t="0" r="0" b="-5155"/>
          <a:stretch/>
        </p:blipFill>
        <p:spPr>
          <a:xfrm>
            <a:off x="5580000" y="765000"/>
            <a:ext cx="2909880" cy="64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"/>
          <p:cNvPicPr/>
          <p:nvPr/>
        </p:nvPicPr>
        <p:blipFill>
          <a:blip r:embed="rId2"/>
          <a:stretch/>
        </p:blipFill>
        <p:spPr>
          <a:xfrm>
            <a:off x="5364000" y="1380960"/>
            <a:ext cx="2608560" cy="609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"/>
          <p:cNvPicPr/>
          <p:nvPr/>
        </p:nvPicPr>
        <p:blipFill>
          <a:blip r:embed="rId3"/>
          <a:stretch/>
        </p:blipFill>
        <p:spPr>
          <a:xfrm>
            <a:off x="5580000" y="2050920"/>
            <a:ext cx="2170080" cy="96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1" descr=""/>
          <p:cNvPicPr/>
          <p:nvPr/>
        </p:nvPicPr>
        <p:blipFill>
          <a:blip r:embed="rId4"/>
          <a:stretch/>
        </p:blipFill>
        <p:spPr>
          <a:xfrm>
            <a:off x="5915160" y="3133800"/>
            <a:ext cx="2057400" cy="94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Picture 23" descr=""/>
          <p:cNvPicPr/>
          <p:nvPr/>
        </p:nvPicPr>
        <p:blipFill>
          <a:blip r:embed="rId5"/>
          <a:stretch/>
        </p:blipFill>
        <p:spPr>
          <a:xfrm>
            <a:off x="4552920" y="4076640"/>
            <a:ext cx="4224240" cy="87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"/>
          <p:cNvPicPr/>
          <p:nvPr/>
        </p:nvPicPr>
        <p:blipFill>
          <a:blip r:embed="rId6"/>
          <a:stretch/>
        </p:blipFill>
        <p:spPr>
          <a:xfrm>
            <a:off x="4979880" y="5016600"/>
            <a:ext cx="3395880" cy="89064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7" descr=""/>
          <p:cNvPicPr/>
          <p:nvPr/>
        </p:nvPicPr>
        <p:blipFill>
          <a:blip r:embed="rId7"/>
          <a:stretch/>
        </p:blipFill>
        <p:spPr>
          <a:xfrm>
            <a:off x="487440" y="822240"/>
            <a:ext cx="323676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8" descr=""/>
          <p:cNvPicPr/>
          <p:nvPr/>
        </p:nvPicPr>
        <p:blipFill>
          <a:blip r:embed="rId8"/>
          <a:stretch/>
        </p:blipFill>
        <p:spPr>
          <a:xfrm>
            <a:off x="212760" y="1841400"/>
            <a:ext cx="4451400" cy="86544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9" descr=""/>
          <p:cNvPicPr/>
          <p:nvPr/>
        </p:nvPicPr>
        <p:blipFill>
          <a:blip r:embed="rId9"/>
          <a:stretch/>
        </p:blipFill>
        <p:spPr>
          <a:xfrm>
            <a:off x="463680" y="3011400"/>
            <a:ext cx="3541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0"/>
          <p:cNvSpPr/>
          <p:nvPr/>
        </p:nvSpPr>
        <p:spPr>
          <a:xfrm>
            <a:off x="5429160" y="3571920"/>
            <a:ext cx="1285920" cy="84276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1214280" y="3643200"/>
            <a:ext cx="1071720" cy="785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rcRect l="18865" t="0" r="0" b="-18412"/>
          <a:stretch/>
        </p:blipFill>
        <p:spPr>
          <a:xfrm>
            <a:off x="3419640" y="284040"/>
            <a:ext cx="3208320" cy="1128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0" y="1409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5" descr=""/>
          <p:cNvPicPr/>
          <p:nvPr/>
        </p:nvPicPr>
        <p:blipFill>
          <a:blip r:embed="rId2"/>
          <a:stretch/>
        </p:blipFill>
        <p:spPr>
          <a:xfrm>
            <a:off x="2176560" y="1355760"/>
            <a:ext cx="5076720" cy="819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7" descr=""/>
          <p:cNvPicPr/>
          <p:nvPr/>
        </p:nvPicPr>
        <p:blipFill>
          <a:blip r:embed="rId3"/>
          <a:stretch/>
        </p:blipFill>
        <p:spPr>
          <a:xfrm>
            <a:off x="3129120" y="2309760"/>
            <a:ext cx="3581280" cy="752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" descr=""/>
          <p:cNvPicPr/>
          <p:nvPr/>
        </p:nvPicPr>
        <p:blipFill>
          <a:blip r:embed="rId4"/>
          <a:stretch/>
        </p:blipFill>
        <p:spPr>
          <a:xfrm>
            <a:off x="571680" y="3714840"/>
            <a:ext cx="3447720" cy="752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5"/>
          <a:stretch/>
        </p:blipFill>
        <p:spPr>
          <a:xfrm>
            <a:off x="4714920" y="3643200"/>
            <a:ext cx="3705120" cy="7527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0" y="120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6"/>
          <a:stretch/>
        </p:blipFill>
        <p:spPr>
          <a:xfrm>
            <a:off x="4975200" y="4834080"/>
            <a:ext cx="3133800" cy="7426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9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0" y="866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"/>
          <p:cNvPicPr/>
          <p:nvPr/>
        </p:nvPicPr>
        <p:blipFill>
          <a:blip r:embed="rId7"/>
          <a:stretch/>
        </p:blipFill>
        <p:spPr>
          <a:xfrm>
            <a:off x="642960" y="5357880"/>
            <a:ext cx="2876400" cy="7430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5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8"/>
          <a:stretch/>
        </p:blipFill>
        <p:spPr>
          <a:xfrm>
            <a:off x="857160" y="4500720"/>
            <a:ext cx="2876760" cy="7426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8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9"/>
          <p:cNvSpPr/>
          <p:nvPr/>
        </p:nvSpPr>
        <p:spPr>
          <a:xfrm>
            <a:off x="285840" y="3500280"/>
            <a:ext cx="4143240" cy="29289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9"/>
          <a:stretch/>
        </p:blipFill>
        <p:spPr>
          <a:xfrm>
            <a:off x="4975200" y="5762520"/>
            <a:ext cx="28954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7077240" cy="5824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кос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21"/>
          <p:cNvGrpSpPr/>
          <p:nvPr/>
        </p:nvGrpSpPr>
        <p:grpSpPr>
          <a:xfrm>
            <a:off x="428400" y="1285920"/>
            <a:ext cx="3539160" cy="3562200"/>
            <a:chOff x="428400" y="1285920"/>
            <a:chExt cx="3539160" cy="3562200"/>
          </a:xfrm>
        </p:grpSpPr>
        <p:sp>
          <p:nvSpPr>
            <p:cNvPr id="49" name="Овал 6"/>
            <p:cNvSpPr/>
            <p:nvPr/>
          </p:nvSpPr>
          <p:spPr>
            <a:xfrm>
              <a:off x="679320" y="1919160"/>
              <a:ext cx="2635200" cy="262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Прямая со стрелкой 7"/>
            <p:cNvCxnSpPr/>
            <p:nvPr/>
          </p:nvCxnSpPr>
          <p:spPr>
            <a:xfrm flipV="1">
              <a:off x="428400" y="3212640"/>
              <a:ext cx="3336120" cy="10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1" name="TextBox 8"/>
            <p:cNvSpPr/>
            <p:nvPr/>
          </p:nvSpPr>
          <p:spPr>
            <a:xfrm>
              <a:off x="1680120" y="1285920"/>
              <a:ext cx="27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9"/>
            <p:cNvSpPr/>
            <p:nvPr/>
          </p:nvSpPr>
          <p:spPr>
            <a:xfrm>
              <a:off x="3698280" y="2822760"/>
              <a:ext cx="2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10"/>
            <p:cNvSpPr/>
            <p:nvPr/>
          </p:nvSpPr>
          <p:spPr>
            <a:xfrm>
              <a:off x="1963440" y="15570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Calibri"/>
                </a:rPr>
                <a:t>π/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1"/>
            <p:cNvSpPr/>
            <p:nvPr/>
          </p:nvSpPr>
          <p:spPr>
            <a:xfrm>
              <a:off x="1645920" y="4540320"/>
              <a:ext cx="184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5" name="Прямая со стрелкой 5"/>
          <p:cNvCxnSpPr/>
          <p:nvPr/>
        </p:nvCxnSpPr>
        <p:spPr>
          <a:xfrm flipH="1" flipV="1">
            <a:off x="1991520" y="1584000"/>
            <a:ext cx="10440" cy="3294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Дуга 12"/>
          <p:cNvSpPr/>
          <p:nvPr/>
        </p:nvSpPr>
        <p:spPr>
          <a:xfrm>
            <a:off x="658800" y="1892160"/>
            <a:ext cx="2679840" cy="2679840"/>
          </a:xfrm>
          <a:custGeom>
            <a:avLst/>
            <a:gdLst/>
            <a:ahLst/>
            <a:rect l="l" t="t" r="r" b="b"/>
            <a:pathLst>
              <a:path stroke="0" w="2679700" h="2679700">
                <a:moveTo>
                  <a:pt x="369" y="1308399"/>
                </a:moveTo>
                <a:cubicBezTo>
                  <a:pt x="17595" y="574757"/>
                  <a:pt x="621783" y="-8521"/>
                  <a:pt x="1355577" y="92"/>
                </a:cubicBezTo>
                <a:cubicBezTo>
                  <a:pt x="2089371" y="8706"/>
                  <a:pt x="2679701" y="606006"/>
                  <a:pt x="2679700" y="1339850"/>
                </a:cubicBezTo>
                <a:lnTo>
                  <a:pt x="1339850" y="1339850"/>
                </a:lnTo>
                <a:lnTo>
                  <a:pt x="369" y="1308399"/>
                </a:lnTo>
                <a:close/>
              </a:path>
              <a:path fill="none" w="2679700" h="2679700">
                <a:moveTo>
                  <a:pt x="369" y="1308399"/>
                </a:moveTo>
                <a:cubicBezTo>
                  <a:pt x="17595" y="574757"/>
                  <a:pt x="621783" y="-8521"/>
                  <a:pt x="1355577" y="92"/>
                </a:cubicBezTo>
                <a:cubicBezTo>
                  <a:pt x="2089371" y="8706"/>
                  <a:pt x="2679701" y="606006"/>
                  <a:pt x="2679700" y="133985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3288960" y="2857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31280" y="285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3074760" y="3143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645480" y="3143160"/>
            <a:ext cx="34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8"/>
          <p:cNvSpPr/>
          <p:nvPr/>
        </p:nvSpPr>
        <p:spPr>
          <a:xfrm flipV="1">
            <a:off x="676440" y="3211560"/>
            <a:ext cx="2641320" cy="79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Группа 28"/>
          <p:cNvGrpSpPr/>
          <p:nvPr/>
        </p:nvGrpSpPr>
        <p:grpSpPr>
          <a:xfrm>
            <a:off x="1357200" y="3181320"/>
            <a:ext cx="398520" cy="503640"/>
            <a:chOff x="1357200" y="3181320"/>
            <a:chExt cx="398520" cy="503640"/>
          </a:xfrm>
        </p:grpSpPr>
        <p:sp>
          <p:nvSpPr>
            <p:cNvPr id="63" name="Овал 19"/>
            <p:cNvSpPr/>
            <p:nvPr/>
          </p:nvSpPr>
          <p:spPr>
            <a:xfrm>
              <a:off x="1511280" y="318132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22"/>
            <p:cNvSpPr/>
            <p:nvPr/>
          </p:nvSpPr>
          <p:spPr>
            <a:xfrm>
              <a:off x="1357200" y="328608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2a07bd"/>
                  </a:solidFill>
                  <a:latin typeface="Times New Roman"/>
                  <a:ea typeface="Times New Roman"/>
                </a:rPr>
                <a:t>-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27"/>
          <p:cNvGrpSpPr/>
          <p:nvPr/>
        </p:nvGrpSpPr>
        <p:grpSpPr>
          <a:xfrm>
            <a:off x="2340000" y="3165480"/>
            <a:ext cx="393840" cy="508320"/>
            <a:chOff x="2340000" y="3165480"/>
            <a:chExt cx="393840" cy="508320"/>
          </a:xfrm>
        </p:grpSpPr>
        <p:sp>
          <p:nvSpPr>
            <p:cNvPr id="66" name="Овал 17"/>
            <p:cNvSpPr/>
            <p:nvPr/>
          </p:nvSpPr>
          <p:spPr>
            <a:xfrm>
              <a:off x="2460600" y="3165480"/>
              <a:ext cx="79200" cy="75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1"/>
            <p:cNvSpPr/>
            <p:nvPr/>
          </p:nvSpPr>
          <p:spPr>
            <a:xfrm>
              <a:off x="2340000" y="3274920"/>
              <a:ext cx="39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2a07bd"/>
                  </a:solidFill>
                  <a:latin typeface="Times New Roman"/>
                  <a:ea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Прямая соединительная линия 30"/>
          <p:cNvSpPr/>
          <p:nvPr/>
        </p:nvSpPr>
        <p:spPr>
          <a:xfrm flipH="1" flipV="1">
            <a:off x="2504880" y="2009520"/>
            <a:ext cx="4680" cy="1176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33"/>
          <p:cNvGrpSpPr/>
          <p:nvPr/>
        </p:nvGrpSpPr>
        <p:grpSpPr>
          <a:xfrm>
            <a:off x="2457360" y="1643040"/>
            <a:ext cx="1379520" cy="703800"/>
            <a:chOff x="2457360" y="1643040"/>
            <a:chExt cx="1379520" cy="703800"/>
          </a:xfrm>
        </p:grpSpPr>
        <p:sp>
          <p:nvSpPr>
            <p:cNvPr id="70" name="Овал 31"/>
            <p:cNvSpPr/>
            <p:nvPr/>
          </p:nvSpPr>
          <p:spPr>
            <a:xfrm>
              <a:off x="2457360" y="197640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2"/>
            <p:cNvSpPr/>
            <p:nvPr/>
          </p:nvSpPr>
          <p:spPr>
            <a:xfrm>
              <a:off x="2571480" y="1643040"/>
              <a:ext cx="126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ccos </a:t>
              </a:r>
              <a:r>
                <a:rPr b="1" i="1" lang="ru-RU" sz="1800" spc="-1" strike="noStrike">
                  <a:solidFill>
                    <a:srgbClr val="2a07bd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en-US" sz="1800" spc="-1" strike="noStrike">
                  <a:solidFill>
                    <a:srgbClr val="bbe0e3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34"/>
          <p:cNvSpPr/>
          <p:nvPr/>
        </p:nvSpPr>
        <p:spPr>
          <a:xfrm>
            <a:off x="644040" y="1643040"/>
            <a:ext cx="11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cos(</a:t>
            </a:r>
            <a:r>
              <a:rPr b="0" lang="en-US" sz="1800" spc="-1" strike="noStrike">
                <a:solidFill>
                  <a:srgbClr val="2a07bd"/>
                </a:solidFill>
                <a:latin typeface="Times New Roman"/>
                <a:ea typeface="Times New Roman"/>
              </a:rPr>
              <a:t>-</a:t>
            </a:r>
            <a:r>
              <a:rPr b="1" i="1" lang="ru-RU" sz="1800" spc="-1" strike="noStrike">
                <a:solidFill>
                  <a:srgbClr val="2a07bd"/>
                </a:solidFill>
                <a:latin typeface="Times New Roman"/>
                <a:ea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Группа 39"/>
          <p:cNvGrpSpPr/>
          <p:nvPr/>
        </p:nvGrpSpPr>
        <p:grpSpPr>
          <a:xfrm>
            <a:off x="1481040" y="1976400"/>
            <a:ext cx="71640" cy="1233000"/>
            <a:chOff x="1481040" y="1976400"/>
            <a:chExt cx="71640" cy="1233000"/>
          </a:xfrm>
        </p:grpSpPr>
        <p:sp>
          <p:nvSpPr>
            <p:cNvPr id="74" name="Овал 35"/>
            <p:cNvSpPr/>
            <p:nvPr/>
          </p:nvSpPr>
          <p:spPr>
            <a:xfrm>
              <a:off x="1481040" y="1976400"/>
              <a:ext cx="7164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37"/>
            <p:cNvSpPr/>
            <p:nvPr/>
          </p:nvSpPr>
          <p:spPr>
            <a:xfrm flipV="1">
              <a:off x="1543320" y="199008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40"/>
          <p:cNvSpPr/>
          <p:nvPr/>
        </p:nvSpPr>
        <p:spPr>
          <a:xfrm>
            <a:off x="4153680" y="2000160"/>
            <a:ext cx="4563720" cy="2531160"/>
          </a:xfrm>
          <a:prstGeom prst="rect">
            <a:avLst/>
          </a:prstGeom>
          <a:solidFill>
            <a:srgbClr val="92d05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ккосинусом числа </a:t>
            </a:r>
            <a:r>
              <a:rPr b="1" i="1" lang="ru-RU" sz="3200" spc="-1" strike="noStrike">
                <a:solidFill>
                  <a:srgbClr val="2a07bd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е число (кут)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[0;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2a07bd"/>
                </a:solidFill>
                <a:latin typeface="Times New Roman"/>
                <a:ea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ому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2a07bd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≤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1"/>
          <p:cNvSpPr/>
          <p:nvPr/>
        </p:nvSpPr>
        <p:spPr>
          <a:xfrm>
            <a:off x="1671120" y="5429160"/>
            <a:ext cx="6119280" cy="825120"/>
          </a:xfrm>
          <a:prstGeom prst="rect">
            <a:avLst/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cos(</a:t>
            </a:r>
            <a:r>
              <a:rPr b="1" lang="en-US" sz="4800" spc="-1" strike="noStrike">
                <a:solidFill>
                  <a:srgbClr val="2a07bd"/>
                </a:solidFill>
                <a:latin typeface="Calibri"/>
              </a:rPr>
              <a:t>-</a:t>
            </a:r>
            <a:r>
              <a:rPr b="1" i="1" lang="ru-RU" sz="4800" spc="-1" strike="noStrike">
                <a:solidFill>
                  <a:srgbClr val="2a07bd"/>
                </a:solidFill>
                <a:latin typeface="Times New Roman"/>
                <a:ea typeface="Times New Roman"/>
              </a:rPr>
              <a:t> 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rccos</a:t>
            </a:r>
            <a:r>
              <a:rPr b="1" i="1" lang="ru-RU" sz="48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2a07bd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 flipV="1">
            <a:off x="6119640" y="1071360"/>
            <a:ext cx="24120" cy="4671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>
            <a:off x="8063280" y="1412640"/>
            <a:ext cx="2520" cy="4034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1908000" y="3645000"/>
            <a:ext cx="6985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5572080" y="1214280"/>
                <a:ext cx="4320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9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Дуга 10"/>
          <p:cNvSpPr/>
          <p:nvPr/>
        </p:nvSpPr>
        <p:spPr>
          <a:xfrm>
            <a:off x="4643280" y="2060640"/>
            <a:ext cx="2928960" cy="2928960"/>
          </a:xfrm>
          <a:custGeom>
            <a:avLst/>
            <a:gdLst/>
            <a:ahLst/>
            <a:rect l="l" t="t" r="r" b="b"/>
            <a:pathLst>
              <a:path stroke="0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  <a:lnTo>
                  <a:pt x="1464469" y="1464469"/>
                </a:lnTo>
                <a:cubicBezTo>
                  <a:pt x="1464469" y="976313"/>
                  <a:pt x="1464468" y="488156"/>
                  <a:pt x="1464468" y="0"/>
                </a:cubicBezTo>
                <a:close/>
              </a:path>
              <a:path fill="none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8028000" y="3573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4"/>
              <p:cNvSpPr txBox="1"/>
              <p:nvPr/>
            </p:nvSpPr>
            <p:spPr>
              <a:xfrm>
                <a:off x="5614920" y="5057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Box 24"/>
          <p:cNvSpPr/>
          <p:nvPr/>
        </p:nvSpPr>
        <p:spPr>
          <a:xfrm>
            <a:off x="214200" y="200016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&gt;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WordArt 19" descr=""/>
          <p:cNvPicPr/>
          <p:nvPr/>
        </p:nvPicPr>
        <p:blipFill>
          <a:blip r:embed="rId1"/>
          <a:stretch/>
        </p:blipFill>
        <p:spPr>
          <a:xfrm>
            <a:off x="712800" y="353880"/>
            <a:ext cx="8070840" cy="7318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6"/>
          <p:cNvSpPr/>
          <p:nvPr/>
        </p:nvSpPr>
        <p:spPr>
          <a:xfrm>
            <a:off x="357120" y="2714760"/>
            <a:ext cx="357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ає  то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тину з ко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івняння не має 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з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3999240" y="1642680"/>
            <a:ext cx="2520" cy="4034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3929040" y="357192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im.ddns.ukrtel.net/math/Algebra/Trigonometria/theory/G2/2_2.files/pic64.jpg"/>
          <p:cNvPicPr/>
          <p:nvPr/>
        </p:nvPicPr>
        <p:blipFill>
          <a:blip r:embed="rId1"/>
          <a:stretch/>
        </p:blipFill>
        <p:spPr>
          <a:xfrm>
            <a:off x="255600" y="549360"/>
            <a:ext cx="8431200" cy="4383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>
            <a:off x="3075480" y="414324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&gt;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2790000" y="10717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&gt;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1350720" y="526716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  <a:ea typeface="Arial"/>
              </a:rPr>
              <a:t>Якщ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&gt;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1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  <a:ea typeface="Arial"/>
              </a:rPr>
              <a:t> то рівнянн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os t = a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  <a:ea typeface="Arial"/>
              </a:rPr>
              <a:t> немає розв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’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  <a:ea typeface="Arial"/>
              </a:rPr>
              <a:t>язк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 flipV="1">
            <a:off x="6119640" y="773280"/>
            <a:ext cx="0" cy="4970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7575840" y="1773000"/>
            <a:ext cx="10440" cy="3512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1908000" y="3645000"/>
            <a:ext cx="6985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9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Дуга 10"/>
          <p:cNvSpPr/>
          <p:nvPr/>
        </p:nvSpPr>
        <p:spPr>
          <a:xfrm>
            <a:off x="4643280" y="2060640"/>
            <a:ext cx="2928960" cy="2928960"/>
          </a:xfrm>
          <a:custGeom>
            <a:avLst/>
            <a:gdLst/>
            <a:ahLst/>
            <a:rect l="l" t="t" r="r" b="b"/>
            <a:pathLst>
              <a:path stroke="0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  <a:lnTo>
                  <a:pt x="1464469" y="1464469"/>
                </a:lnTo>
                <a:cubicBezTo>
                  <a:pt x="1464469" y="976313"/>
                  <a:pt x="1464468" y="488156"/>
                  <a:pt x="1464468" y="0"/>
                </a:cubicBezTo>
                <a:close/>
              </a:path>
              <a:path fill="none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7524720" y="3573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4"/>
              <p:cNvSpPr txBox="1"/>
              <p:nvPr/>
            </p:nvSpPr>
            <p:spPr>
              <a:xfrm>
                <a:off x="5614920" y="5057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Box 24"/>
          <p:cNvSpPr/>
          <p:nvPr/>
        </p:nvSpPr>
        <p:spPr>
          <a:xfrm>
            <a:off x="785880" y="19288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4"/>
          <p:cNvSpPr/>
          <p:nvPr/>
        </p:nvSpPr>
        <p:spPr>
          <a:xfrm>
            <a:off x="357120" y="2714760"/>
            <a:ext cx="19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s t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H="1">
            <a:off x="4620240" y="1700280"/>
            <a:ext cx="16200" cy="3531960"/>
          </a:xfrm>
          <a:prstGeom prst="line">
            <a:avLst/>
          </a:prstGeom>
          <a:ln w="38160">
            <a:solidFill>
              <a:srgbClr val="2a07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4572000" y="36082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9"/>
              <p:cNvSpPr txBox="1"/>
              <p:nvPr/>
            </p:nvSpPr>
            <p:spPr>
              <a:xfrm>
                <a:off x="7667640" y="3716280"/>
                <a:ext cx="295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Box 24"/>
          <p:cNvSpPr/>
          <p:nvPr/>
        </p:nvSpPr>
        <p:spPr>
          <a:xfrm>
            <a:off x="2219400" y="230976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7bd"/>
                </a:solidFill>
                <a:latin typeface="Arial"/>
              </a:rPr>
              <a:t>cos t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07bd"/>
                </a:solidFill>
                <a:latin typeface="Arial"/>
              </a:rPr>
              <a:t>t=</a:t>
            </a:r>
            <a:r>
              <a:rPr b="1" lang="ru-RU" sz="2400" spc="-1" strike="noStrike">
                <a:solidFill>
                  <a:srgbClr val="2a07bd"/>
                </a:solidFill>
                <a:latin typeface="Arial"/>
              </a:rPr>
              <a:t>П+2П</a:t>
            </a:r>
            <a:r>
              <a:rPr b="1" lang="en-US" sz="2400" spc="-1" strike="noStrike">
                <a:solidFill>
                  <a:srgbClr val="2a07bd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H="1">
            <a:off x="539640" y="2421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187280" y="2421000"/>
            <a:ext cx="8845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3"/>
              <p:cNvSpPr txBox="1"/>
              <p:nvPr/>
            </p:nvSpPr>
            <p:spPr>
              <a:xfrm>
                <a:off x="4284720" y="3789360"/>
                <a:ext cx="3254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1" name="WordArt 25" descr=""/>
          <p:cNvPicPr/>
          <p:nvPr/>
        </p:nvPicPr>
        <p:blipFill>
          <a:blip r:embed="rId1"/>
          <a:stretch/>
        </p:blipFill>
        <p:spPr>
          <a:xfrm>
            <a:off x="695160" y="268200"/>
            <a:ext cx="8070840" cy="73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Object 26"/>
              <p:cNvSpPr txBox="1"/>
              <p:nvPr/>
            </p:nvSpPr>
            <p:spPr>
              <a:xfrm>
                <a:off x="6156360" y="3284640"/>
                <a:ext cx="295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Box 25"/>
          <p:cNvSpPr/>
          <p:nvPr/>
        </p:nvSpPr>
        <p:spPr>
          <a:xfrm>
            <a:off x="928800" y="414324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3) a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11"/>
          <p:cNvGraphicFramePr/>
          <p:nvPr/>
        </p:nvGraphicFramePr>
        <p:xfrm>
          <a:off x="785880" y="4857840"/>
          <a:ext cx="3181320" cy="14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4857840"/>
                    <a:ext cx="318132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Прямая соединительная линия 28"/>
          <p:cNvSpPr/>
          <p:nvPr/>
        </p:nvSpPr>
        <p:spPr>
          <a:xfrm>
            <a:off x="6143760" y="1571760"/>
            <a:ext cx="0" cy="392904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6072120" y="35719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2"/>
          <p:cNvGraphicFramePr/>
          <p:nvPr/>
        </p:nvGraphicFramePr>
        <p:xfrm>
          <a:off x="5643720" y="4929120"/>
          <a:ext cx="1760400" cy="9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3720" y="4929120"/>
                    <a:ext cx="176040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6"/>
          <a:stretch/>
        </p:blipFill>
        <p:spPr>
          <a:xfrm>
            <a:off x="6286680" y="1357200"/>
            <a:ext cx="2473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im.ddns.ukrtel.net/math/Algebra/Trigonometria/theory/G2/2_2.files/pic65.jpg"/>
          <p:cNvPicPr/>
          <p:nvPr/>
        </p:nvPicPr>
        <p:blipFill>
          <a:blip r:embed="rId1"/>
          <a:stretch/>
        </p:blipFill>
        <p:spPr>
          <a:xfrm>
            <a:off x="639720" y="500040"/>
            <a:ext cx="7802640" cy="39322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3289680" y="1000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3575520" y="3857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791640" y="47862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  <a:ea typeface="Arial"/>
              </a:rPr>
              <a:t>Якщ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=1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28920" y="4714920"/>
          <a:ext cx="3193920" cy="12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4714920"/>
                    <a:ext cx="3193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2"/>
          <p:cNvSpPr/>
          <p:nvPr/>
        </p:nvSpPr>
        <p:spPr>
          <a:xfrm flipV="1">
            <a:off x="6119640" y="773280"/>
            <a:ext cx="0" cy="4970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 flipH="1" flipV="1">
            <a:off x="7119000" y="1988640"/>
            <a:ext cx="19440" cy="2953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1908000" y="3645000"/>
            <a:ext cx="6985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Дуга 10"/>
          <p:cNvSpPr/>
          <p:nvPr/>
        </p:nvSpPr>
        <p:spPr>
          <a:xfrm>
            <a:off x="4643280" y="2060640"/>
            <a:ext cx="2928960" cy="2928960"/>
          </a:xfrm>
          <a:custGeom>
            <a:avLst/>
            <a:gdLst/>
            <a:ahLst/>
            <a:rect l="l" t="t" r="r" b="b"/>
            <a:pathLst>
              <a:path stroke="0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  <a:lnTo>
                  <a:pt x="1464469" y="1464469"/>
                </a:lnTo>
                <a:cubicBezTo>
                  <a:pt x="1464469" y="976313"/>
                  <a:pt x="1464468" y="488156"/>
                  <a:pt x="1464468" y="0"/>
                </a:cubicBezTo>
                <a:close/>
              </a:path>
              <a:path fill="none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7093080" y="450864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4"/>
              <p:cNvSpPr txBox="1"/>
              <p:nvPr/>
            </p:nvSpPr>
            <p:spPr>
              <a:xfrm>
                <a:off x="5580000" y="5084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Box 24"/>
          <p:cNvSpPr/>
          <p:nvPr/>
        </p:nvSpPr>
        <p:spPr>
          <a:xfrm>
            <a:off x="179280" y="198900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7093080" y="24210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7236000" y="2205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rccos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2"/>
          <p:cNvSpPr/>
          <p:nvPr/>
        </p:nvSpPr>
        <p:spPr>
          <a:xfrm>
            <a:off x="7164360" y="443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rccos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4"/>
          <p:cNvSpPr/>
          <p:nvPr/>
        </p:nvSpPr>
        <p:spPr>
          <a:xfrm>
            <a:off x="250920" y="24210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ені, симетричні відносно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жна  записа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4"/>
          <p:cNvSpPr/>
          <p:nvPr/>
        </p:nvSpPr>
        <p:spPr>
          <a:xfrm>
            <a:off x="2627280" y="4869000"/>
            <a:ext cx="7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а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23"/>
              <p:cNvSpPr txBox="1"/>
              <p:nvPr/>
            </p:nvSpPr>
            <p:spPr>
              <a:xfrm>
                <a:off x="189000" y="3873600"/>
                <a:ext cx="50194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П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П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Oval 9"/>
          <p:cNvSpPr/>
          <p:nvPr/>
        </p:nvSpPr>
        <p:spPr>
          <a:xfrm>
            <a:off x="7093080" y="3573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6806160" y="3284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WordArt 26" descr=""/>
          <p:cNvPicPr/>
          <p:nvPr/>
        </p:nvPicPr>
        <p:blipFill>
          <a:blip r:embed="rId1"/>
          <a:stretch/>
        </p:blipFill>
        <p:spPr>
          <a:xfrm>
            <a:off x="676440" y="426960"/>
            <a:ext cx="807084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Object 9"/>
          <p:cNvGraphicFramePr/>
          <p:nvPr/>
        </p:nvGraphicFramePr>
        <p:xfrm>
          <a:off x="1000080" y="5643720"/>
          <a:ext cx="6086520" cy="63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5643720"/>
                    <a:ext cx="60865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Сосинусоида"/>
          <p:cNvPicPr/>
          <p:nvPr/>
        </p:nvPicPr>
        <p:blipFill>
          <a:blip r:embed="rId1"/>
          <a:srcRect l="0" t="61253" r="0" b="0"/>
          <a:stretch/>
        </p:blipFill>
        <p:spPr>
          <a:xfrm>
            <a:off x="539640" y="1916280"/>
            <a:ext cx="8377200" cy="33717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ая соединительная линия 2"/>
          <p:cNvSpPr/>
          <p:nvPr/>
        </p:nvSpPr>
        <p:spPr>
          <a:xfrm>
            <a:off x="250920" y="2852640"/>
            <a:ext cx="866592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4"/>
          <p:cNvSpPr/>
          <p:nvPr/>
        </p:nvSpPr>
        <p:spPr>
          <a:xfrm>
            <a:off x="479520" y="3781440"/>
            <a:ext cx="866448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9"/>
          <p:cNvGraphicFramePr/>
          <p:nvPr/>
        </p:nvGraphicFramePr>
        <p:xfrm>
          <a:off x="1768320" y="5445000"/>
          <a:ext cx="6086520" cy="6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5445000"/>
                    <a:ext cx="60865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WordArt 26" descr=""/>
          <p:cNvPicPr/>
          <p:nvPr/>
        </p:nvPicPr>
        <p:blipFill>
          <a:blip r:embed="rId4"/>
          <a:stretch/>
        </p:blipFill>
        <p:spPr>
          <a:xfrm>
            <a:off x="706320" y="689040"/>
            <a:ext cx="80726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9960" y="55512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Тригонометричні рівняння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cos x = a</a:t>
            </a: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1397160"/>
          <a:ext cx="8785440" cy="5056200"/>
        </p:xfrm>
        <a:graphic>
          <a:graphicData uri="http://schemas.openxmlformats.org/drawingml/2006/table">
            <a:tbl>
              <a:tblPr/>
              <a:tblGrid>
                <a:gridCol w="554040"/>
                <a:gridCol w="1944720"/>
                <a:gridCol w="6286680"/>
              </a:tblGrid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івня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озв'яз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cos x = a</a:t>
                      </a: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a|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1, x = ± arccos a + 2πn, n є Z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cos x =</a:t>
                      </a:r>
                      <a:r>
                        <a:rPr b="1" lang="uk-UA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   + πn, n є Z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cos x =</a:t>
                      </a:r>
                      <a:r>
                        <a:rPr b="1" lang="uk-UA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1</a:t>
                      </a: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 2πn, n є Z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cos x =</a:t>
                      </a:r>
                      <a:r>
                        <a:rPr b="1" lang="uk-UA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- 1</a:t>
                      </a:r>
                      <a:r>
                        <a:rPr b="1" lang="ru-RU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 π + 2πn, n є Z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cos x =</a:t>
                      </a:r>
                      <a:r>
                        <a:rPr b="1" lang="uk-UA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- </a:t>
                      </a: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a|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1, x = ±(π-arccos a)+ 2πn, n є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33"/>
          <p:cNvSpPr/>
          <p:nvPr/>
        </p:nvSpPr>
        <p:spPr>
          <a:xfrm>
            <a:off x="4437360" y="28969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4"/>
              <p:cNvSpPr txBox="1"/>
              <p:nvPr/>
            </p:nvSpPr>
            <p:spPr>
              <a:xfrm>
                <a:off x="3276720" y="2997360"/>
                <a:ext cx="3283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Rectangle 35"/>
          <p:cNvSpPr/>
          <p:nvPr/>
        </p:nvSpPr>
        <p:spPr>
          <a:xfrm>
            <a:off x="4437360" y="362376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7:30:05Z</dcterms:created>
  <dc:creator>***</dc:creator>
  <dc:description>http;//aida.ucoz.ru</dc:description>
  <dc:language>en-US</dc:language>
  <cp:lastModifiedBy>hp</cp:lastModifiedBy>
  <dcterms:modified xsi:type="dcterms:W3CDTF">2017-11-18T10:11:31Z</dcterms:modified>
  <cp:revision>27</cp:revision>
  <dc:subject/>
  <dc:title>РЕШЕНИЕ  ТРИГОНОМЕТРИЧЕСКИХ  УРАВНЕНИЙ</dc:title>
</cp:coreProperties>
</file>