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552A-92EE-486E-B018-C212CC244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68C8-ABBE-4FEC-8248-F301FEB63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5A28-7BEB-4AB3-B770-69B2F90102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F20C-269F-47D5-BC25-26F008A825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7DE-705D-44D5-9FFE-1FDA97D12D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3CD1-B7FB-4B94-9AE6-54E90584A5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709B-B28E-4125-B13F-AD6D7300FB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DD0-00EF-4058-9BCB-37BE3A8AF4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223A-14F2-420D-AB2F-745F036D8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63C8-DC16-444B-8EFC-EEA16F1D9B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6B0-5CB0-4B6E-AE3E-CA8EAC8668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8CA8-D750-4B1B-9B21-8F277A221E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29CA-4CE9-4A7A-B246-E478F38473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754-165C-4A3E-8FF3-5E91EB4E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8B3-5618-4641-BD0F-0638A1B4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685-4974-4A12-8F68-7556A4C8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D84-EDB4-4E54-9222-B0CB2A72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B8CD-7D77-481C-9848-5081FF8B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DBDC-A839-48EB-81ED-C199F2E6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1DA2-D0DA-49F4-AE77-F22F11A1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B552-2160-4936-AF10-526F3BF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3BFA-4E78-4D65-A7E0-9A68C96E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5529-3E52-40E5-9D5D-3FDC31F9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92C8-1E43-4965-90E5-DEB1106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499-3E8C-429B-92C5-93FB9A3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AD7B-289B-4E78-9502-6E94C5E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2F0D-7150-4ED1-B992-0A7D3B1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78B9-0A93-4CE2-BBFC-BCD1AEC4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E1E7-AE1B-4558-8174-89BCB068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97B5-57EB-4975-9967-548AF471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7BC3-788F-4E1B-B792-A4F4342C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B501-C667-4189-ABC9-56050594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E8F5-881C-480B-9311-54586A66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C64E-CC8C-4C71-A649-E3DD0936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86B9-0DFD-4DE8-B4BC-3876E732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67B-40D3-42AD-AA0B-7AD09523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4512-32B5-48E7-9B05-E029DF2C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6D21-0906-4817-A3FC-403637F2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AA70-48F2-4CF7-B072-47F45C05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3E946-2AD5-42EF-8812-F1612B9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0E70-1270-40C5-880A-64490CE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2F02-0EC7-42E0-9733-C87057B7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28A1-BE52-44BE-BB46-F50B91EA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2578-773D-4BC9-BD79-6FF002E1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80C5-6E32-465D-988F-E6ED84DB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3E88-9C01-47CB-AF96-4F6FA2CE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4E8-3B86-442B-A0D6-85C20CC4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C0D1-4D89-4DE3-916F-CA29FA2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9994-4C7A-475C-94C2-E6C92F53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70D3-992D-4400-B343-11317EB0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AA1D5-9B6D-43EA-9B26-C1809990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ECDC3-1868-4AF6-A8E4-E9CB59B5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5FF6-6909-4EB3-941D-D9BD0B46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BC4F-C3AE-4997-B60D-3027623A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D75D-C6F7-4F72-8445-1193DABD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95ED-D372-4F70-ABA7-14670148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BE7-8E24-4363-8FDC-816B1CED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C68-3423-4FE8-B355-20269753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ED5-729B-4290-8EE0-39A7E3EC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1B1-FD7B-4825-AEDE-3F7785F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ED2-28C1-4E7A-9B42-E2E673B9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FE46-31C9-4F7D-9D9A-DAD6D2EE337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C21E-45B8-4BA9-A2BB-5F11627D19D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157-BBD9-4DBE-AED9-4187EFB2228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963E-D783-4A22-8DBA-1780079902F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7"/>
          <p:cNvSpPr/>
          <p:nvPr/>
        </p:nvSpPr>
        <p:spPr>
          <a:xfrm>
            <a:off x="838080" y="533520"/>
            <a:ext cx="7772400" cy="55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Електропровідність напівпровідник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Електронно – дірковий перехід. Напівпровідниковий діод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та: - сформувати уявлення про вільні носії електричног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ряду 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півпровідниках і про природу електричного струму 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півпровід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Розвивати увагу, пам´ять учн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Виховувати наполегливість, активність, самостійні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28600" y="457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емо електричний контакт двох напівпровідників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типу, що називається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ерех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152280" y="1219320"/>
            <a:ext cx="853452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1523880" y="2438280"/>
            <a:ext cx="25909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4114800" y="2438280"/>
            <a:ext cx="25909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457200" y="33526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6705720" y="33526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8380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6934320" y="2438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1752480" y="2514600"/>
            <a:ext cx="38124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3"/>
          <p:cNvSpPr/>
          <p:nvPr/>
        </p:nvSpPr>
        <p:spPr>
          <a:xfrm>
            <a:off x="3048120" y="28954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4"/>
          <p:cNvSpPr/>
          <p:nvPr/>
        </p:nvSpPr>
        <p:spPr>
          <a:xfrm>
            <a:off x="1828800" y="35812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3124080" y="3733920"/>
            <a:ext cx="38124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4419720" y="2590920"/>
            <a:ext cx="380880" cy="38880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7"/>
          <p:cNvSpPr/>
          <p:nvPr/>
        </p:nvSpPr>
        <p:spPr>
          <a:xfrm>
            <a:off x="4343400" y="3352680"/>
            <a:ext cx="380880" cy="389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8"/>
          <p:cNvSpPr/>
          <p:nvPr/>
        </p:nvSpPr>
        <p:spPr>
          <a:xfrm>
            <a:off x="5638680" y="2819520"/>
            <a:ext cx="381240" cy="38880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9"/>
          <p:cNvSpPr/>
          <p:nvPr/>
        </p:nvSpPr>
        <p:spPr>
          <a:xfrm>
            <a:off x="5410080" y="3581280"/>
            <a:ext cx="381240" cy="389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457200" y="4648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рум через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ерехід тече за рахунок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основних носіїв заряд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дірки рухаються вправо, електрони – влі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1"/>
          <p:cNvSpPr/>
          <p:nvPr/>
        </p:nvSpPr>
        <p:spPr>
          <a:xfrm>
            <a:off x="380880" y="54100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ір переходу малий, струм вели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380880" y="5943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е включення називаєтьс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ямим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прямому напрям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ерехід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бре проводить електричний ст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3"/>
          <p:cNvSpPr/>
          <p:nvPr/>
        </p:nvSpPr>
        <p:spPr>
          <a:xfrm flipH="1">
            <a:off x="3657240" y="2819520"/>
            <a:ext cx="762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4"/>
          <p:cNvSpPr/>
          <p:nvPr/>
        </p:nvSpPr>
        <p:spPr>
          <a:xfrm flipH="1">
            <a:off x="3580920" y="3581280"/>
            <a:ext cx="762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 flipH="1">
            <a:off x="4876920" y="3048120"/>
            <a:ext cx="7617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4648320" y="3809880"/>
            <a:ext cx="7617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7"/>
          <p:cNvSpPr/>
          <p:nvPr/>
        </p:nvSpPr>
        <p:spPr>
          <a:xfrm>
            <a:off x="3429000" y="3048120"/>
            <a:ext cx="7621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8"/>
          <p:cNvSpPr/>
          <p:nvPr/>
        </p:nvSpPr>
        <p:spPr>
          <a:xfrm>
            <a:off x="3505320" y="3962520"/>
            <a:ext cx="761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9"/>
          <p:cNvSpPr/>
          <p:nvPr/>
        </p:nvSpPr>
        <p:spPr>
          <a:xfrm>
            <a:off x="2209680" y="3809880"/>
            <a:ext cx="7621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>
            <a:off x="2133720" y="2743200"/>
            <a:ext cx="761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1"/>
          <p:cNvSpPr/>
          <p:nvPr/>
        </p:nvSpPr>
        <p:spPr>
          <a:xfrm>
            <a:off x="2590920" y="167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2"/>
          <p:cNvSpPr/>
          <p:nvPr/>
        </p:nvSpPr>
        <p:spPr>
          <a:xfrm>
            <a:off x="518148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523880" y="1828800"/>
            <a:ext cx="25909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4114800" y="1828800"/>
            <a:ext cx="25909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457200" y="2743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8"/>
          <p:cNvSpPr/>
          <p:nvPr/>
        </p:nvSpPr>
        <p:spPr>
          <a:xfrm>
            <a:off x="6705720" y="2743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7010280" y="2057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6858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685800" y="609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Зворотне вклю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1752480" y="1905120"/>
            <a:ext cx="38124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3"/>
          <p:cNvSpPr/>
          <p:nvPr/>
        </p:nvSpPr>
        <p:spPr>
          <a:xfrm>
            <a:off x="3048120" y="2286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4"/>
          <p:cNvSpPr/>
          <p:nvPr/>
        </p:nvSpPr>
        <p:spPr>
          <a:xfrm>
            <a:off x="1828800" y="29718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5"/>
          <p:cNvSpPr/>
          <p:nvPr/>
        </p:nvSpPr>
        <p:spPr>
          <a:xfrm>
            <a:off x="3124080" y="31240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6"/>
          <p:cNvSpPr/>
          <p:nvPr/>
        </p:nvSpPr>
        <p:spPr>
          <a:xfrm>
            <a:off x="4419720" y="1981080"/>
            <a:ext cx="380880" cy="389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7"/>
          <p:cNvSpPr/>
          <p:nvPr/>
        </p:nvSpPr>
        <p:spPr>
          <a:xfrm>
            <a:off x="4343400" y="2743200"/>
            <a:ext cx="380880" cy="38880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8"/>
          <p:cNvSpPr/>
          <p:nvPr/>
        </p:nvSpPr>
        <p:spPr>
          <a:xfrm>
            <a:off x="5638680" y="2209680"/>
            <a:ext cx="381240" cy="389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9"/>
          <p:cNvSpPr/>
          <p:nvPr/>
        </p:nvSpPr>
        <p:spPr>
          <a:xfrm>
            <a:off x="5410080" y="2971800"/>
            <a:ext cx="381240" cy="38880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380880" y="43434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ні носії заряду не проходять через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ерех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457200" y="4800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ір переходу великий, струм практично відсутн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380880" y="5334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е включення називаєтьс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воротнім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зворотному напрямк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ерехід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актично не проводить електричного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6"/>
          <p:cNvSpPr/>
          <p:nvPr/>
        </p:nvSpPr>
        <p:spPr>
          <a:xfrm>
            <a:off x="4800600" y="2209680"/>
            <a:ext cx="685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0"/>
          <p:cNvSpPr/>
          <p:nvPr/>
        </p:nvSpPr>
        <p:spPr>
          <a:xfrm flipH="1">
            <a:off x="1295280" y="320040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2590920" y="10666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5181480" y="1066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3"/>
          <p:cNvSpPr/>
          <p:nvPr/>
        </p:nvSpPr>
        <p:spPr>
          <a:xfrm>
            <a:off x="6019920" y="2438280"/>
            <a:ext cx="685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4"/>
          <p:cNvSpPr/>
          <p:nvPr/>
        </p:nvSpPr>
        <p:spPr>
          <a:xfrm>
            <a:off x="4724280" y="2971800"/>
            <a:ext cx="685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5"/>
          <p:cNvSpPr/>
          <p:nvPr/>
        </p:nvSpPr>
        <p:spPr>
          <a:xfrm>
            <a:off x="5791320" y="3200400"/>
            <a:ext cx="685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6"/>
          <p:cNvSpPr/>
          <p:nvPr/>
        </p:nvSpPr>
        <p:spPr>
          <a:xfrm flipH="1">
            <a:off x="1218960" y="213372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7"/>
          <p:cNvSpPr/>
          <p:nvPr/>
        </p:nvSpPr>
        <p:spPr>
          <a:xfrm flipH="1">
            <a:off x="2514600" y="243828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8"/>
          <p:cNvSpPr/>
          <p:nvPr/>
        </p:nvSpPr>
        <p:spPr>
          <a:xfrm flipH="1">
            <a:off x="2590560" y="327672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1"/>
          <p:cNvSpPr/>
          <p:nvPr/>
        </p:nvSpPr>
        <p:spPr>
          <a:xfrm>
            <a:off x="3886200" y="1828800"/>
            <a:ext cx="45720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2"/>
          <p:cNvSpPr/>
          <p:nvPr/>
        </p:nvSpPr>
        <p:spPr>
          <a:xfrm>
            <a:off x="609480" y="3886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пираючий 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3"/>
          <p:cNvSpPr/>
          <p:nvPr/>
        </p:nvSpPr>
        <p:spPr>
          <a:xfrm flipV="1">
            <a:off x="2819520" y="3124080"/>
            <a:ext cx="121896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457200" y="2362320"/>
            <a:ext cx="8153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Як виникає електричний струм у напівпровідни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Які домішки називаються донорн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Які домішки називають акцепторн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Як ви розумієте поняття однобічної провідності напівпровід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295280" y="914400"/>
            <a:ext cx="6705720" cy="398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Arial"/>
              </a:rPr>
              <a:t>Запитання для повтор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219320" y="106668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9900"/>
                </a:solidFill>
                <a:latin typeface="Arial"/>
              </a:rPr>
              <a:t>Актуалізація знань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33520" y="175248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Що називається електричним струм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. Які потрібні умови для існування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лектричного стру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. Які речовини називають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відн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. Які речовини називають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іелектр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ізні речовини мають різні електричні властивості, але по електричній провідності їх можна поділити на 3 основні груп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3200400" y="175248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Електричні властив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речо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144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ccffcc"/>
              </a:gs>
              <a:gs pos="100000">
                <a:srgbClr val="99ff99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Прові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34290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Напівпрові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59436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becd5"/>
              </a:gs>
              <a:gs pos="100000">
                <a:srgbClr val="ffcc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Діелект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2057400" y="3276720"/>
            <a:ext cx="4952880" cy="0"/>
          </a:xfrm>
          <a:prstGeom prst="line">
            <a:avLst/>
          </a:prstGeom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2057400" y="3276720"/>
            <a:ext cx="0" cy="609480"/>
          </a:xfrm>
          <a:prstGeom prst="line">
            <a:avLst/>
          </a:prstGeom>
          <a:ln w="38160">
            <a:solidFill>
              <a:srgbClr val="dbf5f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4648320" y="3276720"/>
            <a:ext cx="0" cy="609480"/>
          </a:xfrm>
          <a:prstGeom prst="line">
            <a:avLst/>
          </a:prstGeom>
          <a:ln w="38160">
            <a:solidFill>
              <a:srgbClr val="dbf5f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7010280" y="3276720"/>
            <a:ext cx="0" cy="609480"/>
          </a:xfrm>
          <a:prstGeom prst="line">
            <a:avLst/>
          </a:prstGeom>
          <a:ln w="38160">
            <a:solidFill>
              <a:srgbClr val="dbf5f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04920" y="4800600"/>
            <a:ext cx="266688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обре проводять електричний стр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 них відносяться метали, електроліти, плазма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йбільше використовуються провідники –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Au, Ag, Cu, Al, Fe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400800" y="4800600"/>
            <a:ext cx="243828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актично не проводять електричний стр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 них відносяться пластмаси, гума, скло, фарфор, сухе дерево, папір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352680" y="4800600"/>
            <a:ext cx="2514600" cy="1270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ймають по провідності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міжне положе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між провідниками і діелектр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Si, Ge, Se, In, 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304920" y="1143000"/>
            <a:ext cx="853416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685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емо провідність напівпровідників на основі кремнію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6"/>
          <p:cNvSpPr/>
          <p:nvPr/>
        </p:nvSpPr>
        <p:spPr>
          <a:xfrm>
            <a:off x="106668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396252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2514600" y="3048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106668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396252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 flipH="1" rot="2954400">
            <a:off x="1485000" y="2552760"/>
            <a:ext cx="1371600" cy="327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 flipH="1" rot="3127800">
            <a:off x="3085200" y="1181520"/>
            <a:ext cx="1371600" cy="327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 flipH="1" rot="18531600">
            <a:off x="3084840" y="2552760"/>
            <a:ext cx="1371600" cy="327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4"/>
          <p:cNvSpPr/>
          <p:nvPr/>
        </p:nvSpPr>
        <p:spPr>
          <a:xfrm flipH="1" rot="18531600">
            <a:off x="1409400" y="1180800"/>
            <a:ext cx="1371600" cy="327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5"/>
          <p:cNvSpPr/>
          <p:nvPr/>
        </p:nvSpPr>
        <p:spPr>
          <a:xfrm>
            <a:off x="1371600" y="51814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6"/>
          <p:cNvSpPr/>
          <p:nvPr/>
        </p:nvSpPr>
        <p:spPr>
          <a:xfrm>
            <a:off x="1447920" y="3733920"/>
            <a:ext cx="30456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1371600" y="15238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4479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39625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1"/>
          <p:cNvSpPr/>
          <p:nvPr/>
        </p:nvSpPr>
        <p:spPr>
          <a:xfrm>
            <a:off x="3124080" y="44956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2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3"/>
          <p:cNvSpPr/>
          <p:nvPr/>
        </p:nvSpPr>
        <p:spPr>
          <a:xfrm>
            <a:off x="3352680" y="2133720"/>
            <a:ext cx="30492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5562720" y="1295280"/>
            <a:ext cx="0" cy="4114800"/>
          </a:xfrm>
          <a:prstGeom prst="line">
            <a:avLst/>
          </a:prstGeom>
          <a:ln w="12600">
            <a:solidFill>
              <a:srgbClr val="dbf5f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5791320" y="1447920"/>
            <a:ext cx="297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емній –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 валентний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хімічний елемент. Кожен атом має на зовнішньому електронному шарі по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 електрон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які використовуються для утворенн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арноелектронних (ковалентних) зв’язк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 4 сусідніми ато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304920" y="5638680"/>
            <a:ext cx="853416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 звичайних умовах (невисоких температурах)  в напівпровідниках вільні заряджені частинки відсутні, тому напівпровідник не проводить електричний ст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316 0.07954 C -0.20851 0.0363 -0.16458 -0.06705 -0.08333 -0.15075 C -0.00278 -0.23352 0.08507 -0.26635 0.11094 -0.22266 C 0.13646 -0.18034 0.09132 -0.07653 0.01128 0.00648 C -0.07014 0.09018 -0.1566 0.12208 -0.19375 0.06544 E">
                                      <p:cBhvr>
                                        <p:cTn id="11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23 -0.07075 C 0.1915 -0.03029 0.14809 0.07006 0.0691 0.1526 C -0.00937 0.23445 -0.09392 0.26821 -0.11788 0.22751 C -0.14166 0.18751 -0.09687 0.08693 -0.01892 0.00485 C 0.06007 -0.07792 0.14341 -0.11098 0.16823 -0.07075 Z">
                                      <p:cBhvr>
                                        <p:cTn id="11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04920" y="1143000"/>
            <a:ext cx="853416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04920" y="685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емо зміни в напівпровіднику при збільшенні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754200" y="185436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3249720" y="185436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2000160" y="3048120"/>
            <a:ext cx="743040" cy="69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754200" y="410040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3249720" y="410040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1"/>
          <p:cNvSpPr/>
          <p:nvPr/>
        </p:nvSpPr>
        <p:spPr>
          <a:xfrm flipH="1" rot="3127800">
            <a:off x="2431080" y="1312200"/>
            <a:ext cx="130320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2"/>
          <p:cNvSpPr/>
          <p:nvPr/>
        </p:nvSpPr>
        <p:spPr>
          <a:xfrm flipH="1" rot="18531600">
            <a:off x="2430720" y="2616120"/>
            <a:ext cx="130356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3"/>
          <p:cNvSpPr/>
          <p:nvPr/>
        </p:nvSpPr>
        <p:spPr>
          <a:xfrm flipH="1" rot="18531600">
            <a:off x="987840" y="1312920"/>
            <a:ext cx="1303200" cy="28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6"/>
          <p:cNvSpPr/>
          <p:nvPr/>
        </p:nvSpPr>
        <p:spPr>
          <a:xfrm>
            <a:off x="1392120" y="167652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7"/>
          <p:cNvSpPr/>
          <p:nvPr/>
        </p:nvSpPr>
        <p:spPr>
          <a:xfrm>
            <a:off x="1081080" y="3087720"/>
            <a:ext cx="26496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8"/>
          <p:cNvSpPr/>
          <p:nvPr/>
        </p:nvSpPr>
        <p:spPr>
          <a:xfrm>
            <a:off x="3332160" y="3146400"/>
            <a:ext cx="2602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9"/>
          <p:cNvSpPr/>
          <p:nvPr/>
        </p:nvSpPr>
        <p:spPr>
          <a:xfrm>
            <a:off x="2527200" y="431784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0"/>
          <p:cNvSpPr/>
          <p:nvPr/>
        </p:nvSpPr>
        <p:spPr>
          <a:xfrm>
            <a:off x="3708360" y="373860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1"/>
          <p:cNvSpPr/>
          <p:nvPr/>
        </p:nvSpPr>
        <p:spPr>
          <a:xfrm>
            <a:off x="2652840" y="204480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2"/>
          <p:cNvSpPr/>
          <p:nvPr/>
        </p:nvSpPr>
        <p:spPr>
          <a:xfrm flipH="1" rot="2954400">
            <a:off x="1054080" y="2615760"/>
            <a:ext cx="130356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6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6172200" y="1905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вільний  елект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733920" y="3048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ді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9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0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1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228600" y="5392800"/>
            <a:ext cx="8534520" cy="119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 збільшенні температури енергія електронів збільшується і деякі із них покидають зв’язки, стають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вільними електрон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На їх місці залишаються некомпенсовані електричні заряди (віртуальні заряджені частинки), що називаються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дір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6400800" y="2895480"/>
            <a:ext cx="2514600" cy="1797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  дією електричного поля електрони і дірки починають упорядкований (зустрічний) рух, утворюючи електричний стр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101600" y="4892760"/>
            <a:ext cx="2620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907920" y="36068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6.87861E-006 C 0.01024 -0.01457 0.02413 -0.02313 0.03645 -0.034 C 0.04079 -0.03793 0.04357 -0.04255 0.04756 -0.04671 C 0.05399 -0.05319 0.06111 -0.05874 0.06822 -0.06359 C 0.07586 -0.08417 0.09062 -0.08694 0.10468 -0.09735 C 0.10954 -0.10105 0.11249 -0.1066 0.11736 -0.11006 C 0.12829 -0.11793 0.13888 -0.12602 0.15069 -0.13111 C 0.15729 -0.13989 0.16753 -0.1392 0.17621 -0.14382 C 0.20815 -0.1607 0.23541 -0.15654 0.27135 -0.15654 E">
                                      <p:cBhvr>
                                        <p:cTn id="130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03 0.00417 0.01546 0.01758 0.02691 0.02336 C 0.03455 0.03307 0.02622 0.02128 0.03178 0.03376 C 0.03403 0.03885 0.0382 0.0444 0.04132 0.04856 C 0.04393 0.05203 0.04653 0.05573 0.04914 0.05919 C 0.05139 0.06243 0.05869 0.06336 0.05869 0.06336 C 0.06459 0.07122 0.07448 0.07214 0.08247 0.07399 C 0.09358 0.07677 0.10487 0.07862 0.1158 0.08255 C 0.21858 0.07908 0.21511 0.0807 0.28091 0.06983 C 0.29601 0.05619 0.31059 0.04971 0.32865 0.0444 C 0.34341 0.03445 0.35973 0.02891 0.37466 0.01896 C 0.38855 0.00971 0.40191 -0.00138 0.4158 -0.01063 C 0.42761 -0.01872 0.44046 -0.02381 0.45244 -0.03167 C 0.4573 -0.03491 0.46059 -0.04046 0.46511 -0.04439 C 0.46615 -0.04716 0.4665 -0.05063 0.46823 -0.05294 C 0.47084 -0.05641 0.47778 -0.06127 0.47778 -0.06127 C 0.48073 -0.06913 0.48282 -0.07214 0.48733 -0.07815 E">
                                      <p:cBhvr>
                                        <p:cTn id="147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2451 C 0.01407 0.03006 0.01876 0.03468 0.02049 0.04139 C 0.02101 0.04347 0.02119 0.04578 0.02205 0.04763 C 0.02327 0.05018 0.02501 0.05249 0.02691 0.05411 C 0.03351 0.05989 0.04323 0.06335 0.0507 0.06659 C 0.05782 0.0696 0.05678 0.07006 0.06494 0.07723 C 0.06858 0.08046 0.07344 0.07954 0.07761 0.08139 C 0.08507 0.08809 0.09063 0.08902 0.09983 0.09203 C 0.10469 0.09364 0.10903 0.09781 0.11407 0.0985 C 0.12431 0.10012 0.13421 0.1022 0.14428 0.10474 C 0.16129 0.10335 0.1783 0.10289 0.19514 0.10058 C 0.21407 0.09804 0.22622 0.07746 0.24271 0.0689 C 0.24636 0.06127 0.25105 0.0585 0.25539 0.05179 C 0.25955 0.04532 0.26025 0.04231 0.26494 0.037 C 0.26632 0.03538 0.26823 0.03445 0.26962 0.03283 C 0.2724 0.0296 0.27761 0.0222 0.27761 0.0222 C 0.28212 0.00393 0.2757 0.02659 0.28247 0.01179 C 0.28785 -2.19652999999993E-006 0.279 0.00971 0.28872 0.00116 C 0.2908 -0.00717 0.29271 -0.01086 0.29827 -0.01572 C 0.30261 -0.02566 0.30626 -0.03607 0.31094 -0.04532 C 0.31685 -0.06913 0.32049 -0.09942 0.3316 -0.1193 C 0.33612 -0.1378 0.33768 -0.16323 0.3507 -0.17433 C 0.35712 -0.18705 0.36355 -0.18751 0.37136 -0.19745 C 0.3757 -0.20925 0.3724 -0.20532 0.38247 -0.21017 C 0.3856 -0.21179 0.39185 -0.21456 0.39185 -0.21456 E">
                                      <p:cBhvr>
                                        <p:cTn id="155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04920" y="457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им чином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електричний струм в напівпровідника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являє собою упорядкований рух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вільних електрон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 позитивних частинок -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ді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04920" y="1600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збільшенні температур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росте число вільних носіїв заряду,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провідність напівпровідників росте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опір зменшу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1295280" y="2437920"/>
            <a:ext cx="0" cy="3048120"/>
          </a:xfrm>
          <a:prstGeom prst="line">
            <a:avLst/>
          </a:prstGeom>
          <a:ln w="1908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1066680" y="5334120"/>
            <a:ext cx="4876920" cy="0"/>
          </a:xfrm>
          <a:prstGeom prst="line">
            <a:avLst/>
          </a:prstGeom>
          <a:ln w="1908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80880" y="2362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R (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541008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t (</a:t>
            </a:r>
            <a:r>
              <a:rPr b="1" lang="uk-UA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 flipV="1">
            <a:off x="1295280" y="3733560"/>
            <a:ext cx="38102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914400" y="47242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uk-UA" sz="1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4"/>
          <p:cNvSpPr/>
          <p:nvPr/>
        </p:nvSpPr>
        <p:spPr>
          <a:xfrm>
            <a:off x="1600200" y="2666880"/>
            <a:ext cx="2209680" cy="2286000"/>
          </a:xfrm>
          <a:prstGeom prst="pie">
            <a:avLst/>
          </a:prstGeom>
          <a:noFill/>
          <a:ln w="38160">
            <a:solidFill>
              <a:srgbClr val="e2d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518148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ме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886200" y="4724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напівпрові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7"/>
          <p:cNvSpPr/>
          <p:nvPr/>
        </p:nvSpPr>
        <p:spPr>
          <a:xfrm>
            <a:off x="380880" y="5791320"/>
            <a:ext cx="853452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30492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ласна провідність напівпровідників явно недостатня для технічного застосування напівпровідни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2280" y="114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ому для збільшення провідності в чисті напівпровідники вносять домішки (легують), які бувають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донорн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акцептор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152280" y="1981080"/>
            <a:ext cx="853452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5486400" y="2133720"/>
            <a:ext cx="289548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Донорні домі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68904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318456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1935000" y="3505320"/>
            <a:ext cx="65592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68904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318456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3"/>
          <p:cNvSpPr/>
          <p:nvPr/>
        </p:nvSpPr>
        <p:spPr>
          <a:xfrm flipH="1" rot="3127800">
            <a:off x="2366280" y="1745640"/>
            <a:ext cx="130320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4"/>
          <p:cNvSpPr/>
          <p:nvPr/>
        </p:nvSpPr>
        <p:spPr>
          <a:xfrm flipH="1" rot="18531600">
            <a:off x="2365920" y="3049560"/>
            <a:ext cx="130356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5"/>
          <p:cNvSpPr/>
          <p:nvPr/>
        </p:nvSpPr>
        <p:spPr>
          <a:xfrm flipH="1" rot="18531600">
            <a:off x="922680" y="1746360"/>
            <a:ext cx="1303200" cy="28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132732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101592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3267000" y="3579840"/>
            <a:ext cx="2602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1"/>
          <p:cNvSpPr/>
          <p:nvPr/>
        </p:nvSpPr>
        <p:spPr>
          <a:xfrm>
            <a:off x="2462040" y="475128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2"/>
          <p:cNvSpPr/>
          <p:nvPr/>
        </p:nvSpPr>
        <p:spPr>
          <a:xfrm>
            <a:off x="3643200" y="417204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258768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4"/>
          <p:cNvSpPr/>
          <p:nvPr/>
        </p:nvSpPr>
        <p:spPr>
          <a:xfrm flipH="1" rot="2954400">
            <a:off x="988920" y="3049200"/>
            <a:ext cx="130356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8"/>
          <p:cNvSpPr/>
          <p:nvPr/>
        </p:nvSpPr>
        <p:spPr>
          <a:xfrm>
            <a:off x="4449600" y="307008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4800600" y="2209680"/>
            <a:ext cx="0" cy="3429000"/>
          </a:xfrm>
          <a:prstGeom prst="line">
            <a:avLst/>
          </a:prstGeom>
          <a:ln w="12600">
            <a:solidFill>
              <a:srgbClr val="dbf5f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4952880" y="2666880"/>
            <a:ext cx="40388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 додаванні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 – валентного кремнію Si  5 – валентним миш’яком A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один із 5 електронів миш’яку стає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ль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им чином змінюючи концентрацію миш’яку, можна в широких межах змінювати провідність кремн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304920" y="5791320"/>
            <a:ext cx="853416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ий напівпровідник називається напівпровідником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n-тип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основними носіям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аряду являються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електрон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а домішка миш’яку, що дає вільні електрони, називається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донор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84312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6"/>
          <p:cNvSpPr/>
          <p:nvPr/>
        </p:nvSpPr>
        <p:spPr>
          <a:xfrm>
            <a:off x="103680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048120" y="457200"/>
            <a:ext cx="289548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Акцепторні домі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04920" y="990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до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емні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додати трьохвалентний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дій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то для утворення зв’язків з кремнієм у індію не вистачає одного електрона, тобто утворюєтьс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і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6"/>
          <p:cNvSpPr/>
          <p:nvPr/>
        </p:nvSpPr>
        <p:spPr>
          <a:xfrm>
            <a:off x="65880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7"/>
          <p:cNvSpPr/>
          <p:nvPr/>
        </p:nvSpPr>
        <p:spPr>
          <a:xfrm>
            <a:off x="315432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8"/>
          <p:cNvSpPr/>
          <p:nvPr/>
        </p:nvSpPr>
        <p:spPr>
          <a:xfrm>
            <a:off x="1905120" y="3505320"/>
            <a:ext cx="65556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65880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15432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 flipH="1" rot="3127800">
            <a:off x="2336040" y="1745640"/>
            <a:ext cx="130320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2"/>
          <p:cNvSpPr/>
          <p:nvPr/>
        </p:nvSpPr>
        <p:spPr>
          <a:xfrm flipH="1" rot="18531600">
            <a:off x="2335680" y="3049560"/>
            <a:ext cx="130356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"/>
          <p:cNvSpPr/>
          <p:nvPr/>
        </p:nvSpPr>
        <p:spPr>
          <a:xfrm flipH="1" rot="18531600">
            <a:off x="892440" y="1746360"/>
            <a:ext cx="1303200" cy="28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6"/>
          <p:cNvSpPr/>
          <p:nvPr/>
        </p:nvSpPr>
        <p:spPr>
          <a:xfrm>
            <a:off x="129708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7"/>
          <p:cNvSpPr/>
          <p:nvPr/>
        </p:nvSpPr>
        <p:spPr>
          <a:xfrm>
            <a:off x="98568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8"/>
          <p:cNvSpPr/>
          <p:nvPr/>
        </p:nvSpPr>
        <p:spPr>
          <a:xfrm>
            <a:off x="3236760" y="3579840"/>
            <a:ext cx="26064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9"/>
          <p:cNvSpPr/>
          <p:nvPr/>
        </p:nvSpPr>
        <p:spPr>
          <a:xfrm>
            <a:off x="2432160" y="4751280"/>
            <a:ext cx="2617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1"/>
          <p:cNvSpPr/>
          <p:nvPr/>
        </p:nvSpPr>
        <p:spPr>
          <a:xfrm>
            <a:off x="255744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2"/>
          <p:cNvSpPr/>
          <p:nvPr/>
        </p:nvSpPr>
        <p:spPr>
          <a:xfrm flipH="1" rot="2954400">
            <a:off x="958680" y="3049200"/>
            <a:ext cx="130356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4"/>
          <p:cNvSpPr/>
          <p:nvPr/>
        </p:nvSpPr>
        <p:spPr>
          <a:xfrm>
            <a:off x="3505320" y="40384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5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12600">
            <a:solidFill>
              <a:srgbClr val="dbf5f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4724280" y="32004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інюючи концентрацію індію, можна в широких межах змінювати провідність кремнію, створюючи напівпровідник із заданими електричними властив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228600" y="5715000"/>
            <a:ext cx="853452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ий напівпровідник називається напівпровідником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p-тип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основними носіям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аряду являються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дірк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а домішка індію, що дає дірки, називається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акцептор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8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"/>
          <p:cNvSpPr/>
          <p:nvPr/>
        </p:nvSpPr>
        <p:spPr>
          <a:xfrm>
            <a:off x="100656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"/>
          <p:cNvSpPr/>
          <p:nvPr/>
        </p:nvSpPr>
        <p:spPr>
          <a:xfrm>
            <a:off x="81288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" y="609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так, існує 2 типи напівпровідників, що мають велике практичне застосув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152280" y="1523880"/>
            <a:ext cx="853452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4343400" y="2057400"/>
            <a:ext cx="0" cy="2133720"/>
          </a:xfrm>
          <a:prstGeom prst="line">
            <a:avLst/>
          </a:prstGeom>
          <a:ln w="12600">
            <a:solidFill>
              <a:srgbClr val="dbf5f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523880" y="2133720"/>
            <a:ext cx="1447920" cy="398880"/>
          </a:xfrm>
          <a:prstGeom prst="rect">
            <a:avLst/>
          </a:prstGeom>
          <a:solidFill>
            <a:srgbClr val="fbecd5"/>
          </a:soli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р-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5867280" y="2133720"/>
            <a:ext cx="14479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n-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04920" y="2819520"/>
            <a:ext cx="3809880" cy="368280"/>
          </a:xfrm>
          <a:prstGeom prst="rect">
            <a:avLst/>
          </a:prstGeom>
          <a:solidFill>
            <a:srgbClr val="fbe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новні носії заряду - 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ді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4648320" y="2819520"/>
            <a:ext cx="3809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новні носії заряду -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електр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0"/>
          <p:cNvSpPr/>
          <p:nvPr/>
        </p:nvSpPr>
        <p:spPr>
          <a:xfrm>
            <a:off x="685800" y="2133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5105520" y="2133720"/>
            <a:ext cx="380880" cy="38880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304920" y="4267080"/>
            <a:ext cx="8534160" cy="0"/>
          </a:xfrm>
          <a:prstGeom prst="line">
            <a:avLst/>
          </a:prstGeom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30492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ім основних носіїв в напівпровіднику існує дуже мала кількість неосновних носіїв заряду (в напівпровіднику p-типу це електрони, а в напівпровіднику n-типу це дірки), кількість яких росте при збільшенні темпера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1066680" y="5715000"/>
            <a:ext cx="7543800" cy="36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8-11-06T19:09:3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