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8.gif" ContentType="image/gif"/>
  <Override PartName="/ppt/media/image27.png" ContentType="image/png"/>
  <Override PartName="/ppt/media/image30.wmf" ContentType="image/x-wmf"/>
  <Override PartName="/ppt/media/image25.jpeg" ContentType="image/jpeg"/>
  <Override PartName="/ppt/media/image26.jpeg" ContentType="image/jpeg"/>
  <Override PartName="/ppt/media/image12.gif" ContentType="image/gif"/>
  <Override PartName="/ppt/media/image24.jpeg" ContentType="image/jpeg"/>
  <Override PartName="/ppt/media/image18.jpeg" ContentType="image/jpeg"/>
  <Override PartName="/ppt/media/image13.gif" ContentType="image/gif"/>
  <Override PartName="/ppt/media/image8.gif" ContentType="image/gif"/>
  <Override PartName="/ppt/media/image4.wmf" ContentType="image/x-wmf"/>
  <Override PartName="/ppt/media/image7.gif" ContentType="image/gif"/>
  <Override PartName="/ppt/media/image33.wmf" ContentType="image/x-wmf"/>
  <Override PartName="/ppt/media/image5.png" ContentType="image/png"/>
  <Override PartName="/ppt/media/image10.jpeg" ContentType="image/jpeg"/>
  <Override PartName="/ppt/media/image31.wmf" ContentType="image/x-wmf"/>
  <Override PartName="/ppt/media/image6.wmf" ContentType="image/x-wmf"/>
  <Override PartName="/ppt/media/image2.gif" ContentType="image/gif"/>
  <Override PartName="/ppt/media/image19.jpeg" ContentType="image/jpeg"/>
  <Override PartName="/ppt/media/image34.jpeg" ContentType="image/jpeg"/>
  <Override PartName="/ppt/media/image20.png" ContentType="image/png"/>
  <Override PartName="/ppt/media/image11.png" ContentType="image/png"/>
  <Override PartName="/ppt/media/image9.jpeg" ContentType="image/jpeg"/>
  <Override PartName="/ppt/media/image3.gif" ContentType="image/gif"/>
  <Override PartName="/ppt/media/image1.png" ContentType="image/png"/>
  <Override PartName="/ppt/media/image14.gif" ContentType="image/gif"/>
  <Override PartName="/ppt/media/image15.wmf" ContentType="image/x-wmf"/>
  <Override PartName="/ppt/media/image22.jpeg" ContentType="image/jpeg"/>
  <Override PartName="/ppt/media/image16.gif" ContentType="image/gif"/>
  <Override PartName="/ppt/media/image17.gif" ContentType="image/gif"/>
  <Override PartName="/ppt/media/image21.jpeg" ContentType="image/jpeg"/>
  <Override PartName="/ppt/media/image32.wmf" ContentType="image/x-wmf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B160-7AC5-49F4-9235-EEBB4D6D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D0FE-7807-402E-A527-AC717175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D655-E751-4A1C-BAD6-60EA7E6E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8B6-5F84-481C-BF41-C4AE4CED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1C1C-BF8F-4296-BC8C-39AFC346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6E8-C768-4921-955B-F0076B85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733A-E462-4504-84A0-4638234D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8D3-0042-4DF1-9BCB-884FD16D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3410-7C66-438D-9AFC-3C99BFD9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C26D-FEA3-425E-A0B9-24EC9EA1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8841-0786-44B2-881A-48EB3811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7D43-9429-43BC-8CAB-0DD3A717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cc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CB3215-B83A-4C7A-A150-CF68CA10959F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-подорож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2"/>
          <p:cNvSpPr txBox="1"/>
          <p:nvPr/>
        </p:nvSpPr>
        <p:spPr>
          <a:xfrm>
            <a:off x="1332000" y="1557360"/>
            <a:ext cx="6480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ибери свій шлях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4788000" y="2752560"/>
            <a:ext cx="4105080" cy="4105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0720" cy="180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-252360" y="5589720"/>
            <a:ext cx="540072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Конкурс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«Відгадай професію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457200" y="1295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ша професі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є прізвище «Професія» , рік народження невідомий. Я постійно в спілкуванні й від мене чекають допомоги. Відгадай моє ім’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9" descr="C:\Program Files\Common Files\Microsoft Shared\Clipart\cagcat50\PE02097_.wmf"/>
          <p:cNvPicPr/>
          <p:nvPr/>
        </p:nvPicPr>
        <p:blipFill>
          <a:blip r:embed="rId1"/>
          <a:stretch/>
        </p:blipFill>
        <p:spPr>
          <a:xfrm>
            <a:off x="5497560" y="1268280"/>
            <a:ext cx="2876400" cy="23050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>
            <a:off x="179280" y="27464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–га професі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трібна вам. Живу й у місті, і в селі. Люблю, щоб під час роботи мені не заважали. Хто я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324000" y="49417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-тя професі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к моєї професії – стародавній. Я відповідальна і важлива для суспільства. До цих пір до людей моєї професії звертаються з пошаною і вдячністю. Як мене зват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4427640" y="39196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2206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- та професія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2206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мене залежить робота цілого колективу. Не завжди люди знають мене в обличчя, бо бачать лише мою спину. Хто ж я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uk-UA" sz="4400" spc="-1" strike="noStrike" u="sng">
                <a:solidFill>
                  <a:srgbClr val="000000"/>
                </a:solidFill>
                <a:uFillTx/>
                <a:latin typeface="Arial"/>
              </a:rPr>
              <a:t>Підбиття підсумк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648320" y="1125360"/>
            <a:ext cx="40384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4000" y="1903320"/>
          <a:ext cx="8362800" cy="3613320"/>
        </p:xfrm>
        <a:graphic>
          <a:graphicData uri="http://schemas.openxmlformats.org/drawingml/2006/table">
            <a:tbl>
              <a:tblPr/>
              <a:tblGrid>
                <a:gridCol w="1393560"/>
                <a:gridCol w="1393920"/>
                <a:gridCol w="1395360"/>
                <a:gridCol w="1393920"/>
                <a:gridCol w="1392120"/>
                <a:gridCol w="1393920"/>
              </a:tblGrid>
              <a:tr h="90324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0640" y="-360"/>
            <a:ext cx="79200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Тестування «Мій вибір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"/>
          <p:cNvPicPr/>
          <p:nvPr/>
        </p:nvPicPr>
        <p:blipFill>
          <a:blip r:embed="rId1"/>
          <a:stretch/>
        </p:blipFill>
        <p:spPr>
          <a:xfrm>
            <a:off x="1168560" y="1052640"/>
            <a:ext cx="759744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647640" y="836640"/>
            <a:ext cx="44956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Тестування «Мій вибі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Объект 3"/>
          <p:cNvGraphicFramePr/>
          <p:nvPr/>
        </p:nvGraphicFramePr>
        <p:xfrm>
          <a:off x="1042920" y="1311120"/>
          <a:ext cx="72867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311120"/>
                    <a:ext cx="72867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люч до відповіде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Объект 3"/>
          <p:cNvGraphicFramePr/>
          <p:nvPr/>
        </p:nvGraphicFramePr>
        <p:xfrm>
          <a:off x="611280" y="1593720"/>
          <a:ext cx="799308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93720"/>
                    <a:ext cx="799308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60836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WordArt 2"/>
          <p:cNvSpPr txBox="1"/>
          <p:nvPr/>
        </p:nvSpPr>
        <p:spPr>
          <a:xfrm rot="2280000">
            <a:off x="2236680" y="2246040"/>
            <a:ext cx="70675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Щасливої дороги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1773360"/>
            <a:ext cx="8227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ймайся тим, що тобі подобається, - і ти вільний.</a:t>
            </a:r>
            <a:br>
              <a:rPr sz="5400"/>
            </a:b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 те, що робиш – і ти щасливий.»</a:t>
            </a:r>
            <a:br>
              <a:rPr sz="5400"/>
            </a:b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Гріндер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1"/>
          <p:cNvSpPr/>
          <p:nvPr/>
        </p:nvSpPr>
        <p:spPr>
          <a:xfrm>
            <a:off x="900000" y="5661000"/>
            <a:ext cx="1440000" cy="1081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пра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кринь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Oval 2"/>
          <p:cNvSpPr/>
          <p:nvPr/>
        </p:nvSpPr>
        <p:spPr>
          <a:xfrm>
            <a:off x="2627280" y="4722840"/>
            <a:ext cx="1513080" cy="12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упи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анжуван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есі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al 3"/>
          <p:cNvSpPr/>
          <p:nvPr/>
        </p:nvSpPr>
        <p:spPr>
          <a:xfrm>
            <a:off x="4284720" y="5553000"/>
            <a:ext cx="165564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. Зупи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«Принцип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бо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фесії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2487600" y="2073240"/>
            <a:ext cx="1589040" cy="120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. Зупи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«Класифікаці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фесі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4788000" y="3695760"/>
            <a:ext cx="1654200" cy="1195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нкур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«Малюно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435640" y="2646360"/>
            <a:ext cx="1441440" cy="1058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нкур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«Назв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фесію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5940360" y="1112760"/>
            <a:ext cx="1368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нкур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«Відгад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фесію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380360" y="189000"/>
            <a:ext cx="1763640" cy="1562040"/>
          </a:xfrm>
          <a:custGeom>
            <a:avLst/>
            <a:gdLst>
              <a:gd name="textAreaLeft" fmla="*/ 402480 w 1763640"/>
              <a:gd name="textAreaRight" fmla="*/ 1361160 w 1763640"/>
              <a:gd name="textAreaTop" fmla="*/ 356400 h 1562040"/>
              <a:gd name="textAreaBottom" fmla="*/ 1205640 h 1562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ініш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V="1">
            <a:off x="1979640" y="5659560"/>
            <a:ext cx="79200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3492360" y="558972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V="1">
            <a:off x="4932360" y="4722480"/>
            <a:ext cx="287280" cy="101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 flipH="1" flipV="1">
            <a:off x="3993840" y="2922120"/>
            <a:ext cx="795240" cy="12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>
            <a:off x="3995640" y="2565360"/>
            <a:ext cx="1513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 flipV="1">
            <a:off x="6156360" y="2203560"/>
            <a:ext cx="576360" cy="43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>
            <a:off x="7308720" y="1628640"/>
            <a:ext cx="576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684360" y="3284640"/>
            <a:ext cx="50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бери свій шл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7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1746360" cy="18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"/>
          <p:cNvPicPr/>
          <p:nvPr/>
        </p:nvPicPr>
        <p:blipFill>
          <a:blip r:embed="rId2"/>
          <a:stretch/>
        </p:blipFill>
        <p:spPr>
          <a:xfrm>
            <a:off x="7380360" y="3645000"/>
            <a:ext cx="154764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cc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права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«Скринь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2240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ння для обговор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2240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2240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Чому ви обрали цю скринь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2240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ого вам не вистачало, щоб прийняти рішен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2240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Що ви відчули, коли відкрили скринь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2240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7410600" y="4627440"/>
            <a:ext cx="1655640" cy="1827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7297560" y="404640"/>
            <a:ext cx="1382760" cy="13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упинка №1. «Ранжуванн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офесі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 ГРУПА: Престижні профес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2 ГРУПА: Сучасні профес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 ГРУПА: Професії, які завжди потріб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900000" y="4797360"/>
            <a:ext cx="2376720" cy="1341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5187960" y="4149720"/>
            <a:ext cx="3498840" cy="2333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633240" y="4056120"/>
            <a:ext cx="2910240" cy="25192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7"/>
          <p:cNvSpPr/>
          <p:nvPr/>
        </p:nvSpPr>
        <p:spPr>
          <a:xfrm>
            <a:off x="-3168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Рисунок 2" descr=""/>
          <p:cNvPicPr/>
          <p:nvPr/>
        </p:nvPicPr>
        <p:blipFill>
          <a:blip r:embed="rId4"/>
          <a:stretch/>
        </p:blipFill>
        <p:spPr>
          <a:xfrm>
            <a:off x="6296040" y="1587600"/>
            <a:ext cx="2847960" cy="16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упинка №2.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«Принципи вибору професії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55640" y="1419120"/>
            <a:ext cx="1584360" cy="1727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3780000" y="4869000"/>
            <a:ext cx="1728720" cy="1726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6943680" y="1311120"/>
            <a:ext cx="1944720" cy="19432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" descr=""/>
          <p:cNvPicPr/>
          <p:nvPr/>
        </p:nvPicPr>
        <p:blipFill>
          <a:blip r:embed="rId4"/>
          <a:stretch/>
        </p:blipFill>
        <p:spPr>
          <a:xfrm>
            <a:off x="1209600" y="2341440"/>
            <a:ext cx="7291440" cy="22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66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курс «Малюнок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чні отримують малюнки із зображенням людей та умов їхньої праці.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Завдання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відгадати, хто вони за професіє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250920" y="0"/>
            <a:ext cx="1604880" cy="1569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7885080" y="189000"/>
            <a:ext cx="1150920" cy="11523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" descr=""/>
          <p:cNvPicPr/>
          <p:nvPr/>
        </p:nvPicPr>
        <p:blipFill>
          <a:blip r:embed="rId3"/>
          <a:stretch/>
        </p:blipFill>
        <p:spPr>
          <a:xfrm>
            <a:off x="90360" y="2517840"/>
            <a:ext cx="2163960" cy="1422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4"/>
          <a:stretch/>
        </p:blipFill>
        <p:spPr>
          <a:xfrm>
            <a:off x="250920" y="3789360"/>
            <a:ext cx="1949400" cy="16714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"/>
          <p:cNvPicPr/>
          <p:nvPr/>
        </p:nvPicPr>
        <p:blipFill>
          <a:blip r:embed="rId5"/>
          <a:stretch/>
        </p:blipFill>
        <p:spPr>
          <a:xfrm>
            <a:off x="2365200" y="2413080"/>
            <a:ext cx="2335320" cy="1663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6"/>
          <a:stretch/>
        </p:blipFill>
        <p:spPr>
          <a:xfrm>
            <a:off x="2843280" y="3819600"/>
            <a:ext cx="2235240" cy="1752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7"/>
          <a:stretch/>
        </p:blipFill>
        <p:spPr>
          <a:xfrm>
            <a:off x="5372280" y="2413080"/>
            <a:ext cx="2118960" cy="2151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8"/>
          <a:stretch/>
        </p:blipFill>
        <p:spPr>
          <a:xfrm>
            <a:off x="5846760" y="3789360"/>
            <a:ext cx="2397240" cy="1832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9"/>
          <a:stretch/>
        </p:blipFill>
        <p:spPr>
          <a:xfrm>
            <a:off x="1384200" y="5049720"/>
            <a:ext cx="2035440" cy="17161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"/>
          <p:cNvPicPr/>
          <p:nvPr/>
        </p:nvPicPr>
        <p:blipFill>
          <a:blip r:embed="rId10"/>
          <a:stretch/>
        </p:blipFill>
        <p:spPr>
          <a:xfrm>
            <a:off x="3892680" y="5092560"/>
            <a:ext cx="2390760" cy="154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"/>
          <p:cNvPicPr/>
          <p:nvPr/>
        </p:nvPicPr>
        <p:blipFill>
          <a:blip r:embed="rId11"/>
          <a:stretch/>
        </p:blipFill>
        <p:spPr>
          <a:xfrm>
            <a:off x="6757920" y="5124600"/>
            <a:ext cx="2111400" cy="158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cc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упинка №3.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«Класифікація профес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1"/>
          <a:stretch/>
        </p:blipFill>
        <p:spPr>
          <a:xfrm>
            <a:off x="250920" y="492120"/>
            <a:ext cx="1366920" cy="1225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108000" y="544212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7740720" y="5446800"/>
            <a:ext cx="114624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826920" y="1916280"/>
          <a:ext cx="7705800" cy="3774960"/>
        </p:xfrm>
        <a:graphic>
          <a:graphicData uri="http://schemas.openxmlformats.org/drawingml/2006/table">
            <a:tbl>
              <a:tblPr/>
              <a:tblGrid>
                <a:gridCol w="1541520"/>
                <a:gridCol w="1540080"/>
                <a:gridCol w="1541520"/>
                <a:gridCol w="1541160"/>
                <a:gridCol w="1541520"/>
              </a:tblGrid>
              <a:tr h="70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дина-прир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дина-техні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дина-зна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дина-художній обра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дина-люди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06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 праці – рослини, тварини, мікроорганізми (агроном, тракторист, виноградар, птахівник, зоотехнік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 праці – технічні системи, речові об’єкти, матеріали, види енергії ( токар, слюсар, сталевар, електромонтажник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 праці – умовні позначки, цифри, коди (редактор, бухгалтер, програміст, телеграфіст, кресляр, топограф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 праці – побудова художнього образу (художник, артист, актор, композитор, скульптор, конструктор-модельєр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 праці – люди, групи людей, колектив (учитель, лікар, продавець, телефоніст міжміського зв’язку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онкурс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«Назви професі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1 хв на запропоновані букви написати найбільше профес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7200" spc="-1" strike="noStrike">
                <a:solidFill>
                  <a:srgbClr val="000000"/>
                </a:solidFill>
                <a:latin typeface="Arial"/>
              </a:rPr>
              <a:t>АК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1656000" cy="1827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6659640" y="4199040"/>
            <a:ext cx="1728720" cy="1726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1:27:27Z</dcterms:created>
  <dc:creator>макс</dc:creator>
  <dc:description/>
  <dc:language>en-US</dc:language>
  <cp:lastModifiedBy>макс</cp:lastModifiedBy>
  <dcterms:modified xsi:type="dcterms:W3CDTF">2017-03-28T14:01:39Z</dcterms:modified>
  <cp:revision>17</cp:revision>
  <dc:subject/>
  <dc:title>Игра — путешествие.</dc:title>
</cp:coreProperties>
</file>