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FFE0-4614-425E-9089-14ACB53E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538B-6AAA-47BE-AA97-446318E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5147-C7A3-4C75-BB3D-2AFA7893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8E45-F3DE-4DF8-89F3-54CCC169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AFE-11FC-4599-BC80-541FCC2B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043-228F-47D7-A69F-22DAADB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7AC-1B0A-4CCD-B9C0-3AECE455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1B18-4F48-4402-9A92-BD716FCB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78E8-8D55-4427-948A-3D19FD0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5F62-8253-4E7F-B3BE-C1E78E5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E98-1E0F-452E-B0C3-5C257225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6B72-5DA8-4E9F-817A-1557DB05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6BFD-114A-44FC-96EA-1D446E5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F664-681F-4FB4-93AF-DE8EDD5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6399-1F9F-476A-9EEE-137DF13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FE17-DF1C-4CA3-97BA-8FBB42A0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AC8-DE16-4015-9111-C7C89B1F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64E9-1F12-4320-B68F-FC7D2E6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5705-2553-4598-AA0C-E8DA6D6B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9F61-E05C-4EA9-B692-3E33E85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ED88-9932-44BB-9947-3E70B3C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F66A-2EBB-4BDF-8C15-6450036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E563-E863-4A7F-80A5-779301D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3A7D-BB5C-4530-BAE6-EC76F4C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BD7B-1053-41B5-B26F-A8F451CA78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7282-9BC8-4B3E-A817-154894C6C0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lanetconvergence.co.uk/portal/newspaper-front-pages-the-su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28400"/>
            <a:ext cx="77868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ress in Great Brita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15640" y="6500880"/>
            <a:ext cx="5830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9be0355c-60b1-4ac3-bd5c-947f8434832f"/>
          <p:cNvPicPr/>
          <p:nvPr/>
        </p:nvPicPr>
        <p:blipFill>
          <a:blip r:embed="rId1"/>
          <a:stretch/>
        </p:blipFill>
        <p:spPr>
          <a:xfrm>
            <a:off x="1500120" y="1725480"/>
            <a:ext cx="67820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0102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itish newspapers are divided into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58920" y="6340320"/>
            <a:ext cx="6649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85840" y="235728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alit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erious)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s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r press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abloids)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14200"/>
            <a:ext cx="70106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</a:t>
            </a: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Quality Papers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4200" y="5071680"/>
            <a:ext cx="8715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papers are large and has many detailed articles about national and international ev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3" descr="telegraph460.jpg"/>
          <p:cNvPicPr/>
          <p:nvPr/>
        </p:nvPicPr>
        <p:blipFill>
          <a:blip r:embed="rId1"/>
          <a:stretch/>
        </p:blipFill>
        <p:spPr>
          <a:xfrm>
            <a:off x="5929200" y="1428840"/>
            <a:ext cx="297828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0" descr="news_times-150208.jpg"/>
          <p:cNvPicPr/>
          <p:nvPr/>
        </p:nvPicPr>
        <p:blipFill>
          <a:blip r:embed="rId2"/>
          <a:stretch/>
        </p:blipFill>
        <p:spPr>
          <a:xfrm>
            <a:off x="2500200" y="1714680"/>
            <a:ext cx="3665520" cy="27860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7304.jpg"/>
          <p:cNvPicPr/>
          <p:nvPr/>
        </p:nvPicPr>
        <p:blipFill>
          <a:blip r:embed="rId3"/>
          <a:stretch/>
        </p:blipFill>
        <p:spPr>
          <a:xfrm>
            <a:off x="285840" y="2857680"/>
            <a:ext cx="3327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214200"/>
            <a:ext cx="599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bloid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480" y="5143680"/>
            <a:ext cx="84294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oids are smaller in size, have more pictures and shorter articles, often about less important events or about the private lives of well-known peo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5" descr="250px-DailyMirror.jpg"/>
          <p:cNvPicPr/>
          <p:nvPr/>
        </p:nvPicPr>
        <p:blipFill>
          <a:blip r:embed="rId1"/>
          <a:stretch/>
        </p:blipFill>
        <p:spPr>
          <a:xfrm>
            <a:off x="285840" y="1643040"/>
            <a:ext cx="2786040" cy="3554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daily-diana-express.png"/>
          <p:cNvPicPr/>
          <p:nvPr/>
        </p:nvPicPr>
        <p:blipFill>
          <a:blip r:embed="rId2"/>
          <a:stretch/>
        </p:blipFill>
        <p:spPr>
          <a:xfrm>
            <a:off x="3286080" y="1357200"/>
            <a:ext cx="2847960" cy="3597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6a00d8341d417153ef0134879941d0970c-400wi.png"/>
          <p:cNvPicPr/>
          <p:nvPr/>
        </p:nvPicPr>
        <p:blipFill>
          <a:blip r:embed="rId3"/>
          <a:stretch/>
        </p:blipFill>
        <p:spPr>
          <a:xfrm>
            <a:off x="6286680" y="928800"/>
            <a:ext cx="2643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571760"/>
            <a:ext cx="47862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iggest-selling British tabloid newspape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review-image" descr="http://planetconvergence.co.uk/portal/newspaper-front-pages-the-sun-5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1500120"/>
            <a:ext cx="35082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-87840"/>
            <a:ext cx="7010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reating a newspap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6428880"/>
            <a:ext cx="7499520" cy="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i?id=142015643-65-72&amp;n=21"/>
          <p:cNvPicPr/>
          <p:nvPr/>
        </p:nvPicPr>
        <p:blipFill>
          <a:blip r:embed="rId1"/>
          <a:stretch/>
        </p:blipFill>
        <p:spPr>
          <a:xfrm rot="20979000">
            <a:off x="158400" y="3715920"/>
            <a:ext cx="2592360" cy="2005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i?id=173265796-06-72&amp;n=21"/>
          <p:cNvPicPr/>
          <p:nvPr/>
        </p:nvPicPr>
        <p:blipFill>
          <a:blip r:embed="rId2"/>
          <a:stretch/>
        </p:blipFill>
        <p:spPr>
          <a:xfrm rot="21393600">
            <a:off x="63360" y="1004760"/>
            <a:ext cx="2592360" cy="2219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?id=114105514-46-72&amp;n=21"/>
          <p:cNvPicPr/>
          <p:nvPr/>
        </p:nvPicPr>
        <p:blipFill>
          <a:blip r:embed="rId3"/>
          <a:stretch/>
        </p:blipFill>
        <p:spPr>
          <a:xfrm rot="236400">
            <a:off x="6005160" y="1165320"/>
            <a:ext cx="2808360" cy="230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?id=264492174-24-72&amp;n=21"/>
          <p:cNvPicPr/>
          <p:nvPr/>
        </p:nvPicPr>
        <p:blipFill>
          <a:blip r:embed="rId4"/>
          <a:stretch/>
        </p:blipFill>
        <p:spPr>
          <a:xfrm>
            <a:off x="3000240" y="407196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?id=429561048-48-72&amp;n=21"/>
          <p:cNvPicPr/>
          <p:nvPr/>
        </p:nvPicPr>
        <p:blipFill>
          <a:blip r:embed="rId5"/>
          <a:stretch/>
        </p:blipFill>
        <p:spPr>
          <a:xfrm>
            <a:off x="2857680" y="128592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i?id=523576865-56-72&amp;n=21"/>
          <p:cNvPicPr/>
          <p:nvPr/>
        </p:nvPicPr>
        <p:blipFill>
          <a:blip r:embed="rId6"/>
          <a:stretch/>
        </p:blipFill>
        <p:spPr>
          <a:xfrm rot="21138600">
            <a:off x="6289560" y="3675240"/>
            <a:ext cx="2737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4786200" cy="42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newspapers are published on every day of the week except Sunday.  </a:t>
            </a:r>
            <a:br>
              <a:rPr sz="60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815080" y="2143080"/>
          <a:ext cx="3114720" cy="3200400"/>
        </p:xfrm>
        <a:graphic>
          <a:graphicData uri="http://schemas.openxmlformats.org/drawingml/2006/table">
            <a:tbl>
              <a:tblPr/>
              <a:tblGrid>
                <a:gridCol w="3114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Daily Exp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Daily Ma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Daily St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The Daily Telegrap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The Guar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The Financial Ti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Daily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285560"/>
            <a:ext cx="47862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day newspapers are larger than daily ones. They often have 2 or 3 sections. All Sunday newspapers are national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00800" y="2071800"/>
          <a:ext cx="3357360" cy="320040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Sunday Exp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Sunday Hera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Sunday Indepen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Sunday Ma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Sunday Mercu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Sunday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The Sunday P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499680"/>
            <a:ext cx="701028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8920" y="6340320"/>
            <a:ext cx="6649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285840" y="2357280"/>
            <a:ext cx="77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4:58:15Z</dcterms:created>
  <dc:creator>Admin</dc:creator>
  <dc:description/>
  <dc:language>en-US</dc:language>
  <cp:lastModifiedBy>user</cp:lastModifiedBy>
  <dcterms:modified xsi:type="dcterms:W3CDTF">2016-02-14T18:29:59Z</dcterms:modified>
  <cp:revision>21</cp:revision>
  <dc:subject/>
  <dc:title>Слайд 1</dc:title>
</cp:coreProperties>
</file>