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64b4f"/>
                </a:solidFill>
                <a:latin typeface="Euphemia"/>
              </a:rPr>
              <a:t>Click to move the slide</a:t>
            </a: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Num" idx="15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EA7E590E-64F5-4C28-AFBC-ED5C3F69E307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796A5A71-B4D1-4950-BDB3-61301919CB9E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05279229-FB2B-4122-BC37-13DC90B0C60E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5A4CA-9511-46FE-B396-44C92B750972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789FDB34-2AB5-4837-B5E2-62C2562C670D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A273D899-6220-4E0F-A0FF-EBE4CA609CB0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19240" y="812880"/>
            <a:ext cx="7118280" cy="40068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7F62EA7F-E65A-45AD-ADBD-91940742A584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19240" y="812880"/>
            <a:ext cx="7116480" cy="4005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B75F8D5E-72FD-4993-9BD3-1EC1AE4ECE0C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E08D948E-717C-4BC5-A71C-D70308E3C042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CD702-91E8-43AA-88A4-96CA54F61DBA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82988376-EF6D-4ABD-928D-498A9956C84A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04341A99-ED22-491C-979A-764FC9853E50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542C8-F59F-42E4-AD25-AD6B180719A5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5FCE1F27-D953-4EF8-A7A0-0307F9AAE93C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1990706-9CF4-4649-BCCD-2A2264907BF3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21B09-5C2B-46C2-BC6D-8FCC22B00160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BFEA6878-FF4F-412C-994A-544E2458E7B9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50892759-7840-4709-8582-8E200EA51B92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3E1FC-A6D8-48BD-93C1-7B8720971F5A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6D847557-C086-4F82-8434-B7E854E818D9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D6BBC46C-B0D9-4FB5-865A-3C57664CDA08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AC5A2-1C2F-4324-B757-449E840F89A2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585F50C-43A7-4CEA-80D3-F69A9D4F0086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D0169CAB-6217-457C-B9C7-95F4E30DBFA6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FC4C4-6241-44FE-BA08-2B3B819C4B00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A770DB2-1AB2-4CCE-8B84-84155C8C54FD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360527B-5387-41B1-A1FF-CAB544B502C6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EAF35-CD61-4963-99B3-6FF150C3D608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E153A219-31E1-4422-89D8-5AC79B703A20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789921A-18CF-483A-9C05-0C65941D81F1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775AC-6F45-4AA5-9998-37C8C8F5D46F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13536718-F16B-4277-9618-8C0B0B6A3E1E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2A8005E6-9C8A-4D6A-AB7F-80C241553108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93361-7C93-4C0E-B6E1-7165CD2A1CF0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E9B0D3F2-9935-43DA-AAD5-DEEDBF21DD8C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456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203DBA8D-767C-48DA-A60A-EB2891C45E9A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0368B-E525-48F9-A61A-68542DCDE1AA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6252-7F6D-4559-B844-AEC492AAC9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3480" y="402192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D9D73-1D91-4ECB-9493-C0201BF1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1072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A461-34CD-474B-AAE8-4136B3C6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3816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78284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348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3816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78284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EBE6B-6915-4CBB-9CDB-5D758B3178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6B900-3C91-4419-B655-79F8EBC9B2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3480" y="1676160"/>
            <a:ext cx="95965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AC993-6570-4272-A32E-51C6941E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95965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9B8AB-B64C-43DB-B442-3B9FAECA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FB2BE-5285-4F6D-B3FD-49183847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25176-0269-4BA4-BF55-A7717621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3480" y="380880"/>
            <a:ext cx="9596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8C4AB-DEB1-4EFD-8712-C5626A61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131AF-AC0E-4D21-A7FF-0285FF80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3480" y="1676160"/>
            <a:ext cx="95965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BE125-6737-47C9-9958-4D9E34F1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1072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D4BF3-BBF8-4327-9918-2530F4D3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496F1-90F1-4064-8E66-330F685E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93480" y="402192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2DD00-FB89-44B5-A59C-220017C5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1072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A6202-B163-4EC1-A446-5D41F4F9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3816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78284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9348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3816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78284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F7F8A-E817-4E5D-84C6-AA7927A206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2C87-28D8-4DBE-87D1-3A6F496AFF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3480" y="1676160"/>
            <a:ext cx="95965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C490-F1CF-4A4B-9D32-E8F444AD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95965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E15D-7C18-44A8-8D36-D46CAF7A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FCB9-BEF2-4970-B0AB-67683462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30F6-8BA1-48F1-A1CC-3A5D6303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95965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99C0-81C8-4473-81EE-E573A3A9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293480" y="380880"/>
            <a:ext cx="9596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C831-3708-475F-B7B9-25F21C0F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B2B0-D1C3-40C7-8562-E36B0898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1072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24AC-C96A-404A-BE53-ECD0767B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EBE8-165B-4893-9DA9-4EF081A1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293480" y="402192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D6D5-E18D-4F19-B3EF-9C48BB5E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1072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62DF-F806-42D7-8B5B-C7269BD3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3816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78284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29348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53816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78284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F90B-208F-4FE1-8227-37E13FA7B1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27841-5800-4BD8-8FEC-89EDB9221C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93480" y="1676160"/>
            <a:ext cx="95965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0DFE8-E038-461F-A190-08C74FDC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95965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E77B4-CD69-4414-85FA-758D2F39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2933-3FDE-4EBB-8591-48F74A44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2889C-7CFD-4313-9AE6-338E28F9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2E277-0B7B-4790-9549-03F84698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93480" y="380880"/>
            <a:ext cx="9596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34680-ECF4-493C-A830-1B9EEBC5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C10B6-4E00-4143-89D3-9CE9E354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1072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80815-97BD-4213-AAA5-6055E0AC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24DA2-4A4F-4EAE-B38A-77FE1759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93480" y="402192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D0C82-9226-4CD9-BACE-5A713D44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1072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06BA9-9052-4EBF-B1DC-D127ADD2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3816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78284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9348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53816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778284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8375F-9E9F-43B2-95F3-5119DDBDA3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4BB0EB-D919-407D-B1D7-8BB58CD784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2AAC-0051-436E-8CBA-D961D441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293480" y="1676160"/>
            <a:ext cx="95965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41D06-2115-4B5F-A521-F3C4F78D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95965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B8D89-3B45-4DDD-9C2E-FF7FE87D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0334DD-5D62-4C93-8813-6F4F9B8B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E1E051-8988-42BC-8A07-034DB633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293480" y="380880"/>
            <a:ext cx="9596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21CA2A-36CD-40FD-91D5-E3D83B98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85986A-4D19-4CAF-AC27-3A03DA8D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1072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2A9FB4-663F-45CF-8A67-D2C406CA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6C00CD-A435-4EF1-B66C-843CD43D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293480" y="402192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E7012D-058E-46B7-9B82-B8A8BFA8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1072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5BC15-80DC-44F1-99FA-D53A8F9E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480" y="380880"/>
            <a:ext cx="9596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3A2CD-02EF-4767-8589-03992D6B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3816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78284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29348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53816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778284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8C466-12EB-4122-9010-6A3BB0321B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AEC7A-4F06-4191-AA57-FD137AD584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293480" y="1676160"/>
            <a:ext cx="95965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8449E-89B5-433D-87F9-1FEF4FAB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95965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AE608-6248-49E4-BFFA-B75B91CF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4EE20-99DB-45D5-B200-E375292E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F7925-5B40-479E-B44C-5F19FD02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293480" y="380880"/>
            <a:ext cx="9596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FE2A-C65D-426A-83BA-A3116885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70C8C-B3C3-46BA-AF21-AE65C476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1072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F18DC-F486-46E5-A4B2-2478D684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56149-05F4-430D-8952-999C3C92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3798-1281-418A-9428-2976A226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293480" y="402192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F5E46-2BEB-4F6D-9E56-AB43AC9A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1072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476A7-4290-4144-BF0A-ACB1BDD4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3816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78284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29348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53816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78284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CFD75-90AF-423D-B9A9-23D775DB4B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E4641B-28B2-4697-A675-497BA3AE31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3480" y="1676160"/>
            <a:ext cx="95965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6A58E-23B5-4BE0-A1C1-5D881D23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95965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4A8AA-965A-4A8E-89D5-3C78C1B7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2BB8B-F3D1-46CF-A157-0799733F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84CFD2-170B-43D5-9700-95BDAD32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293480" y="380880"/>
            <a:ext cx="9596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204DD-665A-4278-9491-5DC84003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220AE-F83A-4BB2-8F59-3A11AC98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1072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1C8B-593F-40F5-8B91-043EFDAA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1072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B5ADC-8A0F-47FC-A71C-B0221F1B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3DA49-EA8B-488A-A931-2C15E083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293480" y="402192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E419F-B072-4BE4-8CD0-A9B69AE6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210720" y="402192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144DF-7755-4733-9ED3-6044F258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3816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782840" y="167616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129348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453816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7782840" y="4021920"/>
            <a:ext cx="3089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38279-732D-40E5-A1BF-2139602371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348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10720" y="1676160"/>
            <a:ext cx="468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3480" y="4021920"/>
            <a:ext cx="95965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9805-4E78-47A0-8822-5F37FFC9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836640" y="0"/>
            <a:ext cx="11352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3840" y="990720"/>
            <a:ext cx="8453520" cy="31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64b4f"/>
                </a:solidFill>
                <a:latin typeface="Euphemia"/>
              </a:rPr>
              <a:t>Click to edit the title text format</a:t>
            </a: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71160" y="6356160"/>
            <a:ext cx="2838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02.08.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16412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051400" y="6356160"/>
            <a:ext cx="2838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7F2B3-51D8-49C7-ABC0-9E9B8A5BB6D2}" type="slidenum">
              <a:rPr b="0" lang="uk-U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648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Click to edit the outline text format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1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con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2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Thir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3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our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4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if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5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ix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6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ven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836640" y="0"/>
            <a:ext cx="11352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64b4f"/>
                </a:solidFill>
                <a:latin typeface="Euphemia"/>
              </a:rPr>
              <a:t>Click to edit the title text format</a:t>
            </a: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93480" y="1676160"/>
            <a:ext cx="95965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Click to edit the outline text format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1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con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2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Thir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3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our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4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if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5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ix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6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ven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1271160" y="6356160"/>
            <a:ext cx="2838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100" spc="-1" strike="noStrike">
                <a:solidFill>
                  <a:srgbClr val="164b4f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100" spc="-1" strike="noStrike">
                <a:solidFill>
                  <a:srgbClr val="164b4f"/>
                </a:solidFill>
                <a:latin typeface="Euphemia"/>
              </a:rPr>
              <a:t>02.08.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16412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8051400" y="6356160"/>
            <a:ext cx="2838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100" spc="-1" strike="noStrike">
                <a:solidFill>
                  <a:srgbClr val="164b4f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CB060-9A37-4907-A3E2-D9CE8D6AAD2B}" type="slidenum">
              <a:rPr b="0" lang="uk-UA" sz="1100" spc="-1" strike="noStrike">
                <a:solidFill>
                  <a:srgbClr val="164b4f"/>
                </a:solidFill>
                <a:latin typeface="Euphem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836640" y="0"/>
            <a:ext cx="11352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3840" y="2057040"/>
            <a:ext cx="845352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64b4f"/>
                </a:solidFill>
                <a:latin typeface="Euphemia"/>
              </a:rPr>
              <a:t>Click to edit the title text format</a:t>
            </a: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93840" y="4876560"/>
            <a:ext cx="84535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7000"/>
          </a:bodyPr>
          <a:p>
            <a:pPr marL="92520" indent="0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Click to edit the outline text format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1" marL="92520" indent="-9252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con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2" marL="92520" indent="-9252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Thir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3" marL="92520" indent="-9252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our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4" marL="92520" indent="-9252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if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5" marL="92520" indent="-9252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ix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6" marL="92520" indent="-9252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ven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1271160" y="6356160"/>
            <a:ext cx="2838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100" spc="-1" strike="noStrike">
                <a:solidFill>
                  <a:srgbClr val="164b4f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100" spc="-1" strike="noStrike">
                <a:solidFill>
                  <a:srgbClr val="164b4f"/>
                </a:solidFill>
                <a:latin typeface="Euphemia"/>
              </a:rPr>
              <a:t>02.08.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16412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8051400" y="6356160"/>
            <a:ext cx="2838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100" spc="-1" strike="noStrike">
                <a:solidFill>
                  <a:srgbClr val="164b4f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DEC52-4261-437D-A788-0516531396C5}" type="slidenum">
              <a:rPr b="0" lang="uk-UA" sz="1100" spc="-1" strike="noStrike">
                <a:solidFill>
                  <a:srgbClr val="164b4f"/>
                </a:solidFill>
                <a:latin typeface="Euphem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836640" y="0"/>
            <a:ext cx="11352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64b4f"/>
                </a:solidFill>
                <a:latin typeface="Euphemia"/>
              </a:rPr>
              <a:t>Click to edit the title text format</a:t>
            </a: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293840" y="1676160"/>
            <a:ext cx="46958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17000"/>
          </a:bodyPr>
          <a:p>
            <a:pPr marL="58320" indent="0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Click to edit the outline text format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1" marL="58320" indent="-5832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con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2" marL="58320" indent="-5832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Thir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3" marL="58320" indent="-5832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our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4" marL="58320" indent="-5832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if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5" marL="58320" indent="-5832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ix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6" marL="58320" indent="-5832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ven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271160" y="6356160"/>
            <a:ext cx="2838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100" spc="-1" strike="noStrike">
                <a:solidFill>
                  <a:srgbClr val="164b4f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100" spc="-1" strike="noStrike">
                <a:solidFill>
                  <a:srgbClr val="164b4f"/>
                </a:solidFill>
                <a:latin typeface="Euphemia"/>
              </a:rPr>
              <a:t>02.08.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16412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8051400" y="6356160"/>
            <a:ext cx="2838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100" spc="-1" strike="noStrike">
                <a:solidFill>
                  <a:srgbClr val="164b4f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3DE12-8CDB-4070-B28E-7683F9B6006E}" type="slidenum">
              <a:rPr b="0" lang="uk-UA" sz="1100" spc="-1" strike="noStrike">
                <a:solidFill>
                  <a:srgbClr val="164b4f"/>
                </a:solidFill>
                <a:latin typeface="Euphem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836640" y="0"/>
            <a:ext cx="11352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3480" y="380880"/>
            <a:ext cx="9596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64b4f"/>
                </a:solidFill>
                <a:latin typeface="Euphemia"/>
              </a:rPr>
              <a:t>Click to edit the title text format</a:t>
            </a: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9"/>
          </p:nvPr>
        </p:nvSpPr>
        <p:spPr>
          <a:xfrm>
            <a:off x="1271160" y="6356160"/>
            <a:ext cx="2838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100" spc="-1" strike="noStrike">
                <a:solidFill>
                  <a:srgbClr val="164b4f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100" spc="-1" strike="noStrike">
                <a:solidFill>
                  <a:srgbClr val="164b4f"/>
                </a:solidFill>
                <a:latin typeface="Euphemia"/>
              </a:rPr>
              <a:t>02.08.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16412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0"/>
          </p:nvPr>
        </p:nvSpPr>
        <p:spPr>
          <a:xfrm>
            <a:off x="8051400" y="6356160"/>
            <a:ext cx="2838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100" spc="-1" strike="noStrike">
                <a:solidFill>
                  <a:srgbClr val="164b4f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799E6-FFE9-4E40-A21F-809383ED70FB}" type="slidenum">
              <a:rPr b="0" lang="uk-UA" sz="1100" spc="-1" strike="noStrike">
                <a:solidFill>
                  <a:srgbClr val="164b4f"/>
                </a:solidFill>
                <a:latin typeface="Euphem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648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Click to edit the outline text format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1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con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2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Thir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3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our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4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if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5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ix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6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ven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836640" y="0"/>
            <a:ext cx="11352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dt" idx="11"/>
          </p:nvPr>
        </p:nvSpPr>
        <p:spPr>
          <a:xfrm>
            <a:off x="1271160" y="6356160"/>
            <a:ext cx="2838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100" spc="-1" strike="noStrike">
                <a:solidFill>
                  <a:srgbClr val="164b4f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100" spc="-1" strike="noStrike">
                <a:solidFill>
                  <a:srgbClr val="164b4f"/>
                </a:solidFill>
                <a:latin typeface="Euphemia"/>
              </a:rPr>
              <a:t>02.08.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16412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Num" idx="12"/>
          </p:nvPr>
        </p:nvSpPr>
        <p:spPr>
          <a:xfrm>
            <a:off x="8051400" y="6356160"/>
            <a:ext cx="2838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100" spc="-1" strike="noStrike">
                <a:solidFill>
                  <a:srgbClr val="164b4f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8BEB1-85C1-4AB1-85B7-EFA1545164DD}" type="slidenum">
              <a:rPr b="0" lang="uk-UA" sz="1100" spc="-1" strike="noStrike">
                <a:solidFill>
                  <a:srgbClr val="164b4f"/>
                </a:solidFill>
                <a:latin typeface="Euphem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488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64b4f"/>
                </a:solidFill>
                <a:latin typeface="Euphemia"/>
              </a:rPr>
              <a:t>Click to edit the title text format</a:t>
            </a: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648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Click to edit the outline text format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1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con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2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Thir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3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our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4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if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5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ix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6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ven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836640" y="0"/>
            <a:ext cx="11352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0960" y="1676520"/>
            <a:ext cx="38052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64b4f"/>
                </a:solidFill>
                <a:latin typeface="Euphemia"/>
              </a:rPr>
              <a:t>Click to edit the title text format</a:t>
            </a:r>
            <a:endParaRPr b="0" lang="en-US" sz="1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93840" y="685440"/>
            <a:ext cx="616752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Click to edit the outline text format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1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con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2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Thir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3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our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4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if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5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ix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6" marL="343080" indent="-343080">
              <a:lnSpc>
                <a:spcPct val="10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ven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3"/>
          </p:nvPr>
        </p:nvSpPr>
        <p:spPr>
          <a:xfrm>
            <a:off x="1271160" y="6356160"/>
            <a:ext cx="2838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100" spc="-1" strike="noStrike">
                <a:solidFill>
                  <a:srgbClr val="164b4f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100" spc="-1" strike="noStrike">
                <a:solidFill>
                  <a:srgbClr val="164b4f"/>
                </a:solidFill>
                <a:latin typeface="Euphemia"/>
              </a:rPr>
              <a:t>02.08.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416412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8051400" y="6356160"/>
            <a:ext cx="2838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100" spc="-1" strike="noStrike">
                <a:solidFill>
                  <a:srgbClr val="164b4f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231C7-F19D-4CAA-9897-9E49F825C8E7}" type="slidenum">
              <a:rPr b="0" lang="uk-UA" sz="1100" spc="-1" strike="noStrike">
                <a:solidFill>
                  <a:srgbClr val="164b4f"/>
                </a:solidFill>
                <a:latin typeface="Euphem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1117440" y="399960"/>
            <a:ext cx="8458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164b4f"/>
                </a:solidFill>
                <a:latin typeface="Arial Black"/>
              </a:rPr>
              <a:t>Подорож країною Трикутників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2638440" y="4964040"/>
            <a:ext cx="9275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164b4f"/>
                </a:solidFill>
                <a:latin typeface="Euphemia"/>
              </a:rPr>
              <a:t>Математичний квест для 9 клас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164b4f"/>
                </a:solidFill>
                <a:latin typeface="Euphemia"/>
              </a:rPr>
              <a:t>підготували вчителі математики ОНВК №5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164b4f"/>
                </a:solidFill>
                <a:latin typeface="Euphemia"/>
              </a:rPr>
              <a:t>Ружицька Н. І. та Кищенко Л.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"/>
          <p:cNvSpPr/>
          <p:nvPr/>
        </p:nvSpPr>
        <p:spPr>
          <a:xfrm>
            <a:off x="0" y="0"/>
            <a:ext cx="121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5981760" y="69696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0" y="0"/>
            <a:ext cx="121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909720" y="1700280"/>
            <a:ext cx="10918800" cy="19558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5"/>
          <p:cNvSpPr/>
          <p:nvPr/>
        </p:nvSpPr>
        <p:spPr>
          <a:xfrm>
            <a:off x="5981760" y="69696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0"/>
            <a:ext cx="121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2"/>
          <a:stretch/>
        </p:blipFill>
        <p:spPr>
          <a:xfrm>
            <a:off x="909720" y="1700280"/>
            <a:ext cx="11279160" cy="38116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8"/>
          <p:cNvSpPr/>
          <p:nvPr/>
        </p:nvSpPr>
        <p:spPr>
          <a:xfrm>
            <a:off x="0" y="1171440"/>
            <a:ext cx="121888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0"/>
            <a:ext cx="121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3"/>
          <a:stretch/>
        </p:blipFill>
        <p:spPr>
          <a:xfrm>
            <a:off x="849240" y="2060640"/>
            <a:ext cx="11339640" cy="33400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1"/>
          <p:cNvSpPr/>
          <p:nvPr/>
        </p:nvSpPr>
        <p:spPr>
          <a:xfrm>
            <a:off x="0" y="1133640"/>
            <a:ext cx="121888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1271520" y="6356520"/>
            <a:ext cx="2840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0" y="0"/>
            <a:ext cx="121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549360" y="1989000"/>
            <a:ext cx="11820600" cy="219564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4"/>
          <p:cNvSpPr/>
          <p:nvPr/>
        </p:nvSpPr>
        <p:spPr>
          <a:xfrm>
            <a:off x="0" y="781200"/>
            <a:ext cx="121888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0" y="0"/>
            <a:ext cx="121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6" descr=""/>
          <p:cNvPicPr/>
          <p:nvPr/>
        </p:nvPicPr>
        <p:blipFill>
          <a:blip r:embed="rId2"/>
          <a:stretch/>
        </p:blipFill>
        <p:spPr>
          <a:xfrm>
            <a:off x="1486080" y="765000"/>
            <a:ext cx="10188360" cy="50594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7"/>
          <p:cNvSpPr/>
          <p:nvPr/>
        </p:nvSpPr>
        <p:spPr>
          <a:xfrm>
            <a:off x="0" y="1162080"/>
            <a:ext cx="121888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1293840" y="380880"/>
            <a:ext cx="1063296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164b4f"/>
                </a:solidFill>
                <a:latin typeface="Times New Roman"/>
              </a:rPr>
              <a:t>c</a:t>
            </a:r>
            <a:r>
              <a:rPr b="0" lang="ru-RU" sz="8000" spc="-1" strike="noStrike" baseline="42000">
                <a:solidFill>
                  <a:srgbClr val="164b4f"/>
                </a:solidFill>
                <a:latin typeface="Times New Roman"/>
              </a:rPr>
              <a:t>2  </a:t>
            </a:r>
            <a:r>
              <a:rPr b="0" lang="ru-RU" sz="8000" spc="-1" strike="noStrike">
                <a:solidFill>
                  <a:srgbClr val="164b4f"/>
                </a:solidFill>
                <a:latin typeface="Times New Roman"/>
              </a:rPr>
              <a:t>= а</a:t>
            </a:r>
            <a:r>
              <a:rPr b="0" lang="ru-RU" sz="8000" spc="-1" strike="noStrike" baseline="42000">
                <a:solidFill>
                  <a:srgbClr val="164b4f"/>
                </a:solidFill>
                <a:latin typeface="Times New Roman"/>
              </a:rPr>
              <a:t>2 </a:t>
            </a:r>
            <a:r>
              <a:rPr b="0" lang="ru-RU" sz="8000" spc="-1" strike="noStrike">
                <a:solidFill>
                  <a:srgbClr val="164b4f"/>
                </a:solidFill>
                <a:latin typeface="Times New Roman"/>
              </a:rPr>
              <a:t>+ в</a:t>
            </a:r>
            <a:r>
              <a:rPr b="0" lang="ru-RU" sz="8000" spc="-1" strike="noStrike" baseline="42000">
                <a:solidFill>
                  <a:srgbClr val="164b4f"/>
                </a:solidFill>
                <a:latin typeface="Times New Roman"/>
              </a:rPr>
              <a:t>2 </a:t>
            </a:r>
            <a:r>
              <a:rPr b="0" lang="en-US" sz="8000" spc="-1" strike="noStrike">
                <a:solidFill>
                  <a:srgbClr val="164b4f"/>
                </a:solidFill>
                <a:latin typeface="Times New Roman"/>
              </a:rPr>
              <a:t>-</a:t>
            </a:r>
            <a:r>
              <a:rPr b="0" lang="ru-RU" sz="8000" spc="-1" strike="noStrike">
                <a:solidFill>
                  <a:srgbClr val="164b4f"/>
                </a:solidFill>
                <a:latin typeface="Times New Roman"/>
              </a:rPr>
              <a:t> 2авcos</a:t>
            </a:r>
            <a:r>
              <a:rPr b="0" lang="uk-UA" sz="8000" spc="-1" strike="noStrike">
                <a:solidFill>
                  <a:srgbClr val="164b4f"/>
                </a:solidFill>
                <a:latin typeface="Symbol"/>
                <a:ea typeface="Symbol"/>
              </a:rPr>
              <a:t>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4799160" y="333360"/>
            <a:ext cx="9601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9840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7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0" y="-387360"/>
            <a:ext cx="12719160" cy="72453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4"/>
          <p:cNvSpPr/>
          <p:nvPr/>
        </p:nvSpPr>
        <p:spPr>
          <a:xfrm>
            <a:off x="0" y="0"/>
            <a:ext cx="121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2"/>
          <a:stretch/>
        </p:blipFill>
        <p:spPr>
          <a:xfrm>
            <a:off x="1701720" y="981000"/>
            <a:ext cx="7908840" cy="383220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6"/>
          <p:cNvSpPr/>
          <p:nvPr/>
        </p:nvSpPr>
        <p:spPr>
          <a:xfrm>
            <a:off x="0" y="1809720"/>
            <a:ext cx="121888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1293840" y="380880"/>
            <a:ext cx="960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1293840" y="1676520"/>
            <a:ext cx="9601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1293840" y="380880"/>
            <a:ext cx="960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64b4f"/>
                </a:solidFill>
                <a:latin typeface="Euphemia"/>
              </a:rPr>
              <a:t>Макет заголовка и объектов со списк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93840" y="1676520"/>
            <a:ext cx="9601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0680" indent="-220680">
              <a:lnSpc>
                <a:spcPct val="90000"/>
              </a:lnSpc>
              <a:spcBef>
                <a:spcPts val="159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668160"/>
                <a:tab algn="l" pos="1117440"/>
                <a:tab algn="l" pos="1566720"/>
                <a:tab algn="l" pos="2016000"/>
                <a:tab algn="l" pos="2465280"/>
                <a:tab algn="l" pos="2914560"/>
                <a:tab algn="l" pos="3363840"/>
                <a:tab algn="l" pos="3813120"/>
                <a:tab algn="l" pos="4262400"/>
                <a:tab algn="l" pos="4711680"/>
                <a:tab algn="l" pos="5160960"/>
                <a:tab algn="l" pos="5610240"/>
                <a:tab algn="l" pos="6059520"/>
                <a:tab algn="l" pos="6508800"/>
                <a:tab algn="l" pos="6958080"/>
                <a:tab algn="l" pos="7407360"/>
                <a:tab algn="l" pos="7856640"/>
                <a:tab algn="l" pos="8305920"/>
                <a:tab algn="l" pos="8755200"/>
                <a:tab algn="l" pos="9204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Добавьте первый пункт спи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159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668160"/>
                <a:tab algn="l" pos="1117440"/>
                <a:tab algn="l" pos="1566720"/>
                <a:tab algn="l" pos="2016000"/>
                <a:tab algn="l" pos="2465280"/>
                <a:tab algn="l" pos="2914560"/>
                <a:tab algn="l" pos="3363840"/>
                <a:tab algn="l" pos="3813120"/>
                <a:tab algn="l" pos="4262400"/>
                <a:tab algn="l" pos="4711680"/>
                <a:tab algn="l" pos="5160960"/>
                <a:tab algn="l" pos="5610240"/>
                <a:tab algn="l" pos="6059520"/>
                <a:tab algn="l" pos="6508800"/>
                <a:tab algn="l" pos="6958080"/>
                <a:tab algn="l" pos="7407360"/>
                <a:tab algn="l" pos="7856640"/>
                <a:tab algn="l" pos="8305920"/>
                <a:tab algn="l" pos="8755200"/>
                <a:tab algn="l" pos="9204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Добавьте второй пункт спи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159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668160"/>
                <a:tab algn="l" pos="1117440"/>
                <a:tab algn="l" pos="1566720"/>
                <a:tab algn="l" pos="2016000"/>
                <a:tab algn="l" pos="2465280"/>
                <a:tab algn="l" pos="2914560"/>
                <a:tab algn="l" pos="3363840"/>
                <a:tab algn="l" pos="3813120"/>
                <a:tab algn="l" pos="4262400"/>
                <a:tab algn="l" pos="4711680"/>
                <a:tab algn="l" pos="5160960"/>
                <a:tab algn="l" pos="5610240"/>
                <a:tab algn="l" pos="6059520"/>
                <a:tab algn="l" pos="6508800"/>
                <a:tab algn="l" pos="6958080"/>
                <a:tab algn="l" pos="7407360"/>
                <a:tab algn="l" pos="7856640"/>
                <a:tab algn="l" pos="8305920"/>
                <a:tab algn="l" pos="8755200"/>
                <a:tab algn="l" pos="9204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Добавьте третий пункт спи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39640" cy="6912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1293840" y="380880"/>
            <a:ext cx="960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1293840" y="1676520"/>
            <a:ext cx="9601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1293840" y="380880"/>
            <a:ext cx="960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293840" y="1676520"/>
            <a:ext cx="9601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1293840" y="380880"/>
            <a:ext cx="960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1293840" y="1676520"/>
            <a:ext cx="9601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1293840" y="380880"/>
            <a:ext cx="960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1293840" y="1676520"/>
            <a:ext cx="9601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1293840" y="380880"/>
            <a:ext cx="960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1293840" y="1676520"/>
            <a:ext cx="9601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293840" y="380880"/>
            <a:ext cx="960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293840" y="1676520"/>
            <a:ext cx="9601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293840" y="380880"/>
            <a:ext cx="960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293840" y="1676520"/>
            <a:ext cx="9601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9-01-14T11:20:04Z</dcterms:modified>
  <cp:revision>4</cp:revision>
  <dc:subject/>
  <dc:title>Подорож країною Трикутників</dc:title>
</cp:coreProperties>
</file>