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49F-D15D-43C5-B70F-702A3A0BC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3797-1704-4641-B60A-E383EF6D55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0F1-FD4A-46AD-8B30-B2982EEB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3D5-55C8-4C55-9328-3939C09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EDE-1783-4789-80B5-72102458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7F7-3D30-48C5-8D74-889D239F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464-9086-4835-9A0C-2CEB02DB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75D1-0F6A-419F-AE91-7B378547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C19-7092-47F6-AA8B-6F4F6C54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7348-C321-46F7-8FA1-28E7342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586-8BCE-4B6F-A95A-8267BDED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1758-41A8-4798-8F44-0FAF252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D570-80B3-40A0-8DB9-47E04D1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518-6FA9-4D6E-969F-01523BA7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F25-D7EF-497A-ABD3-39B8546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0B69-BEA5-4FF1-8820-57C3BD8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6FE4-B736-49B5-ADED-64CE40E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8E2-8FEF-4DC9-9158-CBD3D3A8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9CD-5BB2-417B-9092-2856A862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4F3-B0DA-4FDF-8127-4222A9C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659-2483-486A-AA53-4678EE8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64C-CE0F-4AAB-8E7E-E5FB0D1C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1CE-F6FF-4DEE-B3D3-FB1931B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A54-2B61-4692-AAF1-AF20BBA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341-46BB-4073-AA34-093BDEE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6CF-AE56-41B3-930A-FCD8BAC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026B-B1EA-4F5A-9E08-5C4652271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8160-C857-4867-8B1B-C550067D8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s://domcomputer.ru/borba-s-virusami/kak-zashhitit-domashnij-kompyuter-ot-virusov-i-shpionskix-programm.html" TargetMode="External"/><Relationship Id="rId3" Type="http://schemas.openxmlformats.org/officeDocument/2006/relationships/hyperlink" Target="https://don-news.net/sashka-sanya/11837-kakaya-fotobumaga-luchshe-matovaya-ili-glyantsevaya.html" TargetMode="External"/><Relationship Id="rId4" Type="http://schemas.openxmlformats.org/officeDocument/2006/relationships/hyperlink" Target="https://sites.google.com/site/moimstudentam/english/pamatki/nabor-molodogo-pisatela-esse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55640" y="-73080"/>
            <a:ext cx="7497720" cy="137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Работа\Уроки\3 Б\Урок 23\scho-take-kompyuterni-virusy.jpg"/>
          <p:cNvPicPr/>
          <p:nvPr/>
        </p:nvPicPr>
        <p:blipFill>
          <a:blip r:embed="rId2"/>
          <a:stretch/>
        </p:blipFill>
        <p:spPr>
          <a:xfrm>
            <a:off x="2050920" y="1484280"/>
            <a:ext cx="4969080" cy="4969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1243080" y="1463760"/>
            <a:ext cx="6516720" cy="247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2" descr=""/>
          <p:cNvPicPr/>
          <p:nvPr/>
        </p:nvPicPr>
        <p:blipFill>
          <a:blip r:embed="rId1"/>
          <a:stretch/>
        </p:blipFill>
        <p:spPr>
          <a:xfrm>
            <a:off x="785880" y="566640"/>
            <a:ext cx="7499160" cy="13780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755640" y="1916280"/>
            <a:ext cx="4462560" cy="1022760"/>
          </a:xfrm>
          <a:prstGeom prst="wedgeRoundRectCallout">
            <a:avLst>
              <a:gd name="adj1" fmla="val 64055"/>
              <a:gd name="adj2" fmla="val -4680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анализировать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ст. 105-10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Ð¡ÑÐ¾Ð´Ð¸Ð½ÐºÐ¸ Ð´Ð¾ ÑÐ½ÑÐ¾ÑÐ¼Ð°ÑÐ¸ÐºÐ¸. 3 ÐºÐ»Ð°Ñ"/>
          <p:cNvPicPr/>
          <p:nvPr/>
        </p:nvPicPr>
        <p:blipFill>
          <a:blip r:embed="rId2"/>
          <a:stretch/>
        </p:blipFill>
        <p:spPr>
          <a:xfrm>
            <a:off x="5796000" y="2449440"/>
            <a:ext cx="196848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одзаголовок 8" descr=""/>
          <p:cNvPicPr/>
          <p:nvPr/>
        </p:nvPicPr>
        <p:blipFill>
          <a:blip r:embed="rId1"/>
          <a:stretch/>
        </p:blipFill>
        <p:spPr>
          <a:xfrm>
            <a:off x="1620720" y="1554120"/>
            <a:ext cx="604224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785880" y="566640"/>
            <a:ext cx="7499160" cy="137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domcomputer.ru/borba-s-virusami/kak-zashhitit-domashnij-kompyuter-ot-virusov-i-shpionskix-programm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don-news.net/sashka-sanya/11837-kakaya-fotobumaga-luchshe-matovaya-ili-glyantsevaya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sites.google.com/site/moimstudentam/english/pamatki/nabor-molodogo-pisatela-es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finebook.com.u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www.lrsport.org/news/2012/08/active-iq-launches-new-childrens-physical-activity-qual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prom.ua/ua/p520977472-rabochaya-tetrad-informatika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rozetka.com.ua/ua/7238050/p7238050/#__utmzi__1__=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www.mindomo.com/da/mindmap/software-2252fc0d320d4ace892dd573d7a4a39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11"/>
          <p:cNvSpPr/>
          <p:nvPr/>
        </p:nvSpPr>
        <p:spPr>
          <a:xfrm>
            <a:off x="826920" y="476280"/>
            <a:ext cx="7129800" cy="316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оздание простых презентац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/>
          <p:cNvSpPr/>
          <p:nvPr/>
        </p:nvSpPr>
        <p:spPr>
          <a:xfrm>
            <a:off x="1332000" y="692280"/>
            <a:ext cx="6624720" cy="132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боту над созданием компьютерной презентации всегда необходимо начинать с план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mayak.if.ua/wp-content/uploads/2011/10/193_kreativ.jpg"/>
          <p:cNvPicPr/>
          <p:nvPr/>
        </p:nvPicPr>
        <p:blipFill>
          <a:blip r:embed="rId1"/>
          <a:stretch/>
        </p:blipFill>
        <p:spPr>
          <a:xfrm>
            <a:off x="4284720" y="2781360"/>
            <a:ext cx="3743280" cy="267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30ikr-trydfront.edusite.ru/images/collage-fotoclub.jpg"/>
          <p:cNvPicPr/>
          <p:nvPr/>
        </p:nvPicPr>
        <p:blipFill>
          <a:blip r:embed="rId2"/>
          <a:stretch/>
        </p:blipFill>
        <p:spPr>
          <a:xfrm>
            <a:off x="971640" y="3068640"/>
            <a:ext cx="2814480" cy="211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/>
          <p:cNvSpPr/>
          <p:nvPr/>
        </p:nvSpPr>
        <p:spPr>
          <a:xfrm>
            <a:off x="1116000" y="836640"/>
            <a:ext cx="6985080" cy="132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сле того как разработан план, можно переходить к созданию компьютерной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finebook.com.ua/sites/default/themes/finebook/images/index_preview_pic.png"/>
          <p:cNvPicPr/>
          <p:nvPr/>
        </p:nvPicPr>
        <p:blipFill>
          <a:blip r:embed="rId1"/>
          <a:stretch/>
        </p:blipFill>
        <p:spPr>
          <a:xfrm>
            <a:off x="1547640" y="2205000"/>
            <a:ext cx="536292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nalytics, bar, chart, charts, diagram, economics, economy, finance, financial, graph, income, infograph, infographic, internet, marketing, monitor, monitoring, optimization, pc, pie, powerpoint, presentation, profit, report, sales, screen, seo, statistics, success, web icon"/>
          <p:cNvPicPr/>
          <p:nvPr/>
        </p:nvPicPr>
        <p:blipFill>
          <a:blip r:embed="rId1"/>
          <a:stretch/>
        </p:blipFill>
        <p:spPr>
          <a:xfrm>
            <a:off x="0" y="5273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39640" y="2421000"/>
            <a:ext cx="8136000" cy="3751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риентировочное количество предложений на одном слайде - до пяти. Предложения должны быть короткими - до восьми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головки слайдов должны привлек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ля выделения важной информации на слайде следует использовать различные размеры и цвета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кст слайда должен хорошо читаться. Например, темный текст на светлом фоне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828720" y="-60480"/>
            <a:ext cx="7497720" cy="186552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"/>
          <p:cNvPicPr/>
          <p:nvPr/>
        </p:nvPicPr>
        <p:blipFill>
          <a:blip r:embed="rId2"/>
          <a:stretch/>
        </p:blipFill>
        <p:spPr>
          <a:xfrm>
            <a:off x="92160" y="1127160"/>
            <a:ext cx="90518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85880" y="566640"/>
            <a:ext cx="7499160" cy="137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southjerseyfamilymedicine.com/b-images/Jumping_Children.jpg"/>
          <p:cNvPicPr/>
          <p:nvPr/>
        </p:nvPicPr>
        <p:blipFill>
          <a:blip r:embed="rId2"/>
          <a:stretch/>
        </p:blipFill>
        <p:spPr>
          <a:xfrm>
            <a:off x="1403280" y="2637000"/>
            <a:ext cx="5915160" cy="2447640"/>
          </a:xfrm>
          <a:prstGeom prst="rect">
            <a:avLst/>
          </a:prstGeom>
          <a:ln w="0">
            <a:noFill/>
          </a:ln>
        </p:spPr>
      </p:pic>
      <p:pic>
        <p:nvPicPr>
          <p:cNvPr id="104" name="Golden_Waltz.MP3" descr=""/>
          <p:cNvPicPr/>
          <p:nvPr/>
        </p:nvPicPr>
        <p:blipFill>
          <a:blip r:embed="rId3"/>
          <a:stretch/>
        </p:blipFill>
        <p:spPr>
          <a:xfrm>
            <a:off x="8064360" y="5778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8083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785880" y="566640"/>
            <a:ext cx="7499160" cy="1378080"/>
          </a:xfrm>
          <a:prstGeom prst="rect">
            <a:avLst/>
          </a:prstGeom>
          <a:ln w="0">
            <a:noFill/>
          </a:ln>
        </p:spPr>
      </p:pic>
      <p:grpSp>
        <p:nvGrpSpPr>
          <p:cNvPr id="106" name="TextBox 8"/>
          <p:cNvGrpSpPr/>
          <p:nvPr/>
        </p:nvGrpSpPr>
        <p:grpSpPr>
          <a:xfrm>
            <a:off x="4243320" y="2865600"/>
            <a:ext cx="4572000" cy="1493640"/>
            <a:chOff x="4243320" y="2865600"/>
            <a:chExt cx="4572000" cy="1493640"/>
          </a:xfrm>
        </p:grpSpPr>
        <p:pic>
          <p:nvPicPr>
            <p:cNvPr id="107" name="TextBox 8" descr=""/>
            <p:cNvPicPr/>
            <p:nvPr/>
          </p:nvPicPr>
          <p:blipFill>
            <a:blip r:embed="rId2"/>
            <a:stretch/>
          </p:blipFill>
          <p:spPr>
            <a:xfrm>
              <a:off x="4243320" y="2865600"/>
              <a:ext cx="45720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043600" y="2975040"/>
              <a:ext cx="36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2060"/>
                  </a:solidFill>
                  <a:latin typeface="Calibri"/>
                </a:rPr>
                <a:t>Ст. 52-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8" descr="Ð Ð°Ð±Ð¾ÑÐ°Ñ ÑÐµÑÑÐ°Ð´Ñ ÐÐ½ÑÐ¾ÑÐ¼Ð°ÑÐ¸ÐºÐ° 3 ÐºÐ»Ð°ÑÑ ÐÐ±Ð½Ð¾Ð²Ð»ÐµÐ½Ð½Ð°Ñ Ð¿ÑÐ¾Ð³ÑÐ°Ð¼Ð¼Ð° ÐÐ²Ñ: ÐÐ¾Ð¼Ð°ÐºÐ¾Ð²ÑÐºÐ°Ñ Ð. ÐÐ·Ð´-Ð²Ð¾: ÐÑÐ²ÑÑÐ° - ÐÐ½ÑÐµÑÐ½ÐµÑ-Ð¼Ð°Ð³Ð°Ð·Ð¸Ð½ Â«ÐÐ½Ð¸Ð³Ð¾Ð²Ð¾Â» Ð² Ð¥Ð°ÑÐºÐ¾Ð²Ñ"/>
          <p:cNvPicPr/>
          <p:nvPr/>
        </p:nvPicPr>
        <p:blipFill>
          <a:blip r:embed="rId3"/>
          <a:stretch/>
        </p:blipFill>
        <p:spPr>
          <a:xfrm>
            <a:off x="1332000" y="2166840"/>
            <a:ext cx="2706480" cy="284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785880" y="639720"/>
            <a:ext cx="7499160" cy="1096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ÐÐ°ÑÑÐ¸Ð½ÐºÐ¸ Ð¿Ð¾ Ð·Ð°Ð¿ÑÐ¾ÑÑ usuario y computadora png"/>
          <p:cNvPicPr/>
          <p:nvPr/>
        </p:nvPicPr>
        <p:blipFill>
          <a:blip r:embed="rId2"/>
          <a:stretch/>
        </p:blipFill>
        <p:spPr>
          <a:xfrm>
            <a:off x="2700360" y="1844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4:13:24Z</dcterms:created>
  <dc:creator>Comp</dc:creator>
  <dc:description/>
  <dc:language>en-US</dc:language>
  <cp:lastModifiedBy>frime</cp:lastModifiedBy>
  <dcterms:modified xsi:type="dcterms:W3CDTF">2019-01-10T09:07:08Z</dcterms:modified>
  <cp:revision>18</cp:revision>
  <dc:subject/>
  <dc:title>Слайд 1</dc:title>
</cp:coreProperties>
</file>