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7A93-448A-468C-8A9D-C2EC142E7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3919-F1CB-4EA0-91DC-918EA0CDE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4C6-3E16-4A7A-A2AA-E7C4433D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617-26F7-4BBC-83C3-09E909CC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6E5-8490-40B4-ABB2-0D48624C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CD0-ED3E-4C8F-8A39-CB292EC6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FB8-1A11-41F0-99EF-9D975DA8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AE2-F3A1-4C60-896C-AEE0A23F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80A-04CE-4352-AB62-067249FE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3DE-F498-40F9-BC25-E2DA62D9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D97-D2BA-4485-8B94-4AFF365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351-F934-4D52-AC83-27376C6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1E3-016B-4F5F-804A-B50D777D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525-9C8E-4482-85D2-2F3CDAE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D658-C7F9-41F1-A835-438892FC5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1763640" y="549360"/>
            <a:ext cx="4572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у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ід іменника. Іменник cпільного роду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64087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-тихо Оскіл воду несе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іж очеретами та верболо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ла-силенна невеличких озеречок, вкритих густою зеленою ряск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кільки там водяних лілей!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еречка і з'єднуються одне з одним вузенькими єрикам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рівна річка Оскі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кільки там диких кач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5587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ктант для « Шпигуна»</a:t>
            </a:r>
            <a:br>
              <a:rPr sz="3200"/>
            </a:br>
            <a:r>
              <a:rPr b="0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« Оскіл» за твором Остапа  Вишні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755640" y="458640"/>
            <a:ext cx="828036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ільки іменників у наведеному речен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мови рідної, юначе, й народу нашого не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жіть назви іст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щ, втікач, жаба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, книга, прищ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на, нападник, не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 великої букви пише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енники — загальні назви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енники — власні назви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енники — назви іст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якому рядку допущена помил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Карпати, шоколад «Корона»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я Українка, журнал Пізнайк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ка «Котигорошко», ріка Дніп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Укажіть іменник середнього р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фламінго;Б піаніно;В шимпан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Укажіть іменник спільного р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мазура;Б плавчиха;В кравчи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У якому рядку всі іменни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мінюван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істо, Сочі, коридор;Б пілот, пюре, море;В журі, шосе, ка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Укажіть власну наз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ніпро;Б печаль;В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11280" y="-17640"/>
            <a:ext cx="82818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ільки іменників у наведеному речен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мови рідної, юначе, й народу нашого не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жіть назви іст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щ, втікач, жаба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, книга, прищ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на, нападник, не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 великої букви пише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енники — загальні назви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енники — власні назви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енники — назви іст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якому рядку допущена помил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Карпати, шоколад «Корона»;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я Українка, журнал Пізнайк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ка «Котигорошко», ріка Дніп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Укажіть іменник середнього р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фламінго;Б піаніно;В шимпан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Укажіть іменник спільного р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мазура;Б плавчиха;В кравчи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У якому рядку всі іменни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мінюван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істо, Сочі, коридор;Б пілот, пюре, море;В журі, шосе, ка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Укажіть власну наз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ніпро;Б печаль;В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99ff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Знайдіть рядок з іменниками спільного ро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груша, лівша;Б ледащо, невдаха;В нероба, дів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 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менники спільного роду називаю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ят безвідносно до їхньої статі (немовля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н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іб як чоловічої, так і жіночої статі (сирота, плак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іб жіночої статі за професією (професор,          тока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55640" y="5103720"/>
            <a:ext cx="7920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Arial"/>
              </a:rPr>
              <a:t>Рефлекс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жити речення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Сьогодні на уроці я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Навчився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Зрозумів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Дізнавс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2432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КУЮ ЗА УВАГ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121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навчальна: </a:t>
            </a:r>
            <a:r>
              <a:rPr b="0" i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глибити знання учнів про рід іменник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формуват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няття про іменники спільног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ду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, сформувати  уміння визначати рід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езмінних іменникі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розвивальна: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звивати вміння школярів працюва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лективно та  самостій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звивати навички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ооперативного навчання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бота в  групах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виховна: </a:t>
            </a:r>
            <a:r>
              <a:rPr b="1" i="1" lang="uk-UA" sz="2000" spc="-1" strike="noStrike">
                <a:solidFill>
                  <a:srgbClr val="0070c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иховувати  цілеспрямованість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і почутт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ідповідальності за   загальну спра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иховувати пізнавальний інтерес та кращі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людські р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39640" y="501336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232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2952720" cy="3720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УСПІХ-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252720" y="1628640"/>
            <a:ext cx="86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68604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уміння працюв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- співробітниц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- подолання труднощ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І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- ініціати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- хороший настрій </a:t>
            </a: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мунікативний практику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менник – це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астина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ви, яка має значення дії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менники є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ласні й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гальн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менники поділяються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істоти i неіст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ласні ім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шуться з великої бук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 власних іменників належать тільки імена та прізвища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ільшість іменників мають форму однини i множ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.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менники в реченні є підметом i додат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.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менники змінюються за р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71640" y="5229360"/>
            <a:ext cx="28083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ЗПОДІЛЬН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кщо ви правильно виконали завдання, то з перших літер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читаєте початок прислів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  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“… </a:t>
            </a:r>
            <a:r>
              <a:rPr b="1" i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страшний”</a:t>
            </a:r>
            <a:r>
              <a:rPr b="1" i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ір, роман, четвірка, естакада, вікно, учень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пис, родина, насип, олово, іней, вапно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ономіка, діжа, йод, ілюзія, кош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зподільне 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.р.                         Ж.р.                                    С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55640" y="5084640"/>
            <a:ext cx="79930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бота з підруч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11280" y="1519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ацюйте с.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Що може бути показником р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Які іменники не мають р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ня вправи 23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27370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70c0"/>
                </a:solidFill>
                <a:latin typeface="Arial"/>
              </a:rPr>
              <a:t>Робота в пар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явіть життєву  ситуацію:  вам треба викликати лікаря для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омого, який застудився. Ви телефонуєте до лікарні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речі, номер-10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ладіть діалог (усно) 5-6 реплік, щоб звернутися д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чного працівника в цій ситуації. Використайте в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ннях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ь , нежить , кір , візит, лікар , бідолах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Будь сильним духом,    а. буде життя довш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аця - здоров’я,          б.а не новим кожу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ацюй  більше,            в.лінь-хвороб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оясніть зміст другого прислів’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тановіть відповідн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29098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ворч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читати. Замінити словосполучення і речення іменниками спільного 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Роботяща, працьовита людин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 Людина, яка говорить багато і беззмістовно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 Неуважна людин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Людина з дефектом мови, що полягає у невмінні правильно й чітко вимовляти деякі слова чи звуки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) Той, хто навчився чого-небудь самостійно, без учителя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) Той, хто мешкає поруч, поблизу кого-небуд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) Службовець пошти, який розносить кореспонденцію адресатам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для довідки: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стоноша, сусіда, самоучка, роззява,  базікало, недоріка, трудя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6:15:51Z</dcterms:created>
  <dc:creator>Lara</dc:creator>
  <dc:description/>
  <dc:language>en-US</dc:language>
  <cp:lastModifiedBy>Дмитрий Каленюк</cp:lastModifiedBy>
  <dcterms:modified xsi:type="dcterms:W3CDTF">2019-01-18T13:49:55Z</dcterms:modified>
  <cp:revision>19</cp:revision>
  <dc:subject/>
  <dc:title>Лінгвістична гра</dc:title>
</cp:coreProperties>
</file>