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19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0.png" ContentType="image/pn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5.png" ContentType="image/png"/>
  <Override PartName="/ppt/media/image35.png" ContentType="image/png"/>
  <Override PartName="/ppt/media/image20.jpeg" ContentType="image/jpeg"/>
  <Override PartName="/ppt/media/image12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FD6F-6035-4299-A25E-176FE88FCE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F8E3-3E5A-41A8-BEC1-774BD4BF37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93B9-38FD-4334-A6FB-C533C229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92D6-9296-416F-92D5-2C10A2B5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3A1-53ED-4756-AF41-D9ED8A4D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3C87-323A-47C0-976E-DBD64A28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4B8-CCE6-462D-90A3-71772021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08F5-3349-4666-A639-52891566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D28F-F94E-4D0A-9B52-1B65ED38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5619-D1CB-4BFE-B08F-6DCB42E2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545-9873-441F-9C89-810B93A5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C1A1-3772-4D4D-BA63-5C70324A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567E-4E12-42EC-851A-7A7AF579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BE1A-C59B-4D24-AE77-0841B8E8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1C02-7304-49D0-8D34-9DAD676A86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3214800" y="3357720"/>
            <a:ext cx="1571400" cy="3500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4786200" y="3357720"/>
            <a:ext cx="1571760" cy="3500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Равнобедренный треугольник 3"/>
          <p:cNvSpPr/>
          <p:nvPr/>
        </p:nvSpPr>
        <p:spPr>
          <a:xfrm>
            <a:off x="2643120" y="1857240"/>
            <a:ext cx="4286160" cy="150048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4" descr=""/>
          <p:cNvPicPr/>
          <p:nvPr/>
        </p:nvPicPr>
        <p:blipFill>
          <a:blip r:embed="rId5"/>
          <a:stretch/>
        </p:blipFill>
        <p:spPr>
          <a:xfrm>
            <a:off x="2382840" y="835200"/>
            <a:ext cx="4700520" cy="313992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6"/>
          <a:stretch/>
        </p:blipFill>
        <p:spPr>
          <a:xfrm>
            <a:off x="1865160" y="3054240"/>
            <a:ext cx="4097520" cy="35355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6" descr=""/>
          <p:cNvPicPr/>
          <p:nvPr/>
        </p:nvPicPr>
        <p:blipFill>
          <a:blip r:embed="rId7"/>
          <a:stretch/>
        </p:blipFill>
        <p:spPr>
          <a:xfrm>
            <a:off x="3651120" y="3127320"/>
            <a:ext cx="409752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3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3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3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3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2" descr="mishka_gammi_240x320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5054760" y="1857240"/>
            <a:ext cx="4089240" cy="54532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images1.jp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-142920" y="2428920"/>
            <a:ext cx="4429080" cy="44290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1935886_3_3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grpSp>
        <p:nvGrpSpPr>
          <p:cNvPr id="83" name="Группа 28"/>
          <p:cNvGrpSpPr/>
          <p:nvPr/>
        </p:nvGrpSpPr>
        <p:grpSpPr>
          <a:xfrm>
            <a:off x="285840" y="1499760"/>
            <a:ext cx="8643960" cy="4358160"/>
            <a:chOff x="285840" y="1499760"/>
            <a:chExt cx="8643960" cy="4358160"/>
          </a:xfrm>
        </p:grpSpPr>
        <p:sp>
          <p:nvSpPr>
            <p:cNvPr id="84" name="Прямая соединительная линия 6"/>
            <p:cNvSpPr/>
            <p:nvPr/>
          </p:nvSpPr>
          <p:spPr>
            <a:xfrm>
              <a:off x="285840" y="3000240"/>
              <a:ext cx="3786120" cy="285768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Прямая соединительная линия 8"/>
            <p:cNvSpPr/>
            <p:nvPr/>
          </p:nvSpPr>
          <p:spPr>
            <a:xfrm flipV="1">
              <a:off x="4071960" y="1499760"/>
              <a:ext cx="4857840" cy="43578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Прямая соединительная линия 10"/>
            <p:cNvSpPr/>
            <p:nvPr/>
          </p:nvSpPr>
          <p:spPr>
            <a:xfrm flipV="1">
              <a:off x="285840" y="1499760"/>
              <a:ext cx="8643960" cy="150012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Прямая соединительная линия 13"/>
            <p:cNvSpPr/>
            <p:nvPr/>
          </p:nvSpPr>
          <p:spPr>
            <a:xfrm flipH="1">
              <a:off x="2428920" y="2643120"/>
              <a:ext cx="71280" cy="200016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Прямая соединительная линия 15"/>
            <p:cNvSpPr/>
            <p:nvPr/>
          </p:nvSpPr>
          <p:spPr>
            <a:xfrm>
              <a:off x="6572520" y="1928520"/>
              <a:ext cx="1285920" cy="57132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Прямая соединительная линия 17"/>
            <p:cNvSpPr/>
            <p:nvPr/>
          </p:nvSpPr>
          <p:spPr>
            <a:xfrm>
              <a:off x="2500200" y="2643120"/>
              <a:ext cx="1928880" cy="85716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Прямая соединительная линия 19"/>
            <p:cNvSpPr/>
            <p:nvPr/>
          </p:nvSpPr>
          <p:spPr>
            <a:xfrm>
              <a:off x="4428360" y="3500280"/>
              <a:ext cx="571320" cy="150012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Прямая соединительная линия 26"/>
            <p:cNvSpPr/>
            <p:nvPr/>
          </p:nvSpPr>
          <p:spPr>
            <a:xfrm flipV="1">
              <a:off x="4429080" y="2214360"/>
              <a:ext cx="2714400" cy="128592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Прямоугольник 1" descr=""/>
          <p:cNvPicPr/>
          <p:nvPr/>
        </p:nvPicPr>
        <p:blipFill>
          <a:blip r:embed="rId2"/>
          <a:stretch/>
        </p:blipFill>
        <p:spPr>
          <a:xfrm>
            <a:off x="841320" y="182520"/>
            <a:ext cx="7912080" cy="36511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" descr="солнішко1.png"/>
          <p:cNvPicPr/>
          <p:nvPr/>
        </p:nvPicPr>
        <p:blipFill>
          <a:blip r:embed="rId3"/>
          <a:stretch/>
        </p:blipFill>
        <p:spPr>
          <a:xfrm>
            <a:off x="7072200" y="2432160"/>
            <a:ext cx="2416320" cy="4425840"/>
          </a:xfrm>
          <a:prstGeom prst="rect">
            <a:avLst/>
          </a:prstGeom>
          <a:ln w="0">
            <a:noFill/>
          </a:ln>
        </p:spPr>
      </p:pic>
      <p:sp>
        <p:nvSpPr>
          <p:cNvPr id="94" name="Арка 4"/>
          <p:cNvSpPr/>
          <p:nvPr/>
        </p:nvSpPr>
        <p:spPr>
          <a:xfrm rot="9657000">
            <a:off x="7927200" y="3769920"/>
            <a:ext cx="428760" cy="50004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Группа 5"/>
          <p:cNvGrpSpPr/>
          <p:nvPr/>
        </p:nvGrpSpPr>
        <p:grpSpPr>
          <a:xfrm>
            <a:off x="0" y="2571840"/>
            <a:ext cx="1785960" cy="4286160"/>
            <a:chOff x="0" y="2571840"/>
            <a:chExt cx="1785960" cy="4286160"/>
          </a:xfrm>
        </p:grpSpPr>
        <p:pic>
          <p:nvPicPr>
            <p:cNvPr id="55" name="Рисунок 2" descr="6e5254561924.jpg"/>
            <p:cNvPicPr/>
            <p:nvPr/>
          </p:nvPicPr>
          <p:blipFill>
            <a:blip r:embed="rId1"/>
            <a:srcRect l="0" t="0" r="60003" b="0"/>
            <a:stretch/>
          </p:blipFill>
          <p:spPr>
            <a:xfrm>
              <a:off x="0" y="2571840"/>
              <a:ext cx="171468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Прямоугольник 4"/>
            <p:cNvSpPr/>
            <p:nvPr/>
          </p:nvSpPr>
          <p:spPr>
            <a:xfrm>
              <a:off x="1285920" y="3500280"/>
              <a:ext cx="500040" cy="35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Группа 7"/>
          <p:cNvGrpSpPr/>
          <p:nvPr/>
        </p:nvGrpSpPr>
        <p:grpSpPr>
          <a:xfrm>
            <a:off x="6858000" y="2571840"/>
            <a:ext cx="2286000" cy="4286160"/>
            <a:chOff x="6858000" y="2571840"/>
            <a:chExt cx="2286000" cy="4286160"/>
          </a:xfrm>
        </p:grpSpPr>
        <p:pic>
          <p:nvPicPr>
            <p:cNvPr id="58" name="Рисунок 3" descr="6e5254561924.jpg"/>
            <p:cNvPicPr/>
            <p:nvPr/>
          </p:nvPicPr>
          <p:blipFill>
            <a:blip r:embed="rId2"/>
            <a:srcRect l="48119" t="0" r="0" b="0"/>
            <a:stretch/>
          </p:blipFill>
          <p:spPr>
            <a:xfrm>
              <a:off x="6919560" y="2571840"/>
              <a:ext cx="222444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Прямоугольник 6"/>
            <p:cNvSpPr/>
            <p:nvPr/>
          </p:nvSpPr>
          <p:spPr>
            <a:xfrm>
              <a:off x="6858000" y="3500280"/>
              <a:ext cx="50004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Рисунок 8" descr="a4f939e7bcdba5e794f975b1921.jpg"/>
          <p:cNvPicPr/>
          <p:nvPr/>
        </p:nvPicPr>
        <p:blipFill>
          <a:blip r:embed="rId3"/>
          <a:stretch/>
        </p:blipFill>
        <p:spPr>
          <a:xfrm>
            <a:off x="1643040" y="1714680"/>
            <a:ext cx="5367240" cy="514332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9" descr=""/>
          <p:cNvPicPr/>
          <p:nvPr/>
        </p:nvPicPr>
        <p:blipFill>
          <a:blip r:embed="rId4"/>
          <a:stretch/>
        </p:blipFill>
        <p:spPr>
          <a:xfrm>
            <a:off x="-665280" y="450720"/>
            <a:ext cx="3017880" cy="253692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0" descr=""/>
          <p:cNvPicPr/>
          <p:nvPr/>
        </p:nvPicPr>
        <p:blipFill>
          <a:blip r:embed="rId5"/>
          <a:stretch/>
        </p:blipFill>
        <p:spPr>
          <a:xfrm>
            <a:off x="6692760" y="378000"/>
            <a:ext cx="301788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Прямоугольник 1" descr=""/>
          <p:cNvPicPr/>
          <p:nvPr/>
        </p:nvPicPr>
        <p:blipFill>
          <a:blip r:embed="rId2"/>
          <a:stretch/>
        </p:blipFill>
        <p:spPr>
          <a:xfrm>
            <a:off x="2487600" y="-208080"/>
            <a:ext cx="60278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2" descr="1f6f8afa2ffb4626983b8b81a1abf20c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3071880"/>
            <a:ext cx="7157880" cy="37861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apple_0515-0910-2901-1811_SMU.jpg"/>
          <p:cNvPicPr/>
          <p:nvPr/>
        </p:nvPicPr>
        <p:blipFill>
          <a:blip r:embed="rId3"/>
          <a:stretch/>
        </p:blipFill>
        <p:spPr>
          <a:xfrm rot="1744800">
            <a:off x="5246280" y="1389240"/>
            <a:ext cx="2957400" cy="29574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" descr="images.jpg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6572160" y="3772080"/>
            <a:ext cx="2571840" cy="30859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images.jpg"/>
          <p:cNvPicPr/>
          <p:nvPr/>
        </p:nvPicPr>
        <p:blipFill>
          <a:blip r:embed="rId5">
            <a:lum bright="-10000"/>
          </a:blip>
          <a:stretch/>
        </p:blipFill>
        <p:spPr>
          <a:xfrm>
            <a:off x="-2571840" y="0"/>
            <a:ext cx="2571840" cy="30862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5" descr=""/>
          <p:cNvPicPr/>
          <p:nvPr/>
        </p:nvPicPr>
        <p:blipFill>
          <a:blip r:embed="rId6"/>
          <a:stretch/>
        </p:blipFill>
        <p:spPr>
          <a:xfrm>
            <a:off x="-1566720" y="-933480"/>
            <a:ext cx="12052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0.19894 C 0.00972 0.18969 0.0158 0.17789 0.0224 0.16864 C 0.02379 0.16655 0.03212 0.16355 0.0323 0.16355 C 0.03907 0.15383 0.04671 0.15291 0.05417 0.14874 C 0.05903 0.14597 0.06407 0.1418 0.06928 0.13857 C 0.14931 0.14088 0.12761 0.13857 0.1724 0.15106 C 0.18108 0.16309 0.18178 0.18228 0.18716 0.19894 C 0.18959 0.21421 0.19202 0.22901 0.19428 0.24428 C 0.20001 0.23688 0.20504 0.22878 0.21146 0.22439 C 0.21459 0.21768 0.21858 0.20912 0.2224 0.20403 C 0.23438 0.18761 0.21771 0.21652 0.22987 0.1964 C 0.23577 0.18622 0.24185 0.17604 0.24948 0.17141 C 0.25678 0.15962 0.26407 0.158 0.27257 0.15337 C 0.28073 0.14874 0.29202 0.13741 0.30053 0.13579 C 0.31181 0.13394 0.32327 0.13417 0.3349 0.13348 C 0.34862 0.13417 0.36251 0.13301 0.37639 0.13579 C 0.38073 0.13671 0.39775 0.15059 0.40191 0.15846 C 0.40764 0.16817 0.41025 0.18275 0.4165 0.19154 C 0.41928 0.20264 0.42431 0.21259 0.42639 0.22439 C 0.42935 0.24104 0.43369 0.25978 0.43855 0.27481 C 0.44237 0.26302 0.44931 0.25723 0.45556 0.25214 C 0.46146 0.23341 0.47205 0.22115 0.48004 0.20634 C 0.48525 0.19709 0.48733 0.18761 0.49341 0.18136 C 0.50087 0.158 0.51511 0.14782 0.52657 0.13579 C 0.5323 0.12954 0.53698 0.1226 0.54341 0.11821 C 0.54757 0.10965 0.55053 0.10942 0.55573 0.10549 C 0.57431 0.10687 0.59323 0.10803 0.61198 0.11058 C 0.61615 0.11081 0.62292 0.1233 0.62292 0.12376 C 0.62605 0.13301 0.63091 0.13741 0.63507 0.14597 C 0.63751 0.1617 0.6441 0.17049 0.64844 0.1839 C 0.65278 0.19709 0.65678 0.21074 0.66077 0.22439 C 0.66928 0.25353 0.66494 0.23179 0.66806 0.24937 C 0.67292 0.23965 0.67761 0.23618 0.6816 0.22439 C 0.68195 0.21513 0.68195 0.20565 0.68264 0.1964 C 0.68316 0.19038 0.68507 0.17881 0.68507 0.17905 C 0.68594 0.16031 0.68716 0.1418 0.68751 0.1233 C 0.68889 0.07079 0.68438 0.05853 0.69254 0.02476 C 0.69462 0.00509 0.6981 -0.02984 0.70348 -0.04603 C 0.70938 -0.06453 0.71546 -0.07841 0.7231 -0.09391 C 0.72431 -0.09669 0.72431 -0.10085 0.72553 -0.10409 C 0.72813 -0.11103 0.73108 -0.11728 0.73403 -0.12398 C 0.74549 -0.15012 0.75816 -0.17233 0.7731 -0.18991 C 0.78473 -0.20356 0.79549 -0.22021 0.80851 -0.22738 C 0.81563 -0.22461 0.82275 -0.22068 0.82917 -0.21258 C 0.83785 -0.20148 0.83056 -0.20772 0.83768 -0.2024 C 0.84167 -0.19014 0.84948 -0.18528 0.85487 -0.17464 C 0.85747 -0.16377 0.85886 -0.16053 0.86441 -0.15706 C 0.87136 -0.15984 0.8731 -0.16215 0.87813 -0.17187 C 0.88004 -0.18552 0.88264 -0.19569 0.88664 -0.20749 C 0.88941 -0.226 0.89775 -0.23109 0.90626 -0.23479 C 0.93143 -0.27087 0.96146 -0.23456 0.98664 -0.22253 C 0.99271 -0.21628 1.00105 -0.21165 1.00608 -0.2024 C 1.01771 -0.18135 1.02639 -0.1566 1.03664 -0.13416 C 1.0382 -0.11843 1.04219 -0.11265 1.04653 -0.099 C 1.04723 -0.09623 1.04896 -0.09114 1.04896 -0.09067 C 1.04931 -0.08882 1.05018 -0.08373 1.05018 -0.08327 E">
                                      <p:cBhvr>
                                        <p:cTn id="7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93HBLNCAYGDD7HCATLDO9NCAWXV3B0CA6F2ZD2CAN4KLGLCAYYMPKNCAAMAN1SCAB1IFBCCABE1UM4CA1PUEVCCA8YB7P8CAWIF20PCAAWIFYLCA1DFJHECANLHNCJCABIZLQ3CAU7U5BBCAUCO7K1CAKOFAP5.jpg"/>
          <p:cNvPicPr/>
          <p:nvPr/>
        </p:nvPicPr>
        <p:blipFill>
          <a:blip r:embed="rId2"/>
          <a:srcRect l="0" t="0" r="0" b="9925"/>
          <a:stretch/>
        </p:blipFill>
        <p:spPr>
          <a:xfrm>
            <a:off x="0" y="0"/>
            <a:ext cx="910584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3" descr=""/>
          <p:cNvPicPr/>
          <p:nvPr/>
        </p:nvPicPr>
        <p:blipFill>
          <a:blip r:embed="rId3"/>
          <a:stretch/>
        </p:blipFill>
        <p:spPr>
          <a:xfrm>
            <a:off x="268200" y="-208080"/>
            <a:ext cx="726624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3f70793e2fda.jpg"/>
          <p:cNvPicPr/>
          <p:nvPr/>
        </p:nvPicPr>
        <p:blipFill>
          <a:blip r:embed="rId2"/>
          <a:srcRect l="0" t="0" r="7522" b="0"/>
          <a:stretch/>
        </p:blipFill>
        <p:spPr>
          <a:xfrm>
            <a:off x="-142920" y="10787040"/>
            <a:ext cx="9144000" cy="74152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4a240bd5d13a5f4be67785e9e41.jpg"/>
          <p:cNvPicPr/>
          <p:nvPr/>
        </p:nvPicPr>
        <p:blipFill>
          <a:blip r:embed="rId3"/>
          <a:stretch/>
        </p:blipFill>
        <p:spPr>
          <a:xfrm>
            <a:off x="2786040" y="185724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4a240bd5d13a5f4be67785e9e41.jpg"/>
          <p:cNvPicPr/>
          <p:nvPr/>
        </p:nvPicPr>
        <p:blipFill>
          <a:blip r:embed="rId4"/>
          <a:stretch/>
        </p:blipFill>
        <p:spPr>
          <a:xfrm>
            <a:off x="2786040" y="235728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4a240bd5d13a5f4be67785e9e41.jpg"/>
          <p:cNvPicPr/>
          <p:nvPr/>
        </p:nvPicPr>
        <p:blipFill>
          <a:blip r:embed="rId5"/>
          <a:stretch/>
        </p:blipFill>
        <p:spPr>
          <a:xfrm>
            <a:off x="3429000" y="228600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0006-010-Stolovyj-nozh.jpg"/>
          <p:cNvPicPr/>
          <p:nvPr/>
        </p:nvPicPr>
        <p:blipFill>
          <a:blip r:embed="rId6"/>
          <a:stretch/>
        </p:blipFill>
        <p:spPr>
          <a:xfrm>
            <a:off x="3714840" y="3214800"/>
            <a:ext cx="2143080" cy="15397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6" descr="0006-010-Stolovyj-nozh.jpg"/>
          <p:cNvPicPr/>
          <p:nvPr/>
        </p:nvPicPr>
        <p:blipFill>
          <a:blip r:embed="rId7"/>
          <a:stretch/>
        </p:blipFill>
        <p:spPr>
          <a:xfrm>
            <a:off x="3867120" y="3532320"/>
            <a:ext cx="2143080" cy="1539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7" descr="0006-010-Stolovyj-nozh.jpg"/>
          <p:cNvPicPr/>
          <p:nvPr/>
        </p:nvPicPr>
        <p:blipFill>
          <a:blip r:embed="rId8"/>
          <a:stretch/>
        </p:blipFill>
        <p:spPr>
          <a:xfrm>
            <a:off x="4071960" y="3889440"/>
            <a:ext cx="2143080" cy="153972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8" descr=""/>
          <p:cNvPicPr/>
          <p:nvPr/>
        </p:nvPicPr>
        <p:blipFill>
          <a:blip r:embed="rId9"/>
          <a:stretch/>
        </p:blipFill>
        <p:spPr>
          <a:xfrm>
            <a:off x="-1219320" y="3676680"/>
            <a:ext cx="11674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Прямоугольник 1" descr=""/>
          <p:cNvPicPr/>
          <p:nvPr/>
        </p:nvPicPr>
        <p:blipFill>
          <a:blip r:embed="rId2"/>
          <a:stretch/>
        </p:blipFill>
        <p:spPr>
          <a:xfrm>
            <a:off x="-1962000" y="1925640"/>
            <a:ext cx="1302696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1:34:22Z</dcterms:created>
  <dc:creator>Администратор</dc:creator>
  <dc:description/>
  <dc:language>en-US</dc:language>
  <cp:lastModifiedBy>Admin</cp:lastModifiedBy>
  <dcterms:modified xsi:type="dcterms:W3CDTF">2012-11-29T20:00:51Z</dcterms:modified>
  <cp:revision>28</cp:revision>
  <dc:subject/>
  <dc:title>Слайд 1</dc:title>
</cp:coreProperties>
</file>