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laser.wav" ContentType="audio/x-wav"/>
  <Override PartName="/ppt/media/cashreg.wav" ContentType="audio/x-wav"/>
  <Override PartName="/ppt/media/applause.wav" ContentType="audio/x-wav"/>
  <Override PartName="/ppt/media/image10.png" ContentType="image/png"/>
  <Override PartName="/ppt/media/image5.png" ContentType="image/png"/>
  <Override PartName="/ppt/media/push.wav" ContentType="audio/x-wav"/>
  <Override PartName="/ppt/media/image3.jpeg" ContentType="image/jpeg"/>
  <Override PartName="/ppt/media/image8.png" ContentType="image/png"/>
  <Override PartName="/ppt/media/image4.jpeg" ContentType="image/jpeg"/>
  <Override PartName="/ppt/media/suction.wav" ContentType="audio/x-wav"/>
  <Override PartName="/ppt/media/image2.png" ContentType="image/png"/>
  <Override PartName="/ppt/media/chimes.wav" ContentType="audio/x-wav"/>
  <Override PartName="/ppt/media/wind.wav" ContentType="audio/x-wav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691-CB02-4B8D-8B59-4E02857D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012-76C1-40A3-90BB-F10D55DA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289C-6ADA-4F5A-A426-52F4C571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7BC7A-0B70-4FDF-BF77-B1300E5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3482-D404-49F1-9595-4DC6F61F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F5A8C-8ED3-4C4B-A116-6BFA9B0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1E999-4507-45F9-9C1B-2504DD5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96CEC-AE25-44ED-A968-EB61ECC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305E6-2E38-4C63-A026-81DE4DA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AABF6-BB4E-4C0B-A1E1-34126E0D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BB998-D225-4C0B-B5E3-6100081F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3BCBEB-2DDF-4993-8362-6DE3A9CF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AB3-09DA-4731-B911-792716D9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1BA47A-188E-4BF5-82FE-C57B7D2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7A1B44-962A-43E0-979A-71E865A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955A5-AB90-4283-89BD-B2D6E96D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D1571D-1A45-4191-AC5B-AC6CA6B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E8D2D5-4EB3-4182-80A0-CAF94BE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49323-D500-40DE-B529-534F582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EEF208-5A8E-469C-AB64-AC4C703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3B0F0-D55A-4340-AD73-60BF8D12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6C67E-44DA-4AE2-99D5-E26987D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4A20FA-3598-4703-A4DD-76B1C7F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426-CF25-4C3D-972B-28D4C29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4E1F4-210B-468F-A1EA-976A23A3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6469B-1C3E-4EC6-80BE-288CC671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DFA7D-2B06-41C2-AEE1-05D86C1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37C33-89AC-4D5F-B7E1-2FE156A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F4AA-006D-4F48-A6E4-62D0F74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E041-BCE1-4FA5-A3D0-A630B50E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3D320-CC0F-4E3F-A726-B6CCD011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7F323-D504-4D6B-BAB8-CB9E7A5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593D-BC72-4108-9A02-129FCC3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6E6ED-6F36-4F4D-9BA6-A64D0AA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6E61-0B94-4766-9FA7-92ED7EA0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4D5D-F773-4CFD-A480-9F1A88B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E871-D2E0-46BE-9D1D-8A95BB56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A950-E030-41E6-82C1-C1BF8DCA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A2270-2F8F-49B9-AEA5-79F4365D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D6FD6-FECC-4629-B36B-B2AE53D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BDBEB-E551-4015-AB47-C66BA7D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7E97C-34DC-4AAB-9738-0F51944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87FB6-7DD0-4CB9-B5C5-2C4F5BE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79800-4066-4FB0-9F9A-C8C2C7E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B590B-396D-4747-B827-DDF63B4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448-8200-4BA4-AB72-ED79A8E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88AD8-4A30-4129-A42B-5A88AB1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28716-2742-4DD0-B819-9AEE008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D0C1A-D532-4919-8810-DF3E87A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95AE8-431B-4AAE-BC6D-C1F5184B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BAABF-D317-41D0-A96A-F3B9A4F1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6B034-1385-4E3D-A21A-601215F8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02510-3058-4D82-8F2D-BAC16D7D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E0686-AD87-47CA-A3A3-8FA4556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3A6B2-A787-4699-A55E-E8E9F74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F77D1-5590-4F94-B7CF-684BB5A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189-A581-46ED-9B1A-70E1D41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0C95C-0DFF-4399-A605-E496947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1557F-102B-4BBB-8046-824C7C0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70266-8AB0-45A5-966F-E4CEA5D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0495F-B73E-47C9-B0C0-06D9169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DDBBD-5C31-408D-B7E9-B2AAB3F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16C3A-8E49-4832-99F6-551ADD2F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D1A2C-8A58-476C-9C99-33E16249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7D312-CACA-4D73-8349-E7E5251C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328AF-59B4-4595-A812-14B3B0D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0374B-218D-4C8E-B911-8B56BCB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AF8F-4E8F-43B7-BED3-B4722C1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1368D-1DC2-4E11-B114-EB98098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EB77B-C80D-4808-9255-0C613BD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2AE21-294D-4682-B7BF-6E6AACC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517C4-25B4-4039-80C2-9625CB5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19B7F-084B-4DE5-9768-7BCD7FA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8514-5B22-40F2-A3DF-28D78636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4A1CF-CD0F-4E05-A563-5EF3AA3A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7A2BF-FD68-4258-ADED-54E4B844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48A51-9681-47C8-97BB-B639121D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AC3C7-693D-46E6-BF02-ACF501FA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462-26AB-4038-B26C-C2037EA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21C69-E70D-408A-B95C-F72ADEC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67370-66B0-4167-81A3-748C8CB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1E121-A8BF-40DC-8D29-BE83FC3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186F2-C9C0-42B7-B526-58E25F0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E89AC-2271-4165-BCE3-F621ED0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25AD6-1614-403E-8DBD-E8F30F7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02031-615F-45A1-BCAC-B19D412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FDD20-31DD-4BC1-A0C6-187536F3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709D1-1FB2-487F-AFC3-FFF6060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59FDA-8423-41A7-A8E7-13FB96F2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4F5-5807-4D0A-AAA6-7F1C7EE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CB37D-82DB-459A-A20A-CD4D9AB2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EFD97-AA35-4059-BBAF-B4E2B78F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C8C00-E90C-4096-9F5D-705DBD9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9F711-4F1D-4E51-B423-BDA27CD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583C1-018E-4E97-8C04-0FA83DEF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DCB79-9E8A-4F3C-B5C9-D029A9AE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D9B64-3A10-42BD-96DE-D80F780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77941-7092-4061-AD49-529FC39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93C28-93CC-45E2-8BED-25AA50E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0B292-7DC1-4599-99FF-AED4E60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F79-EA9D-4073-B847-C2CC1B7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43E6E-B8CC-4347-889E-5CC1E7B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AEE23-0BB8-4945-B827-0149E915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1EA3B-5F7F-424B-8B60-4DB6501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C8FA8-EB24-4E8C-8E9A-543B3255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8998A-5DBE-4227-87C7-2564A22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C165D-DB4F-4CE7-BAA2-5AF3EC5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E8A44-D440-4C10-8124-BC518F43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A5AAA-575E-42A1-9B3B-A7284DC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D3C31-B431-4328-B94B-621B2F0E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56BCC-0FB9-4589-8C28-2F9ECED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DDC-D78C-443D-922B-949B01E8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ACE3-6D3A-473B-8F70-7F4645C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57A60-12F6-4485-A6EE-F8DA623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8A273-29BE-4569-8593-1B25B61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0A24A-4ADE-4352-BBA1-09D69EB3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D6C8A-85B4-4D88-9F6B-7855B383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488E1-9043-413C-86DB-699E65C9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62B17-7F82-4BBB-BD27-D8176B3C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D9500-03C8-401F-A074-DFC0A8D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3D979-7CCF-4EE0-B6C8-F0F429A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0F5B6-3EED-4803-BAED-6705E391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4A87B-8F71-4FD4-89D6-D50EDB38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BD9A-0F66-442F-8C2B-2296B2D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D45C3-AE5B-4EBE-B86B-2A2324B9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E97D8-2038-4A94-A5EE-C832CBD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B4B98-F873-4BC3-B02C-7636999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4EEBB-F9DE-49CF-95EE-2A24E24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BDA38-3442-4206-B852-A710FD3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BB1FE-4684-4507-A839-B3FF2A5F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0D09A-F173-4A99-A496-7DB1B036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5935-9599-4191-BC27-339A8FC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AA89-E844-4873-832D-B87BAB0E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8667-0EE5-4DDB-BAF7-1EF495DB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954E-4193-449D-BB58-5EEEF9FB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1B8C-78C6-4FDE-8819-C036E668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7BAB-3A05-4248-AA91-27C9013B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EEFC-E449-45F5-8F3A-DB42498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A469-1813-471C-852C-9A96083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17A-D137-41B3-82A6-02D0370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1E93-1343-451D-B00F-27445C3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F673-0D32-4A6F-B63F-A87490A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A646-3DF9-4554-A43A-823EE36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687A-B117-4E01-AF82-E3583BD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4468-AF5F-45FE-A42D-E5472F6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81A2-4E25-4A8F-82B9-609951F9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E51A-107E-46C6-8ECF-D3C7459A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A813-B325-4F57-B3C3-BBE6CBB3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1C03-7AF7-426A-8566-2E48DDB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6BFB-6D38-426E-8255-BDDB6B1E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34A-F0CF-4BD7-8A49-0385F64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767F-2718-47BE-83D9-DED6779F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8296-B8FD-467E-A7C0-55D7212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3BDE-DED3-4BC5-B5AA-E47B3D0A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6575-0900-4F2B-A028-FAE465A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B736-9E1E-4D6F-B978-D70A9AE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FA8C-4A6E-4752-944B-D13F24B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4F5F-4319-4BB7-8295-75E80503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12A7-A462-47D3-8078-94A09AFE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AF29-5257-415E-BA18-19B35784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1024F-1F8B-46AD-BF9A-856DC0D5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985-C898-4621-BB10-54ACCEE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A3B2B-92C3-42B9-89F2-2A817E7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AABBD-9051-46C8-AEC2-091F6A9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E5D66-B38E-40C4-8EA3-52079C0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72EBC-F24A-4D67-95BC-148A0DD4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A45BC-3E35-4BD2-A4E5-7589D7D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F21AC-0B1A-4946-A241-9215BE9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AECDF-819C-4AD4-8840-7400314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D64DD-AE95-48AC-8192-C4FC84B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4A0EB-3F2D-43D8-916D-ED50B0C7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4FEBD-44F7-4612-AEEE-28ED9746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EBB-0979-4815-BC0B-7387039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2D37B-DA29-41E6-90D0-B1E4931E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A9A4-2741-4050-9EB6-3609584E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3942-E5F5-4BB1-9913-C36450CE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4F68-0FA1-4C33-A0F6-6588D01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64C5D-35A8-49BB-99F7-EA2CBA23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3ABA-8D23-478B-BA2A-BF281B8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BEB4-27FD-4706-8BF2-63FC5EC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9FB8-3A30-4003-B120-D9AE040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2781-73DD-47EE-BA36-10270B2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18EE-78CD-4D41-84D5-5E1F5E3C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6E2-A866-47A5-8152-84845D0C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029D-162D-4DE9-970E-795B0642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3760-3CCF-46F7-84A5-27DE1740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8E6B-ACAC-4A08-B824-13C7948C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6F46-52F0-43AB-BE07-4B79BF8B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C081-EF9B-4BBC-81FD-BF2036A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E39F-C88D-47AD-AF1A-5C217B5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01BE-AF4B-4FB6-A3D6-D6C5F8A9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9BDC-7B12-4081-B044-6D1557F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4422-6BAD-4582-8B13-3D07FCD1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CF59-CBA8-4A80-9306-6739D6D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7DC-5B27-4466-B169-CA5A1CB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618D0-2B30-4BB8-B9C0-3D5F4438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1966-5D91-45EC-8064-0C15BBA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4962E-7255-4C93-A391-14ECCDC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CF79-5149-4A49-AC43-7E37A29C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C6F3-C640-4027-848F-AC0918AD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BDDC-3D56-40C9-B93C-9BE97DD4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46EB-910F-42EE-A7F7-9BA1AEF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1349-E94F-4FDD-A2D1-FAC146E3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7FD2-C228-4B2C-B0FE-D38D0B0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8CCFB-6AC7-40CF-A046-B9CBB3D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0D2-9C9D-44D1-9453-62B2843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EF9B-1AB4-46B0-93E8-C65B531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5864-2902-4C03-A355-EB406BC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B0C9-44FF-4717-87C3-71EC70A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60BA0-4AC7-424B-81BB-8831489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5611-EDB0-4E58-86D7-FC2B75C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0821C-0DC6-4ABB-89B2-C809A17D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35A8C-6AC3-4CE1-8FE9-1ABC99BF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A4CCF-A4C9-4F7F-BC92-3537F1E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46D80-D870-427D-BD25-B6AF910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18E16-7600-4356-887C-E12D896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3E8-9FCF-460B-8B06-F8F4C0701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0FF0-E909-45A9-9233-0BA31804D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8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8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8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8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8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8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9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9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9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9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0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0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0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0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1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1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1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2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2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2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3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3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3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3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4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4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4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5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5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05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5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5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6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6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6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7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7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7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8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8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8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8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8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08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8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9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09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09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9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7B3E-B598-4D8C-809D-8DE68A8AEEA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155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156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157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58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159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0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1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162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163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164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165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166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167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8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9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0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1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2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3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4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5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6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7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8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9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0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1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2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3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4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5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6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7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8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9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0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1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2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3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4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5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6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7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8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9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0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1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2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1203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204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05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06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07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08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09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0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1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2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3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4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215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216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7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8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9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0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1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2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3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4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5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6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7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8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9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0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1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2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3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4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5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6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7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8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9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0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1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2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3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4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5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6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7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8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9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0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1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52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253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4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55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256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7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8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9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0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1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2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3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4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265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266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7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8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9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0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1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72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273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4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5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6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7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BB5D-9B51-4C10-B70F-CDB7FE57F0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2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2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2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2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2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E9CE-D19E-48BC-AE0F-3AB570B0C5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37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9AF-9FB0-48C7-ACDE-A0B9AEB821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3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43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6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7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7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8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8BA-72B3-4427-8499-1C0A2C13FF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3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4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5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5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7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0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A31-74A8-4BA6-9A2E-AD4BE4ED9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4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5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5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9B5-EB45-4055-92E6-9A25E42EAE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4FDE-5761-42CD-BE06-80FF6BB57E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7D6-8516-4DC2-BAB4-9BDBB89C935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18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19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2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1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2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25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2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27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2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29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3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5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66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67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68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69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0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1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2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3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4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6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7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78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27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1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1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1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1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2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2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35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336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7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8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9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4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5578-B078-47A3-9E18-ECEC5470AB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8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8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3EC-B17A-4BEC-949F-8AC285907B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73C1-CED6-4B2F-8900-BE7C239609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4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6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9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9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2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2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4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A170-9C73-4036-BA0B-9D543DBDD9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3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CC5-1AB3-4022-AAEB-263076568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2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8AF-589B-49AA-A973-EDF07DEC52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2057-0EB2-4030-88B6-00EC633450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Picture 4" descr="рис"/>
          <p:cNvPicPr/>
          <p:nvPr/>
        </p:nvPicPr>
        <p:blipFill>
          <a:blip r:embed="rId1"/>
          <a:stretch/>
        </p:blipFill>
        <p:spPr>
          <a:xfrm>
            <a:off x="0" y="-1539720"/>
            <a:ext cx="9144000" cy="1008036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9308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99"/>
                </a:solidFill>
                <a:latin typeface="Tahoma"/>
              </a:rPr>
              <a:t>Фізичний  диктант</a:t>
            </a:r>
            <a:br>
              <a:rPr sz="4800"/>
            </a:br>
            <a:r>
              <a:rPr b="1" lang="uk-UA" sz="4800" spc="-1" strike="noStrike">
                <a:solidFill>
                  <a:srgbClr val="000099"/>
                </a:solidFill>
                <a:latin typeface="Tahoma"/>
              </a:rPr>
              <a:t>9 клас</a:t>
            </a:r>
            <a:br>
              <a:rPr sz="4800"/>
            </a:br>
            <a:br>
              <a:rPr sz="4800"/>
            </a:br>
            <a:r>
              <a:rPr b="1" lang="uk-UA" sz="3600" spc="-1" strike="noStrike">
                <a:solidFill>
                  <a:srgbClr val="000099"/>
                </a:solidFill>
                <a:latin typeface="Tahoma"/>
              </a:rPr>
              <a:t>Електричний  струм. Сила  струму, напруга, опір.</a:t>
            </a:r>
            <a:br>
              <a:rPr sz="3600"/>
            </a:br>
            <a:br>
              <a:rPr sz="3600"/>
            </a:br>
            <a:br>
              <a:rPr sz="1800"/>
            </a:br>
            <a:r>
              <a:rPr b="0" lang="uk-UA" sz="1800" spc="-1" strike="noStrike">
                <a:solidFill>
                  <a:srgbClr val="000099"/>
                </a:solidFill>
                <a:latin typeface="Tahoma"/>
              </a:rPr>
              <a:t>Якщо  Ви  готові – натисніть  ліву  кнопку  миші</a:t>
            </a:r>
            <a:br>
              <a:rPr sz="1800"/>
            </a:br>
            <a:r>
              <a:rPr b="0" lang="uk-UA" sz="1800" spc="-1" strike="noStrike">
                <a:solidFill>
                  <a:srgbClr val="000099"/>
                </a:solidFill>
                <a:latin typeface="Tahoma"/>
              </a:rPr>
              <a:t>Бажаємо  успіху 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1332000" y="5669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9. Чи  залежить  електричний  опір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  напруг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 схемо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знач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лектрични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ір  лам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0" name="Picture 4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3600720" cy="338436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u"/>
    <p:sndAc>
      <p:stSnd>
        <p:snd r:embed="rId2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 одиницю  вимірюванн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електричного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пору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йнят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ll dir="u"/>
    <p:sndAc>
      <p:stSnd>
        <p:snd r:embed="rId1" name="pu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11. Якщо  опір  ділянки  збільшити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двічі, то  сила  струму …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20000">
    <p:wheel spokes="3"/>
    <p:sndAc>
      <p:stSnd>
        <p:snd r:embed="rId1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2. За  напрям  струму  в  колі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ийнято  вважати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ум  в  дано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колі  те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) за  годинниково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ілко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) про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динниково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і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7" name="Picture 4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537080" cy="4392360"/>
          </a:xfrm>
          <a:prstGeom prst="rect">
            <a:avLst/>
          </a:prstGeom>
          <a:ln w="0">
            <a:noFill/>
          </a:ln>
        </p:spPr>
      </p:pic>
    </p:spTree>
  </p:cSld>
  <p:transition advTm="50000">
    <p:strips dir="lu"/>
    <p:sndAc>
      <p:stSnd>
        <p:snd r:embed="rId2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Вітаємо  Вас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Arial Black"/>
              </a:rPr>
              <a:t>Ви  дійшли  фінішу  № 2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Arial Black"/>
              </a:rPr>
              <a:t>Сподіваємося  на  краще  засвоєння  цієї  теми, адже  вона  трохи  цікавіша. Бажаємо  гарної  підготовки  і  до  контрольної  роботи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Електричним  струмом  називається  напрямлений  рух  атомі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Так  чи  ні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20000">
    <p:wheel spokes="3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 Сила  струму  показує 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 обчислюється  з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формулою 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comb dir="vert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Picture 4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4381200" cy="2498760"/>
          </a:xfrm>
          <a:prstGeom prst="rect">
            <a:avLst/>
          </a:prstGeom>
          <a:ln w="0">
            <a:noFill/>
          </a:ln>
        </p:spPr>
      </p:pic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3. Запишіть  закон  Ома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ля  ділянки  кола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йдіть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илу  струму  за  показ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мперм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cover dir="ld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4. Сила  струму  вимірюється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  вольтах. Так  чи  ні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20000">
    <p:wheel spokes="3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Picture 4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113440" cy="3024000"/>
          </a:xfrm>
          <a:prstGeom prst="rect">
            <a:avLst/>
          </a:prstGeom>
          <a:ln w="0">
            <a:noFill/>
          </a:ln>
        </p:spPr>
      </p:pic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5400" y="907560"/>
            <a:ext cx="82263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. Виразіть  напругу  з  закона  Ом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значте  покази  вольтмет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20000">
    <p:wheel spokes="3"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6. Прилад  для  вимірювання  сили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руму  називається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 вмикається  в  кол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cover dir="lu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Picture 4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535280" cy="295128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7. Напруга  вимірюється  у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те  покази  прилад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20000">
    <p:wheel spokes="3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8. Для  вимірювання  напруги  н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поживачі  треба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  якій  із  схем  вольтметр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мірює  напругу  на  дзвонику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7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370720" cy="3267000"/>
          </a:xfrm>
          <a:prstGeom prst="rect">
            <a:avLst/>
          </a:prstGeom>
          <a:ln w="0">
            <a:noFill/>
          </a:ln>
        </p:spPr>
      </p:pic>
    </p:spTree>
  </p:cSld>
  <p:transition advTm="30000">
    <p:checker dir="vert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9:05:02Z</dcterms:created>
  <dc:creator>Customer</dc:creator>
  <dc:description/>
  <dc:language>en-US</dc:language>
  <cp:lastModifiedBy>Tawr</cp:lastModifiedBy>
  <dcterms:modified xsi:type="dcterms:W3CDTF">2019-01-21T02:37:24Z</dcterms:modified>
  <cp:revision>10</cp:revision>
  <dc:subject/>
  <dc:title>Фізичний  диктант 8 клас  Електричний  струм. Сила  струму, напруга, опір.   Якщо  Ви  готові – натисніть  ліву  кнопку  миші Бажаємо  успіху !!!</dc:title>
</cp:coreProperties>
</file>