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856-AD52-4C49-BA2A-44C30F59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32B-2A36-42BE-95BF-5E50E1C1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D9C-D7CB-4CB3-B62C-A56134BB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275-8213-40E2-B27E-14F5B9EC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DFF-527C-474A-B2D1-72039DB9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F38-5A7E-453B-8617-1293EC96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0E3-6BE9-4210-BAAE-5B6C68EC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362-62B5-4D89-8D67-E2439F3E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B69-1DAC-425B-B02D-9A998ADC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8AD-A3B8-4131-95FD-A52391A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455-B3AC-4A69-BDA5-45B4AA31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DCD-E583-4683-8ADE-434EA812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6DFB-2DAA-4402-9A19-FAF8DDE00D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Година па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яті «Жнива скорботи»</a:t>
            </a:r>
            <a:br>
              <a:rPr sz="4000"/>
            </a:b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(присвячена Пам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ят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жертв голодомору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C:\Users\Админ\Desktop\images.jpg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golodomor_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ДОКУМЕНТИ ДОКУМЕНТИ\Викладачі, майстри\Джерелейко Р. П.\голодомор\366879_3.jpg"/>
          <p:cNvPicPr/>
          <p:nvPr/>
        </p:nvPicPr>
        <p:blipFill>
          <a:blip r:embed="rId1"/>
          <a:stretch/>
        </p:blipFill>
        <p:spPr>
          <a:xfrm>
            <a:off x="0" y="-571680"/>
            <a:ext cx="9144000" cy="7286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ДОКУМЕНТИ ДОКУМЕНТИ\Викладачі, майстри\Пантелеевна\голодомор\famine-victim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Джеймс Ернест Мейс</a:t>
            </a:r>
            <a:r>
              <a:rPr b="1" lang="uk-UA" sz="24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ffff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8</a:t>
            </a:r>
            <a:r>
              <a:rPr b="1" lang="uk-UA" sz="2400" spc="-1" strike="noStrike">
                <a:solidFill>
                  <a:srgbClr val="ffff00"/>
                </a:solidFill>
                <a:latin typeface="Calibri"/>
              </a:rPr>
              <a:t> лютого 1952, Маскогі, Оклахома, США — 3 травня 2004, Київ, Україна) — історик, політолог, дослідник голодомору в Україні. Саме завдяки його дослідженням світ дізнався про Голодомор в Україні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Содержимое 3" descr="Без названия.jpg"/>
          <p:cNvPicPr/>
          <p:nvPr/>
        </p:nvPicPr>
        <p:blipFill>
          <a:blip r:embed="rId1"/>
          <a:stretch/>
        </p:blipFill>
        <p:spPr>
          <a:xfrm>
            <a:off x="900000" y="2924280"/>
            <a:ext cx="2448000" cy="3600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250px-Mogyla_Meysa.jpg"/>
          <p:cNvPicPr/>
          <p:nvPr/>
        </p:nvPicPr>
        <p:blipFill>
          <a:blip r:embed="rId2"/>
          <a:stretch/>
        </p:blipFill>
        <p:spPr>
          <a:xfrm>
            <a:off x="3995640" y="2708280"/>
            <a:ext cx="478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_ТИ ЖИВЕШ_-- пісня про голодомор в Україні 1932-1933р. (Xenia Tym) ( 240 X 320 ).mp4" descr=""/>
          <p:cNvPicPr/>
          <p:nvPr/>
        </p:nvPicPr>
        <p:blipFill>
          <a:blip r:embed="rId1"/>
          <a:stretch/>
        </p:blipFill>
        <p:spPr>
          <a:xfrm>
            <a:off x="309600" y="14292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6243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D:\ДОКУМЕНТИ ДОКУМЕНТИ\Викладачі, майстри\Пантелеевна\голодомор\hq-wallpapers_ru_abstraction3d_1774_192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ДОКУМЕНТИ ДОКУМЕНТИ\Викладачі, майстри\Пантелеевна\голодомор\169-4-3.jpg"/>
          <p:cNvPicPr/>
          <p:nvPr/>
        </p:nvPicPr>
        <p:blipFill>
          <a:blip r:embed="rId2"/>
          <a:stretch/>
        </p:blipFill>
        <p:spPr>
          <a:xfrm>
            <a:off x="428760" y="0"/>
            <a:ext cx="74293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D:\ДОКУМЕНТИ ДОКУМЕНТИ\Викладачі, майстри\Пантелеевна\голодомор\ea1ae481aaaa.gif"/>
          <p:cNvPicPr/>
          <p:nvPr/>
        </p:nvPicPr>
        <p:blipFill>
          <a:blip r:embed="rId3"/>
          <a:stretch/>
        </p:blipFill>
        <p:spPr>
          <a:xfrm>
            <a:off x="6729480" y="3206880"/>
            <a:ext cx="2421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Ольга\Desktop\голодомор\Black_Background_3_by_sjuno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ff0000"/>
                </a:solidFill>
                <a:latin typeface="Calibri"/>
              </a:rPr>
              <a:t>ЗГАДУЄМО,</a:t>
            </a:r>
            <a:br>
              <a:rPr sz="8000"/>
            </a:br>
            <a:r>
              <a:rPr b="1" i="1" lang="uk-UA" sz="8000" spc="-1" strike="noStrike">
                <a:solidFill>
                  <a:srgbClr val="ff0000"/>
                </a:solidFill>
                <a:latin typeface="Calibri"/>
              </a:rPr>
              <a:t>ПАМ'ЯТАЄМО,</a:t>
            </a:r>
            <a:br>
              <a:rPr sz="8000"/>
            </a:br>
            <a:r>
              <a:rPr b="1" i="1" lang="uk-UA" sz="8000" spc="-1" strike="noStrike">
                <a:solidFill>
                  <a:srgbClr val="ff0000"/>
                </a:solidFill>
                <a:latin typeface="Calibri"/>
              </a:rPr>
              <a:t>НЕ ЗАБУВАЄМО …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3" descr="F:\681944.jpg"/>
          <p:cNvPicPr/>
          <p:nvPr/>
        </p:nvPicPr>
        <p:blipFill>
          <a:blip r:embed="rId2"/>
          <a:stretch/>
        </p:blipFill>
        <p:spPr>
          <a:xfrm>
            <a:off x="4853160" y="4316400"/>
            <a:ext cx="429732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Голодомор - Остання молитва хлопчика ( 480 X 640 ).mp4" descr=""/>
          <p:cNvPicPr/>
          <p:nvPr/>
        </p:nvPicPr>
        <p:blipFill>
          <a:blip r:embed="rId1"/>
          <a:stretch/>
        </p:blipFill>
        <p:spPr>
          <a:xfrm>
            <a:off x="184320" y="17640"/>
            <a:ext cx="8739000" cy="65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250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ОКСАНА БІЛОЗІР _ СВІЧА (Голодомор 1932-1933) ( 360 X 480 ).mp4" descr=""/>
          <p:cNvPicPr/>
          <p:nvPr/>
        </p:nvPicPr>
        <p:blipFill>
          <a:blip r:embed="rId1"/>
          <a:stretch/>
        </p:blipFill>
        <p:spPr>
          <a:xfrm>
            <a:off x="262080" y="142920"/>
            <a:ext cx="859608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638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Німа правда. Свідчення,.mp4" descr=""/>
          <p:cNvPicPr/>
          <p:nvPr/>
        </p:nvPicPr>
        <p:blipFill>
          <a:blip r:embed="rId1"/>
          <a:stretch/>
        </p:blipFill>
        <p:spPr>
          <a:xfrm>
            <a:off x="642960" y="214200"/>
            <a:ext cx="80722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6946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rcRect l="0" t="4171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C:\Users\Ольга\Desktop\голодомор\ser1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3760" y="2828880"/>
            <a:ext cx="6737400" cy="41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884160" y="-96840"/>
            <a:ext cx="4516560" cy="3376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Ольга\Desktop\голодомор\600c39f-udatne.jpg"/>
          <p:cNvPicPr/>
          <p:nvPr/>
        </p:nvPicPr>
        <p:blipFill>
          <a:blip r:embed="rId4"/>
          <a:stretch/>
        </p:blipFill>
        <p:spPr>
          <a:xfrm>
            <a:off x="4932360" y="1547640"/>
            <a:ext cx="4327560" cy="3286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ДОКУМЕНТИ ДОКУМЕНТИ\Викладачі, майстри\Джерелейко Р. П.\голодомор\holodomor 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9.jpg"/>
          <p:cNvPicPr/>
          <p:nvPr/>
        </p:nvPicPr>
        <p:blipFill>
          <a:blip r:embed="rId1"/>
          <a:stretch/>
        </p:blipFill>
        <p:spPr>
          <a:xfrm>
            <a:off x="179280" y="0"/>
            <a:ext cx="87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16:35:22Z</dcterms:created>
  <dc:creator>Админ</dc:creator>
  <dc:description/>
  <dc:language>en-US</dc:language>
  <cp:lastModifiedBy>Customer</cp:lastModifiedBy>
  <dcterms:modified xsi:type="dcterms:W3CDTF">2008-12-31T22:36:35Z</dcterms:modified>
  <cp:revision>8</cp:revision>
  <dc:subject/>
  <dc:title>Презентация PowerPoint</dc:title>
</cp:coreProperties>
</file>