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5.jpeg" ContentType="image/jpeg"/>
  <Override PartName="/ppt/media/image31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8.wmf" ContentType="image/x-wmf"/>
  <Override PartName="/ppt/media/image32.jpeg" ContentType="image/jpeg"/>
  <Override PartName="/ppt/media/image38.jpeg" ContentType="image/jpeg"/>
  <Override PartName="/ppt/media/image44.jpeg" ContentType="image/jpeg"/>
  <Override PartName="/ppt/media/image39.jpeg" ContentType="image/jpeg"/>
  <Override PartName="/ppt/media/image45.jpeg" ContentType="image/jpeg"/>
  <Override PartName="/ppt/media/image43.png" ContentType="image/png"/>
  <Override PartName="/ppt/media/image46.jpeg" ContentType="image/jpeg"/>
  <Override PartName="/ppt/media/image10.jpeg" ContentType="image/jpeg"/>
  <Override PartName="/ppt/media/image5.png" ContentType="image/png"/>
  <Override PartName="/ppt/media/image3.wmf" ContentType="image/x-wmf"/>
  <Override PartName="/ppt/media/image29.jpeg" ContentType="image/jpeg"/>
  <Override PartName="/ppt/media/image47.gif" ContentType="image/gif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645-331D-4136-9A36-3AFBD47D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3DD-93C9-42B4-9315-510577C5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8F1-6F1B-4F62-A78F-47EEAE4E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0A1-9E44-45C3-A77C-C6145716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2A6-66D4-42DE-ACBB-F0D2C75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F6C-3E16-4FA2-B067-2B9BD48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5B4-8114-4C92-8248-DF7952F3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57D-F9F6-4E11-B61E-5B50FE8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610-9DA9-4C5F-A19D-E65CB76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FBB-CD29-4C69-AE9B-4D9F515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A80-A60E-41EF-BA6C-767B4EC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551-8468-43BF-9E5B-2D8401D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441-3BB9-46B9-B5AE-10EA28E9DAE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Урок фізики у 7 класі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Тиск твердих тіл на поверхню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ила тис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5580000" y="5300640"/>
            <a:ext cx="3095640" cy="79056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р: вчитель фі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дчук Ольга Трохимі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Одиницею вимірювання</a:t>
            </a: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 тиску є </a:t>
            </a:r>
            <a:br>
              <a:rPr sz="3600"/>
            </a:b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1 паскаль – це тиск, при якому на площу 1 м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²</a:t>
            </a:r>
            <a:r>
              <a:rPr b="0" lang="uk-UA" sz="3600" spc="-1" strike="noStrike">
                <a:solidFill>
                  <a:srgbClr val="e5ffff"/>
                </a:solidFill>
                <a:latin typeface="Arial"/>
              </a:rPr>
              <a:t> діє сила тиску, яка дорівнює 1 Н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5"/>
              <p:cNvSpPr txBox="1"/>
              <p:nvPr/>
            </p:nvSpPr>
            <p:spPr>
              <a:xfrm>
                <a:off x="3348000" y="2276640"/>
                <a:ext cx="22320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П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1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Текст 2"/>
          <p:cNvSpPr/>
          <p:nvPr/>
        </p:nvSpPr>
        <p:spPr>
          <a:xfrm>
            <a:off x="179280" y="3645000"/>
            <a:ext cx="8640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Тиск в 1 Па малий. На практиці   застосовують кратні одиниці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57360" indent="-246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Tahoma"/>
                <a:ea typeface="Arial"/>
              </a:rPr>
              <a:t>1 гектопаскаль = 100 Па = 1 гПа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57360" indent="-246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Tahoma"/>
                <a:ea typeface="Arial"/>
              </a:rPr>
              <a:t>1 кілопаскаль = 1000 Па = 1 кПа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57360" indent="-246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Tahoma"/>
                <a:ea typeface="Arial"/>
              </a:rPr>
              <a:t>1 мегапаскаль = 1000000 Па = 1 МПа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ahoma"/>
              </a:rPr>
              <a:t>Блез Паскаль (1623 – 166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11280" y="1628280"/>
            <a:ext cx="49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Блез Паскаль не лише чудовий фізик, але й видатний винахідник і математик. У 16 років він довів теорему Паскаля”, у 18 років – винайшов рахувальну машину, за допомогою якої навіть необізнана з правилами арифметики людина могла б виконувати 4 арифметичні дії. Він виготовив 50 моделей, з яких кожна наступна була кращою за попередню. Його вважали найвидатнішим математиком свого ч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7" descr="images1"/>
          <p:cNvPicPr/>
          <p:nvPr/>
        </p:nvPicPr>
        <p:blipFill>
          <a:blip r:embed="rId1"/>
          <a:stretch/>
        </p:blipFill>
        <p:spPr>
          <a:xfrm>
            <a:off x="574560" y="1916280"/>
            <a:ext cx="3353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468360" y="189000"/>
            <a:ext cx="68403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Тиск кінчика жала оси – 33000000 кПа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Тиск колеса легкового                                         автомобіля на дорогу   - 200 – 300 кПа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Нормальний атмосферний                                               тиск                                    - 100 к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Тиск трактора на грунт        - 50 к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Тиск фундаменту                                                 Останкінської телевежі                                                    на грунт                             - 27 кПа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6" descr="Безымянный5"/>
          <p:cNvPicPr/>
          <p:nvPr/>
        </p:nvPicPr>
        <p:blipFill>
          <a:blip r:embed="rId1"/>
          <a:stretch/>
        </p:blipFill>
        <p:spPr>
          <a:xfrm>
            <a:off x="7740720" y="260280"/>
            <a:ext cx="1008000" cy="784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014_04s"/>
          <p:cNvPicPr/>
          <p:nvPr/>
        </p:nvPicPr>
        <p:blipFill>
          <a:blip r:embed="rId2"/>
          <a:stretch/>
        </p:blipFill>
        <p:spPr>
          <a:xfrm>
            <a:off x="7596360" y="134136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014_05s"/>
          <p:cNvPicPr/>
          <p:nvPr/>
        </p:nvPicPr>
        <p:blipFill>
          <a:blip r:embed="rId3"/>
          <a:stretch/>
        </p:blipFill>
        <p:spPr>
          <a:xfrm>
            <a:off x="7451640" y="249228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014_06s"/>
          <p:cNvPicPr/>
          <p:nvPr/>
        </p:nvPicPr>
        <p:blipFill>
          <a:blip r:embed="rId4"/>
          <a:stretch/>
        </p:blipFill>
        <p:spPr>
          <a:xfrm>
            <a:off x="7380360" y="3716280"/>
            <a:ext cx="1366920" cy="117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014_03s"/>
          <p:cNvPicPr/>
          <p:nvPr/>
        </p:nvPicPr>
        <p:blipFill>
          <a:blip r:embed="rId5"/>
          <a:stretch/>
        </p:blipFill>
        <p:spPr>
          <a:xfrm>
            <a:off x="7451640" y="5013360"/>
            <a:ext cx="1270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00"/>
                </a:solidFill>
                <a:latin typeface="Tahoma"/>
              </a:rPr>
              <a:t>Способи зміни тиск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http://www.wiki.vladimir.i-edu.ru/images/0/00/%D0%9A%D0%B0%D0%BA_%D0%B8%D0%B7%D0%BC%D0%B5%D0%BD%D0%B8%D1%82%D1%8C_%D0%B4%D0%B0%D0%B2%D0%BB%D0%B5%D0%BD%D0%B8%D0%B5.jpg"/>
          <p:cNvPicPr/>
          <p:nvPr/>
        </p:nvPicPr>
        <p:blipFill>
          <a:blip r:embed="rId1"/>
          <a:srcRect l="5033" t="18900" r="48350" b="22525"/>
          <a:stretch/>
        </p:blipFill>
        <p:spPr>
          <a:xfrm>
            <a:off x="971640" y="1916280"/>
            <a:ext cx="2663640" cy="2233440"/>
          </a:xfrm>
          <a:prstGeom prst="rect">
            <a:avLst/>
          </a:prstGeom>
          <a:ln w="0">
            <a:noFill/>
          </a:ln>
        </p:spPr>
      </p:pic>
      <p:sp>
        <p:nvSpPr>
          <p:cNvPr id="88" name="Текст 2"/>
          <p:cNvSpPr/>
          <p:nvPr/>
        </p:nvSpPr>
        <p:spPr>
          <a:xfrm>
            <a:off x="395280" y="436572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Щоб збільшити тиск, потрібно збільшити силу тиску або зменшити площу її приклад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http://www.wiki.vladimir.i-edu.ru/images/0/00/%D0%9A%D0%B0%D0%BA_%D0%B8%D0%B7%D0%BC%D0%B5%D0%BD%D0%B8%D1%82%D1%8C_%D0%B4%D0%B0%D0%B2%D0%BB%D0%B5%D0%BD%D0%B8%D0%B5.jpg"/>
          <p:cNvPicPr/>
          <p:nvPr/>
        </p:nvPicPr>
        <p:blipFill>
          <a:blip r:embed="rId2"/>
          <a:srcRect l="50400" t="18900" r="6133" b="22525"/>
          <a:stretch/>
        </p:blipFill>
        <p:spPr>
          <a:xfrm>
            <a:off x="5580000" y="1844640"/>
            <a:ext cx="248436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Текст 2"/>
          <p:cNvSpPr/>
          <p:nvPr/>
        </p:nvSpPr>
        <p:spPr>
          <a:xfrm>
            <a:off x="5148360" y="4365720"/>
            <a:ext cx="374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Щоб зменшити тиск, потрібно зменшити силу тиску або збільшити площу її приклад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Навіщо заточують леза ножів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images (2)"/>
          <p:cNvPicPr/>
          <p:nvPr/>
        </p:nvPicPr>
        <p:blipFill>
          <a:blip r:embed="rId1"/>
          <a:stretch/>
        </p:blipFill>
        <p:spPr>
          <a:xfrm>
            <a:off x="1908000" y="2273400"/>
            <a:ext cx="53280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Людина провалилася під лід. Як треба діяти, спираючись на знання про тиск, щоб врятувати її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5" descr="images (3)"/>
          <p:cNvPicPr/>
          <p:nvPr/>
        </p:nvPicPr>
        <p:blipFill>
          <a:blip r:embed="rId1"/>
          <a:stretch/>
        </p:blipFill>
        <p:spPr>
          <a:xfrm>
            <a:off x="5796000" y="2708280"/>
            <a:ext cx="2873160" cy="24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ages (4)"/>
          <p:cNvPicPr/>
          <p:nvPr/>
        </p:nvPicPr>
        <p:blipFill>
          <a:blip r:embed="rId2"/>
          <a:stretch/>
        </p:blipFill>
        <p:spPr>
          <a:xfrm>
            <a:off x="179280" y="2924280"/>
            <a:ext cx="547236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ages (1)"/>
          <p:cNvPicPr/>
          <p:nvPr/>
        </p:nvPicPr>
        <p:blipFill>
          <a:blip r:embed="rId1"/>
          <a:stretch/>
        </p:blipFill>
        <p:spPr>
          <a:xfrm>
            <a:off x="971640" y="2924280"/>
            <a:ext cx="2144520" cy="27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слон"/>
          <p:cNvPicPr/>
          <p:nvPr/>
        </p:nvPicPr>
        <p:blipFill>
          <a:blip r:embed="rId2"/>
          <a:stretch/>
        </p:blipFill>
        <p:spPr>
          <a:xfrm>
            <a:off x="3995640" y="2924280"/>
            <a:ext cx="4105440" cy="2805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Tahoma"/>
              </a:rPr>
              <a:t>Чому підбори туфель дівчини чинять тиск набагато більший, ніж ноги слона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Як курка може удвічі збільшити тиск на землю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Picture 8" descr="images (1)"/>
          <p:cNvPicPr/>
          <p:nvPr/>
        </p:nvPicPr>
        <p:blipFill>
          <a:blip r:embed="rId1"/>
          <a:stretch/>
        </p:blipFill>
        <p:spPr>
          <a:xfrm>
            <a:off x="539640" y="1989000"/>
            <a:ext cx="4105440" cy="307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s (2)"/>
          <p:cNvPicPr/>
          <p:nvPr/>
        </p:nvPicPr>
        <p:blipFill>
          <a:blip r:embed="rId2"/>
          <a:stretch/>
        </p:blipFill>
        <p:spPr>
          <a:xfrm>
            <a:off x="4716360" y="2637000"/>
            <a:ext cx="4140360" cy="324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images (1)"/>
          <p:cNvPicPr/>
          <p:nvPr/>
        </p:nvPicPr>
        <p:blipFill>
          <a:blip r:embed="rId3"/>
          <a:stretch/>
        </p:blipFill>
        <p:spPr>
          <a:xfrm>
            <a:off x="539640" y="1989000"/>
            <a:ext cx="4105440" cy="307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0755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Індійські факіри можуть лежати на гострих лезах. Що треба зробити факіру, щоб зменшити ризик порізати шкіру спини: зменшити чи збільшити кількість лез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5" descr="images (6)"/>
          <p:cNvPicPr/>
          <p:nvPr/>
        </p:nvPicPr>
        <p:blipFill>
          <a:blip r:embed="rId1"/>
          <a:stretch/>
        </p:blipFill>
        <p:spPr>
          <a:xfrm>
            <a:off x="1116000" y="2639880"/>
            <a:ext cx="6624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ahoma"/>
              </a:rPr>
              <a:t>Чому з давніх часів мешканці Півночі для пересування по снігу використовували лижі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5" descr="images (7)"/>
          <p:cNvPicPr/>
          <p:nvPr/>
        </p:nvPicPr>
        <p:blipFill>
          <a:blip r:embed="rId1"/>
          <a:stretch/>
        </p:blipFill>
        <p:spPr>
          <a:xfrm>
            <a:off x="1042920" y="2205000"/>
            <a:ext cx="77770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66"/>
                </a:solidFill>
                <a:latin typeface="Tahoma"/>
              </a:rPr>
              <a:t>“</a:t>
            </a:r>
            <a:r>
              <a:rPr b="1" lang="uk-UA" sz="3200" spc="-1" strike="noStrike">
                <a:solidFill>
                  <a:srgbClr val="66ff66"/>
                </a:solidFill>
                <a:latin typeface="Tahoma"/>
              </a:rPr>
              <a:t>ЄДИНИЙ ШЛЯХ, ЩО ВЕДЕ ДО ЗНАННЯ, - ЦЕ ДІЯЛЬНІСТЬ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Джордж Бернард Шо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ahoma"/>
              </a:rPr>
              <a:t>З якою метою під залізничні рейки підкладають шпали та металеві підкладки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Picture 5" descr="рейки"/>
          <p:cNvPicPr/>
          <p:nvPr/>
        </p:nvPicPr>
        <p:blipFill>
          <a:blip r:embed="rId1"/>
          <a:stretch/>
        </p:blipFill>
        <p:spPr>
          <a:xfrm>
            <a:off x="1619280" y="2414520"/>
            <a:ext cx="59054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6"/>
          <p:cNvGrpSpPr/>
          <p:nvPr/>
        </p:nvGrpSpPr>
        <p:grpSpPr>
          <a:xfrm>
            <a:off x="395280" y="630720"/>
            <a:ext cx="7921800" cy="5162040"/>
            <a:chOff x="395280" y="630720"/>
            <a:chExt cx="7921800" cy="5162040"/>
          </a:xfrm>
        </p:grpSpPr>
        <p:sp>
          <p:nvSpPr>
            <p:cNvPr id="110" name="Rectangle 5"/>
            <p:cNvSpPr/>
            <p:nvPr/>
          </p:nvSpPr>
          <p:spPr>
            <a:xfrm>
              <a:off x="395280" y="630720"/>
              <a:ext cx="792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авіщо в лопати верхній край, на який надавлюють ногою, зігнуто?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1" name="Picture 4" descr=""/>
            <p:cNvPicPr/>
            <p:nvPr/>
          </p:nvPicPr>
          <p:blipFill>
            <a:blip r:embed="rId1"/>
            <a:stretch/>
          </p:blipFill>
          <p:spPr>
            <a:xfrm>
              <a:off x="2987640" y="2311560"/>
              <a:ext cx="2813040" cy="34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Чому комар своїм хоботком може створити тиск набагато більший ніж тиск, що створює людина, яка стоїт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Picture 5" descr="images (8)"/>
          <p:cNvPicPr/>
          <p:nvPr/>
        </p:nvPicPr>
        <p:blipFill>
          <a:blip r:embed="rId1"/>
          <a:stretch/>
        </p:blipFill>
        <p:spPr>
          <a:xfrm>
            <a:off x="2556000" y="2708280"/>
            <a:ext cx="4248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Завда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Переведі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7 кПа в паскалі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12,5 гПа  в паскалі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32 500 Па в кілопаскалі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1 300 000 Па в мегапаскалі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8000"/>
                </a:solidFill>
                <a:latin typeface="Tahoma"/>
              </a:rPr>
              <a:t>Розв’язуємо розрахункові задачі</a:t>
            </a:r>
            <a:br>
              <a:rPr sz="4000"/>
            </a:br>
            <a:br>
              <a:rPr sz="4000"/>
            </a:br>
            <a:r>
              <a:rPr b="0" lang="uk-UA" sz="2800" spc="-1" strike="noStrike">
                <a:solidFill>
                  <a:srgbClr val="e5ffff"/>
                </a:solidFill>
                <a:latin typeface="Tahoma"/>
              </a:rPr>
              <a:t>Задача 1. Яку силу тиску і тиск створює на опору площею 400 см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²</a:t>
            </a:r>
            <a:r>
              <a:rPr b="0" lang="uk-UA" sz="2800" spc="-1" strike="noStrike">
                <a:solidFill>
                  <a:srgbClr val="e5ffff"/>
                </a:solidFill>
                <a:latin typeface="Arial"/>
              </a:rPr>
              <a:t> тіло, маса якого дорівнює 12 кг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images (3)"/>
          <p:cNvPicPr/>
          <p:nvPr/>
        </p:nvPicPr>
        <p:blipFill>
          <a:blip r:embed="rId1"/>
          <a:stretch/>
        </p:blipFill>
        <p:spPr>
          <a:xfrm>
            <a:off x="2484360" y="3094200"/>
            <a:ext cx="439128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2400" spc="-1" strike="noStrike">
                <a:solidFill>
                  <a:srgbClr val="e5ffff"/>
                </a:solidFill>
                <a:latin typeface="Tahoma"/>
              </a:rPr>
              <a:t>Задача 2. Мармурова колона античного храму масою 500 т має площу основи 12,5 м</a:t>
            </a: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²</a:t>
            </a:r>
            <a:r>
              <a:rPr b="0" lang="uk-UA" sz="2400" spc="-1" strike="noStrike">
                <a:solidFill>
                  <a:srgbClr val="e5ffff"/>
                </a:solidFill>
                <a:latin typeface="Arial"/>
              </a:rPr>
              <a:t>. Визначте тиск колони на опору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5" descr="храм Артеміди"/>
          <p:cNvPicPr/>
          <p:nvPr/>
        </p:nvPicPr>
        <p:blipFill>
          <a:blip r:embed="rId1"/>
          <a:stretch/>
        </p:blipFill>
        <p:spPr>
          <a:xfrm>
            <a:off x="1258920" y="2637000"/>
            <a:ext cx="6667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Задача 2.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Рибалка вирушає на</a:t>
            </a:r>
            <a:r>
              <a:rPr b="0" i="1" lang="uk-U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зимову риболовлю. Чи безпечно це, якщо лід на початку березня витримує тиск 9 кПа, а маса рибалки із спорядженням та без улову 100 кг. Сліди від зимового взуття зображено на малюнк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468360" y="2565360"/>
            <a:ext cx="1439640" cy="3527280"/>
            <a:chOff x="468360" y="2565360"/>
            <a:chExt cx="1439640" cy="3527280"/>
          </a:xfrm>
        </p:grpSpPr>
        <p:sp>
          <p:nvSpPr>
            <p:cNvPr id="122" name="AutoShape 4"/>
            <p:cNvSpPr/>
            <p:nvPr/>
          </p:nvSpPr>
          <p:spPr>
            <a:xfrm>
              <a:off x="468360" y="3357360"/>
              <a:ext cx="1439640" cy="20876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541080" y="4797360"/>
              <a:ext cx="1294920" cy="1295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468360" y="2565360"/>
              <a:ext cx="1439640" cy="15127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5" name="Text Box 2"/>
          <p:cNvSpPr/>
          <p:nvPr/>
        </p:nvSpPr>
        <p:spPr>
          <a:xfrm>
            <a:off x="395280" y="3500280"/>
            <a:ext cx="1655640" cy="64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500 см</a:t>
            </a:r>
            <a:r>
              <a:rPr b="1" lang="uk-UA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2268360" y="2565360"/>
            <a:ext cx="1440000" cy="3527280"/>
            <a:chOff x="2268360" y="2565360"/>
            <a:chExt cx="1440000" cy="3527280"/>
          </a:xfrm>
        </p:grpSpPr>
        <p:sp>
          <p:nvSpPr>
            <p:cNvPr id="127" name="AutoShape 4"/>
            <p:cNvSpPr/>
            <p:nvPr/>
          </p:nvSpPr>
          <p:spPr>
            <a:xfrm>
              <a:off x="2268360" y="3357360"/>
              <a:ext cx="1440000" cy="208764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2341440" y="4797360"/>
              <a:ext cx="1295280" cy="1295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2268360" y="2565360"/>
              <a:ext cx="1440000" cy="1512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0" name="Picture 4" descr="http://www.fisfblog.ru/images/pages/rnr/2-2009/041.jpg"/>
          <p:cNvPicPr/>
          <p:nvPr/>
        </p:nvPicPr>
        <p:blipFill>
          <a:blip r:embed="rId7"/>
          <a:stretch/>
        </p:blipFill>
        <p:spPr>
          <a:xfrm>
            <a:off x="5003640" y="2492280"/>
            <a:ext cx="29448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Тиск високий і низь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Picture 3" descr="images (11)"/>
          <p:cNvPicPr/>
          <p:nvPr/>
        </p:nvPicPr>
        <p:blipFill>
          <a:blip r:embed="rId1"/>
          <a:stretch/>
        </p:blipFill>
        <p:spPr>
          <a:xfrm>
            <a:off x="500040" y="1071720"/>
            <a:ext cx="4176720" cy="27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автомобільна дорога"/>
          <p:cNvPicPr/>
          <p:nvPr/>
        </p:nvPicPr>
        <p:blipFill>
          <a:blip r:embed="rId2"/>
          <a:stretch/>
        </p:blipFill>
        <p:spPr>
          <a:xfrm>
            <a:off x="3714840" y="3929040"/>
            <a:ext cx="517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вантажівка"/>
          <p:cNvPicPr/>
          <p:nvPr/>
        </p:nvPicPr>
        <p:blipFill>
          <a:blip r:embed="rId1"/>
          <a:stretch/>
        </p:blipFill>
        <p:spPr>
          <a:xfrm>
            <a:off x="299880" y="2000160"/>
            <a:ext cx="5027760" cy="265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ostankino_005"/>
          <p:cNvPicPr/>
          <p:nvPr/>
        </p:nvPicPr>
        <p:blipFill>
          <a:blip r:embed="rId2"/>
          <a:stretch/>
        </p:blipFill>
        <p:spPr>
          <a:xfrm>
            <a:off x="6000840" y="1357200"/>
            <a:ext cx="2251080" cy="5283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Тиск високий і низь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На гусеничному ходу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3" descr="images (12)"/>
          <p:cNvPicPr/>
          <p:nvPr/>
        </p:nvPicPr>
        <p:blipFill>
          <a:blip r:embed="rId1"/>
          <a:stretch/>
        </p:blipFill>
        <p:spPr>
          <a:xfrm>
            <a:off x="285840" y="2071800"/>
            <a:ext cx="4093920" cy="272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танк"/>
          <p:cNvPicPr/>
          <p:nvPr/>
        </p:nvPicPr>
        <p:blipFill>
          <a:blip r:embed="rId2"/>
          <a:stretch/>
        </p:blipFill>
        <p:spPr>
          <a:xfrm>
            <a:off x="5072040" y="2143080"/>
            <a:ext cx="36734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 “</a:t>
            </a: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Фізичний футбол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Що таке си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 чого залежить результат дії сили на тіл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Які сили вам відом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Що вам відомо про силу пружност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айте означення сили тяжіння та назвіть формулу для її вимірюв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Що таке вага тіла? Як її можна обчисли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Як позначається площ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звіть одиниці вимірювання площ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звіть формулу для обчислення площі прямокут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о сні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Picture 5" descr="images (13)(1)"/>
          <p:cNvPicPr/>
          <p:nvPr/>
        </p:nvPicPr>
        <p:blipFill>
          <a:blip r:embed="rId1"/>
          <a:stretch/>
        </p:blipFill>
        <p:spPr>
          <a:xfrm>
            <a:off x="5786280" y="1643040"/>
            <a:ext cx="2824200" cy="2584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images (13)"/>
          <p:cNvPicPr/>
          <p:nvPr/>
        </p:nvPicPr>
        <p:blipFill>
          <a:blip r:embed="rId2"/>
          <a:stretch/>
        </p:blipFill>
        <p:spPr>
          <a:xfrm>
            <a:off x="500040" y="1571760"/>
            <a:ext cx="3214800" cy="2571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росомаха"/>
          <p:cNvPicPr/>
          <p:nvPr/>
        </p:nvPicPr>
        <p:blipFill>
          <a:blip r:embed="rId3"/>
          <a:stretch/>
        </p:blipFill>
        <p:spPr>
          <a:xfrm>
            <a:off x="2714760" y="4214880"/>
            <a:ext cx="3584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Чи знаєш ти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ом з вантажем цей «всюдихід» пустелі важить немало – до 7000 Н. Не маючи достатньо великої площі опори, він просто загруз би в піск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://postconflict.unep.ch/sudanreport/sudan_website/doccatcher/data/Photographs%20Figures%20and%20Captions%20by%20Chapter/Ch2/Chapter%20photos/2.4a%20desert%20DSC_0059.JPG"/>
          <p:cNvPicPr/>
          <p:nvPr/>
        </p:nvPicPr>
        <p:blipFill>
          <a:blip r:embed="rId1"/>
          <a:stretch/>
        </p:blipFill>
        <p:spPr>
          <a:xfrm>
            <a:off x="2193840" y="2706840"/>
            <a:ext cx="4908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ahoma"/>
              </a:rPr>
              <a:t>Чи знаєш ти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675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іранья, невелика рибка довжиною 25 – 30 см, тримає в страсі все живе в водах Амазонки. Зуби її настільки гострі, що вона легко може перекусити палець люди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Рисунок 3" descr="I427062"/>
          <p:cNvPicPr/>
          <p:nvPr/>
        </p:nvPicPr>
        <p:blipFill>
          <a:blip r:embed="rId1"/>
          <a:stretch/>
        </p:blipFill>
        <p:spPr>
          <a:xfrm>
            <a:off x="1762200" y="2577960"/>
            <a:ext cx="6284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395280" y="620640"/>
            <a:ext cx="734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uk-UA" sz="4400" spc="-1" strike="noStrike">
                <a:solidFill>
                  <a:srgbClr val="00ffff"/>
                </a:solidFill>
                <a:latin typeface="Tahoma"/>
              </a:rPr>
              <a:t>Домашнє завдання</a:t>
            </a:r>
            <a:br>
              <a:rPr sz="4400"/>
            </a:b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Опрацювати § 22. Виконати вправу 22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(1-3 усно, 6 письмово)</a:t>
            </a:r>
            <a:br>
              <a:rPr sz="3600"/>
            </a:b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Творче завдання</a:t>
            </a:r>
            <a:br>
              <a:rPr sz="3600"/>
            </a:b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Написати невеликий твір “Людина і тиск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3" descr="41.jpg"/>
          <p:cNvPicPr/>
          <p:nvPr/>
        </p:nvPicPr>
        <p:blipFill>
          <a:blip r:embed="rId1"/>
          <a:stretch/>
        </p:blipFill>
        <p:spPr>
          <a:xfrm>
            <a:off x="7380360" y="333360"/>
            <a:ext cx="1452600" cy="194472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pic>
        <p:nvPicPr>
          <p:cNvPr id="152" name="Рисунок 4" descr="7.jpg"/>
          <p:cNvPicPr/>
          <p:nvPr/>
        </p:nvPicPr>
        <p:blipFill>
          <a:blip r:embed="rId2">
            <a:alphaModFix amt="44000"/>
          </a:blip>
          <a:stretch/>
        </p:blipFill>
        <p:spPr>
          <a:xfrm>
            <a:off x="3635280" y="4508640"/>
            <a:ext cx="20764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лопух"/>
          <p:cNvPicPr/>
          <p:nvPr/>
        </p:nvPicPr>
        <p:blipFill>
          <a:blip r:embed="rId1"/>
          <a:stretch/>
        </p:blipFill>
        <p:spPr>
          <a:xfrm>
            <a:off x="-612720" y="-603360"/>
            <a:ext cx="10077480" cy="78012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0"/>
          <p:cNvSpPr/>
          <p:nvPr/>
        </p:nvSpPr>
        <p:spPr>
          <a:xfrm>
            <a:off x="1296000" y="571680"/>
            <a:ext cx="40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50b2e"/>
                </a:solidFill>
                <a:latin typeface="Times New Roman"/>
                <a:ea typeface="Times New Roman"/>
              </a:rPr>
              <a:t>Релаксаці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187280" y="2924280"/>
            <a:ext cx="63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Я дізнав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Я навчив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Мені сподобалось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Тепер я знаю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Тепер я вмію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Tahoma"/>
              </a:rPr>
              <a:t>Мій настрій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смайлик Здорово"/>
          <p:cNvPicPr/>
          <p:nvPr/>
        </p:nvPicPr>
        <p:blipFill>
          <a:blip r:embed="rId1"/>
          <a:stretch/>
        </p:blipFill>
        <p:spPr>
          <a:xfrm>
            <a:off x="3059280" y="692280"/>
            <a:ext cx="2813040" cy="3024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1619280" y="4149720"/>
            <a:ext cx="59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кую за роботу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27640" y="321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2" descr="BIZMTG"/>
          <p:cNvPicPr/>
          <p:nvPr/>
        </p:nvPicPr>
        <p:blipFill>
          <a:blip r:embed="rId1"/>
          <a:stretch/>
        </p:blipFill>
        <p:spPr>
          <a:xfrm>
            <a:off x="457200" y="3809880"/>
            <a:ext cx="353844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CONFRNCE"/>
          <p:cNvPicPr/>
          <p:nvPr/>
        </p:nvPicPr>
        <p:blipFill>
          <a:blip r:embed="rId2"/>
          <a:stretch/>
        </p:blipFill>
        <p:spPr>
          <a:xfrm>
            <a:off x="5940360" y="3573360"/>
            <a:ext cx="2305080" cy="18846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24"/>
          <p:cNvGrpSpPr/>
          <p:nvPr/>
        </p:nvGrpSpPr>
        <p:grpSpPr>
          <a:xfrm>
            <a:off x="3059280" y="2133720"/>
            <a:ext cx="2590560" cy="1579320"/>
            <a:chOff x="3059280" y="2133720"/>
            <a:chExt cx="2590560" cy="1579320"/>
          </a:xfrm>
        </p:grpSpPr>
        <p:sp>
          <p:nvSpPr>
            <p:cNvPr id="54" name="AutoShape 25"/>
            <p:cNvSpPr/>
            <p:nvPr/>
          </p:nvSpPr>
          <p:spPr>
            <a:xfrm>
              <a:off x="3059280" y="2133720"/>
              <a:ext cx="2590560" cy="1579320"/>
            </a:xfrm>
            <a:prstGeom prst="rect">
              <a:avLst/>
            </a:prstGeom>
            <a:solidFill>
              <a:srgbClr val="3333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3073320" y="2204640"/>
              <a:ext cx="2576520" cy="1508040"/>
            </a:xfrm>
            <a:prstGeom prst="pie">
              <a:avLst/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0000"/>
                </a:solidFill>
                <a:latin typeface="Tahoma"/>
              </a:rPr>
              <a:t>Творча лабораторі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00"/>
                </a:solidFill>
                <a:latin typeface="Tahoma"/>
              </a:rPr>
              <a:t>СПОСТЕРЕЖЕ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5" descr="05a-i1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1241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6"/>
          <p:cNvGrpSpPr/>
          <p:nvPr/>
        </p:nvGrpSpPr>
        <p:grpSpPr>
          <a:xfrm>
            <a:off x="8093160" y="549360"/>
            <a:ext cx="1004760" cy="5976720"/>
            <a:chOff x="8093160" y="549360"/>
            <a:chExt cx="1004760" cy="5976720"/>
          </a:xfrm>
        </p:grpSpPr>
        <p:sp>
          <p:nvSpPr>
            <p:cNvPr id="60" name="AutoShape 7"/>
            <p:cNvSpPr/>
            <p:nvPr/>
          </p:nvSpPr>
          <p:spPr>
            <a:xfrm>
              <a:off x="8093160" y="549360"/>
              <a:ext cx="935280" cy="5976720"/>
            </a:xfrm>
            <a:prstGeom prst="flowChartTerminator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61" name="Object 8"/>
            <p:cNvGraphicFramePr/>
            <p:nvPr/>
          </p:nvGraphicFramePr>
          <p:xfrm>
            <a:off x="8251920" y="2888280"/>
            <a:ext cx="481680" cy="1748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51920" y="2888280"/>
                      <a:ext cx="481680" cy="174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Rectangle 9"/>
            <p:cNvSpPr/>
            <p:nvPr/>
          </p:nvSpPr>
          <p:spPr>
            <a:xfrm>
              <a:off x="8185680" y="147312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ЛИЖ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AutoShape 10"/>
            <p:cNvSpPr/>
            <p:nvPr/>
          </p:nvSpPr>
          <p:spPr>
            <a:xfrm>
              <a:off x="8326080" y="2968200"/>
              <a:ext cx="468000" cy="163584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Ч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Р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3366"/>
                  </a:solidFill>
                  <a:latin typeface="Verdana"/>
                </a:rPr>
                <a:t>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Verdana"/>
                </a:rPr>
                <a:t>к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51445E-007 L -0.28924 0.00139 E">
                                      <p:cBhvr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cc00"/>
                </a:solidFill>
                <a:latin typeface="Tahoma"/>
              </a:rPr>
              <a:t>Тиск твердих тіл на поверхню. 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Після вивчення теми ви повинні знати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значення сили тис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значення тис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диниці вимірювання ти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Вмі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користовувати формулу тиску під час розв'язування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Силу, яка діє перпендикулярно поверхні тіла, називають силою тиску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Рисунок 3" descr="Описание: C:\Users\Comp\Pictures\FreeVideoToJPGConverter\Тиск  Сила тиску (21.11.2014 12-43-12)\Тиск  Сила тиску 021.jpg"/>
          <p:cNvPicPr/>
          <p:nvPr/>
        </p:nvPicPr>
        <p:blipFill>
          <a:blip r:embed="rId1"/>
          <a:srcRect l="0" t="0" r="-1511" b="-51"/>
          <a:stretch/>
        </p:blipFill>
        <p:spPr>
          <a:xfrm>
            <a:off x="1042920" y="2133720"/>
            <a:ext cx="68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324000" y="1025640"/>
            <a:ext cx="8640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ти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 ти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ahoma"/>
              </a:rPr>
              <a:t>Величина, що характеризує дію сили на фізичне тіло і чисельно дорівнює відношенню сили, яка діє перпендикулярно поверхні, до площі цієї поверхні, називається тис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2"/>
          <a:stretch/>
        </p:blipFill>
        <p:spPr>
          <a:xfrm>
            <a:off x="3851280" y="5229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843280" cy="1992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2T16:09:26Z</dcterms:created>
  <dc:creator>Настя</dc:creator>
  <dc:description/>
  <dc:language>en-US</dc:language>
  <cp:lastModifiedBy>Настя</cp:lastModifiedBy>
  <dcterms:modified xsi:type="dcterms:W3CDTF">2017-03-02T19:46:02Z</dcterms:modified>
  <cp:revision>44</cp:revision>
  <dc:subject/>
  <dc:title>“З усіх скарбів знання найцінніше, тому що воно не може бути ні вкраденим, ні загубленим, ані знищеним”                                      Народне прислів’я</dc:title>
</cp:coreProperties>
</file>