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7FFE-58D7-40B8-B726-EC21CB93CEE1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A0B-6834-443F-90C0-FFECC8C4CF78}" type="slidenum">
              <a:rPr b="0" lang="ru-RU" sz="12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BD4F-01BC-4FA7-875D-C07E0DB71A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6B86-C828-48FE-95C7-3D080100AD03}" type="slidenum">
              <a:rPr b="0" lang="ru-RU" sz="12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8EE5-AF87-4BD2-85EC-391EAC691C08}" type="slidenum">
              <a:rPr b="0" lang="ru-RU" sz="12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E234-D8B1-46E3-9595-6EDD752E40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3AF4-294C-4001-A1BA-FD6942D143F2}" type="slidenum">
              <a:rPr b="0" lang="ru-RU" sz="12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6C8-FEE4-4019-A0E9-6219FAD1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2AF-AB53-4058-BC59-034248F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247-E843-49A9-92BA-BB36D96F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4EC-F028-4466-8CA0-75678C82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ABA35-A997-460A-A38D-4D3F4D28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27BFF-DA1B-4F48-835A-5D82F793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FA0A-5BAC-41A8-A356-F6085E7D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B8311-7C75-4EC1-B015-4F0DAB44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CE227-DCC7-4305-8743-E0630561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A458C-B747-4E84-9F13-AEA04C41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C6846-0F39-4646-9EFB-9A69CDA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323-EF2A-47DD-B295-9275BA35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C957A-A763-425F-8219-A6D36AF8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C54F8-55A1-47DA-A308-2D76CD59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3AC62-F52F-47FA-81B3-6C0B8C5A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CD7E1-1292-476F-9216-F2F396A6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AAF70-9A08-4911-B7E7-4E100931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9BD5F-4EF7-478F-B98A-9DC095B3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B14AA-DC71-45B2-9723-FA4B56C4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19969-1A21-4B34-BEE2-85F467E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A8C25-B049-4B5A-9369-13BC4DE4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4C75B-2522-4232-B153-04E14FC3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B02-85B0-4F8E-B246-5881259F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A735E-67D9-48B5-A9ED-B533A3C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6F1D9-7D97-42B3-8C7D-55B3F90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09AB1-4C1F-40C7-A52D-CD6C6170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CC971-EDFA-4752-91E7-AEFE035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F5BFE-BF60-41A5-9DFC-FD4E2C21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075F5-B721-465A-BBAF-A8EFEDDD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B8CC3-35CC-49DD-A64B-4770D8BD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86E89-43B9-415A-9C65-F8FAFA07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555BC-AA6A-4361-8671-35ADBE1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17190-2D4B-4908-9452-20D5BA6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5E7-CDE0-4E18-BBC9-6BE05C7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86EE8-0802-43E9-9E0F-D6E7CD7C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B263A-4815-4EA6-A88B-B68433A6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62B7F-B998-4995-B635-34E31034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F2279-B0AD-4813-81BF-4D0D00C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F49CC-31B3-482A-B5C8-24E75B8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E8757-AB89-49B7-9BF2-407AF327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7A58B-1852-4D71-AED3-62BFDB93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E62C8-7976-454C-A232-B04FAD59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9ED2D-67D5-4DFA-ADB7-768FCCB8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C236E-C56D-419E-B11B-CF0DED9F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80D-A047-4FE8-A68B-DA26F2C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972C1-32C6-4DD8-9015-AD6B6DC7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78798-CFC7-411C-80A7-E2DCD09F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A26FB-3B79-4906-90E6-1D3BB266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00B4E-D804-49C5-BB62-FEDF22A9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48C9C-43D1-4FF4-8E1D-4C8467FE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75E6B-2956-462E-8CD8-BAA2CBC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35652-BA11-4116-B9D0-58D480C2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44D8C-3E96-4952-8FCD-0C3B62E7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79FE0-1D7B-41D2-BCA0-A4DDD35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CDDDE-1AC6-4770-B3A0-19624EA8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396-3B13-4061-A0BE-82054A50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95AA6-4DCE-4F53-95B8-8156C2AA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3B33A-E62B-4F5D-8A9D-64987755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6DAB2-5611-4293-A42A-3B0594BA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FE8E2-3964-47B5-9A1C-74A71463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0D97E-D178-420B-8EA5-DBB0255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0E283-FC1F-4191-97CD-3996CA0C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720AF-34D2-4397-9EB7-7B545A1C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51137-21F4-491D-9FCE-165FF8B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ABCA4-E889-4DBF-809A-9D10C952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AD4B6-DBE3-44A9-B7A0-C28371C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8F3-82ED-413B-B7C1-64F0576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EFB37-9688-4E12-A9C8-B599A8A0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FDC2B-166C-430D-BB81-AB2D1198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3D786-9DF2-4973-B335-1CFC4B48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209-0017-477C-A7F8-8DDFB56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283-4343-4517-AC50-BBEF05C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1a08">
                  <a:alpha val="36078"/>
                </a:srgbClr>
              </a:gs>
              <a:gs pos="100000">
                <a:srgbClr val="212745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F826-32BE-4F3C-A894-40948C25B26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1a08">
                  <a:alpha val="36078"/>
                </a:srgbClr>
              </a:gs>
              <a:gs pos="100000">
                <a:srgbClr val="212745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4A9-8184-4D37-A323-8E57ED8F3DEB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1a08">
                  <a:alpha val="36078"/>
                </a:srgbClr>
              </a:gs>
              <a:gs pos="100000">
                <a:srgbClr val="212745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98B-D507-418D-A909-1F8E1D60E675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1a08">
                  <a:alpha val="36078"/>
                </a:srgbClr>
              </a:gs>
              <a:gs pos="100000">
                <a:srgbClr val="212745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2B73-0B19-4133-B3FE-B8ED23B2589C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1a08">
                  <a:alpha val="36078"/>
                </a:srgbClr>
              </a:gs>
              <a:gs pos="100000">
                <a:srgbClr val="212745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2E7-6E2F-4677-93CF-D7F0994D77E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1a08">
                  <a:alpha val="36078"/>
                </a:srgbClr>
              </a:gs>
              <a:gs pos="100000">
                <a:srgbClr val="212745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0DCB-5401-4752-A8F6-8DE4918E13E2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Лувр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1" name="Объект 9" descr=""/>
          <p:cNvPicPr/>
          <p:nvPr/>
        </p:nvPicPr>
        <p:blipFill>
          <a:blip r:embed="rId2"/>
          <a:stretch/>
        </p:blipFill>
        <p:spPr>
          <a:xfrm>
            <a:off x="900000" y="800280"/>
            <a:ext cx="7329600" cy="428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олилиния 44"/>
          <p:cNvSpPr/>
          <p:nvPr/>
        </p:nvSpPr>
        <p:spPr>
          <a:xfrm>
            <a:off x="1643040" y="4673520"/>
            <a:ext cx="2705040" cy="1479600"/>
          </a:xfrm>
          <a:custGeom>
            <a:avLst/>
            <a:gdLst/>
            <a:ahLst/>
            <a:rect l="l" t="t" r="r" b="b"/>
            <a:pathLst>
              <a:path w="2705100" h="1438275">
                <a:moveTo>
                  <a:pt x="0" y="800100"/>
                </a:moveTo>
                <a:lnTo>
                  <a:pt x="1266825" y="1438275"/>
                </a:lnTo>
                <a:lnTo>
                  <a:pt x="2705100" y="733425"/>
                </a:lnTo>
                <a:lnTo>
                  <a:pt x="1781175" y="0"/>
                </a:lnTo>
                <a:lnTo>
                  <a:pt x="609600" y="0"/>
                </a:lnTo>
                <a:lnTo>
                  <a:pt x="0" y="800100"/>
                </a:lnTo>
                <a:close/>
              </a:path>
            </a:pathLst>
          </a:custGeom>
          <a:solidFill>
            <a:srgbClr val="424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Полилиния 48"/>
          <p:cNvSpPr/>
          <p:nvPr/>
        </p:nvSpPr>
        <p:spPr>
          <a:xfrm>
            <a:off x="1654200" y="2505240"/>
            <a:ext cx="1265040" cy="3649320"/>
          </a:xfrm>
          <a:custGeom>
            <a:avLst/>
            <a:gdLst/>
            <a:ahLst/>
            <a:rect l="l" t="t" r="r" b="b"/>
            <a:pathLst>
              <a:path w="1270304" h="3690452">
                <a:moveTo>
                  <a:pt x="1264828" y="0"/>
                </a:moveTo>
                <a:cubicBezTo>
                  <a:pt x="1266653" y="1230151"/>
                  <a:pt x="1268479" y="2460301"/>
                  <a:pt x="1270304" y="3690452"/>
                </a:cubicBezTo>
                <a:lnTo>
                  <a:pt x="0" y="3038874"/>
                </a:lnTo>
                <a:lnTo>
                  <a:pt x="1264828" y="0"/>
                </a:lnTo>
                <a:close/>
              </a:path>
            </a:pathLst>
          </a:custGeom>
          <a:gradFill rotWithShape="0">
            <a:gsLst>
              <a:gs pos="0">
                <a:srgbClr val="788895"/>
              </a:gs>
              <a:gs pos="100000">
                <a:srgbClr val="cfeaff">
                  <a:alpha val="44313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Полилиния 96"/>
          <p:cNvSpPr/>
          <p:nvPr/>
        </p:nvSpPr>
        <p:spPr>
          <a:xfrm>
            <a:off x="2244600" y="2452680"/>
            <a:ext cx="1189080" cy="2244600"/>
          </a:xfrm>
          <a:custGeom>
            <a:avLst/>
            <a:gdLst/>
            <a:ahLst/>
            <a:rect l="l" t="t" r="r" b="b"/>
            <a:pathLst>
              <a:path w="1188173" h="2244934">
                <a:moveTo>
                  <a:pt x="662529" y="0"/>
                </a:moveTo>
                <a:lnTo>
                  <a:pt x="1188173" y="2244934"/>
                </a:lnTo>
                <a:lnTo>
                  <a:pt x="0" y="2228508"/>
                </a:lnTo>
                <a:lnTo>
                  <a:pt x="662529" y="0"/>
                </a:lnTo>
                <a:close/>
              </a:path>
            </a:pathLst>
          </a:custGeom>
          <a:gradFill rotWithShape="0">
            <a:gsLst>
              <a:gs pos="0">
                <a:srgbClr val="788895"/>
              </a:gs>
              <a:gs pos="100000">
                <a:srgbClr val="cfeaff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Полилиния 90"/>
          <p:cNvSpPr/>
          <p:nvPr/>
        </p:nvSpPr>
        <p:spPr>
          <a:xfrm>
            <a:off x="2906640" y="2459160"/>
            <a:ext cx="1441440" cy="2966760"/>
          </a:xfrm>
          <a:custGeom>
            <a:avLst/>
            <a:gdLst/>
            <a:ahLst/>
            <a:rect l="l" t="t" r="r" b="b"/>
            <a:pathLst>
              <a:path w="1440044" h="2967693">
                <a:moveTo>
                  <a:pt x="0" y="0"/>
                </a:moveTo>
                <a:lnTo>
                  <a:pt x="531119" y="2239458"/>
                </a:lnTo>
                <a:lnTo>
                  <a:pt x="1440044" y="29676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88895"/>
              </a:gs>
              <a:gs pos="100000">
                <a:srgbClr val="cfeaff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Полилиния 114"/>
          <p:cNvSpPr/>
          <p:nvPr/>
        </p:nvSpPr>
        <p:spPr>
          <a:xfrm>
            <a:off x="2903400" y="2451240"/>
            <a:ext cx="1443240" cy="3693960"/>
          </a:xfrm>
          <a:custGeom>
            <a:avLst/>
            <a:gdLst/>
            <a:ahLst/>
            <a:rect l="l" t="t" r="r" b="b"/>
            <a:pathLst>
              <a:path w="1441938" h="3692769">
                <a:moveTo>
                  <a:pt x="0" y="0"/>
                </a:moveTo>
                <a:lnTo>
                  <a:pt x="0" y="3692769"/>
                </a:lnTo>
                <a:lnTo>
                  <a:pt x="1441938" y="2969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88895"/>
              </a:gs>
              <a:gs pos="100000">
                <a:srgbClr val="cfeaff">
                  <a:alpha val="44313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Полилиния 52"/>
          <p:cNvSpPr/>
          <p:nvPr/>
        </p:nvSpPr>
        <p:spPr>
          <a:xfrm>
            <a:off x="1643040" y="2459160"/>
            <a:ext cx="1263600" cy="3038400"/>
          </a:xfrm>
          <a:custGeom>
            <a:avLst/>
            <a:gdLst/>
            <a:ahLst/>
            <a:rect l="l" t="t" r="r" b="b"/>
            <a:pathLst>
              <a:path w="1264828" h="3038874">
                <a:moveTo>
                  <a:pt x="1264828" y="0"/>
                </a:moveTo>
                <a:lnTo>
                  <a:pt x="0" y="3038874"/>
                </a:lnTo>
                <a:lnTo>
                  <a:pt x="607775" y="2217557"/>
                </a:lnTo>
                <a:lnTo>
                  <a:pt x="1264828" y="0"/>
                </a:lnTo>
                <a:close/>
              </a:path>
            </a:pathLst>
          </a:custGeom>
          <a:gradFill rotWithShape="0">
            <a:gsLst>
              <a:gs pos="0">
                <a:srgbClr val="788895"/>
              </a:gs>
              <a:gs pos="100000">
                <a:srgbClr val="cfeaff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0920" y="262080"/>
            <a:ext cx="811836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Palatino Linotype"/>
                <a:ea typeface="Arial"/>
              </a:rPr>
              <a:t>Піраміда (др. греч. πυραμίς) – многогранник, основа якого  – многокутник, а інші  грані – трикутники, що  мають  спільну  вершину</a:t>
            </a:r>
            <a:endParaRPr b="0" lang="en-US" sz="2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Text Box 1055"/>
          <p:cNvSpPr/>
          <p:nvPr/>
        </p:nvSpPr>
        <p:spPr>
          <a:xfrm>
            <a:off x="5292720" y="480204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50" name="Группа 120"/>
          <p:cNvGrpSpPr/>
          <p:nvPr/>
        </p:nvGrpSpPr>
        <p:grpSpPr>
          <a:xfrm>
            <a:off x="1650960" y="4673160"/>
            <a:ext cx="2705040" cy="1479960"/>
            <a:chOff x="1650960" y="4673160"/>
            <a:chExt cx="2705040" cy="1479960"/>
          </a:xfrm>
        </p:grpSpPr>
        <p:sp>
          <p:nvSpPr>
            <p:cNvPr id="351" name="Прямая соединительная линия 72"/>
            <p:cNvSpPr/>
            <p:nvPr/>
          </p:nvSpPr>
          <p:spPr>
            <a:xfrm flipV="1">
              <a:off x="1650960" y="4673520"/>
              <a:ext cx="609480" cy="8222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52" name="Прямая соединительная линия 68"/>
            <p:cNvSpPr/>
            <p:nvPr/>
          </p:nvSpPr>
          <p:spPr>
            <a:xfrm>
              <a:off x="1650960" y="5497560"/>
              <a:ext cx="1266840" cy="65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53" name="Прямая соединительная линия 69"/>
            <p:cNvSpPr/>
            <p:nvPr/>
          </p:nvSpPr>
          <p:spPr>
            <a:xfrm flipV="1">
              <a:off x="2917800" y="5427360"/>
              <a:ext cx="1438200" cy="72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54" name="Прямая соединительная линия 75"/>
            <p:cNvSpPr/>
            <p:nvPr/>
          </p:nvSpPr>
          <p:spPr>
            <a:xfrm flipH="1" flipV="1">
              <a:off x="2253960" y="4673160"/>
              <a:ext cx="1184400" cy="46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55" name="Прямая соединительная линия 78"/>
            <p:cNvSpPr/>
            <p:nvPr/>
          </p:nvSpPr>
          <p:spPr>
            <a:xfrm flipH="1" flipV="1">
              <a:off x="3438000" y="4677840"/>
              <a:ext cx="909720" cy="7491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56" name="Группа 121"/>
          <p:cNvGrpSpPr/>
          <p:nvPr/>
        </p:nvGrpSpPr>
        <p:grpSpPr>
          <a:xfrm>
            <a:off x="1643040" y="2459160"/>
            <a:ext cx="2705040" cy="3695400"/>
            <a:chOff x="1643040" y="2459160"/>
            <a:chExt cx="2705040" cy="3695400"/>
          </a:xfrm>
        </p:grpSpPr>
        <p:sp>
          <p:nvSpPr>
            <p:cNvPr id="357" name="Прямая соединительная линия 55"/>
            <p:cNvSpPr/>
            <p:nvPr/>
          </p:nvSpPr>
          <p:spPr>
            <a:xfrm flipH="1">
              <a:off x="2260080" y="2459160"/>
              <a:ext cx="647640" cy="22143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58" name="Прямая соединительная линия 57"/>
            <p:cNvSpPr/>
            <p:nvPr/>
          </p:nvSpPr>
          <p:spPr>
            <a:xfrm>
              <a:off x="2908080" y="2459160"/>
              <a:ext cx="527040" cy="22269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59" name="Прямая соединительная линия 60"/>
            <p:cNvSpPr/>
            <p:nvPr/>
          </p:nvSpPr>
          <p:spPr>
            <a:xfrm>
              <a:off x="2908080" y="2459160"/>
              <a:ext cx="1440000" cy="296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0" name="Прямая соединительная линия 63"/>
            <p:cNvSpPr/>
            <p:nvPr/>
          </p:nvSpPr>
          <p:spPr>
            <a:xfrm flipH="1">
              <a:off x="1643040" y="2459160"/>
              <a:ext cx="1265040" cy="3036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1" name="Прямая соединительная линия 112"/>
            <p:cNvSpPr/>
            <p:nvPr/>
          </p:nvSpPr>
          <p:spPr>
            <a:xfrm>
              <a:off x="2906640" y="2459160"/>
              <a:ext cx="12600" cy="36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62" name="Rectangle 1028"/>
          <p:cNvSpPr/>
          <p:nvPr/>
        </p:nvSpPr>
        <p:spPr>
          <a:xfrm>
            <a:off x="5292720" y="3968640"/>
            <a:ext cx="2879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Бічні  грані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Rectangle 1063"/>
          <p:cNvSpPr/>
          <p:nvPr/>
        </p:nvSpPr>
        <p:spPr>
          <a:xfrm>
            <a:off x="5292720" y="4869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основа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Прямоугольник 124"/>
          <p:cNvSpPr/>
          <p:nvPr/>
        </p:nvSpPr>
        <p:spPr>
          <a:xfrm>
            <a:off x="5292720" y="221472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  <a:ea typeface="Arial"/>
              </a:rPr>
              <a:t>вершин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5" name="Rectangle 1028"/>
          <p:cNvSpPr/>
          <p:nvPr/>
        </p:nvSpPr>
        <p:spPr>
          <a:xfrm>
            <a:off x="5292720" y="3114720"/>
            <a:ext cx="360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Бічні  ребр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6" name="TextBox 136"/>
          <p:cNvSpPr/>
          <p:nvPr/>
        </p:nvSpPr>
        <p:spPr>
          <a:xfrm>
            <a:off x="2651040" y="201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7" name="TextBox 137"/>
          <p:cNvSpPr/>
          <p:nvPr/>
        </p:nvSpPr>
        <p:spPr>
          <a:xfrm>
            <a:off x="1279440" y="53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Palatino Linotype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8" name="TextBox 188"/>
          <p:cNvSpPr/>
          <p:nvPr/>
        </p:nvSpPr>
        <p:spPr>
          <a:xfrm>
            <a:off x="2657520" y="6105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9" name="TextBox 189"/>
          <p:cNvSpPr/>
          <p:nvPr/>
        </p:nvSpPr>
        <p:spPr>
          <a:xfrm>
            <a:off x="4257720" y="53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0" name="TextBox 190"/>
          <p:cNvSpPr/>
          <p:nvPr/>
        </p:nvSpPr>
        <p:spPr>
          <a:xfrm>
            <a:off x="3165480" y="4651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1" name="TextBox 191"/>
          <p:cNvSpPr/>
          <p:nvPr/>
        </p:nvSpPr>
        <p:spPr>
          <a:xfrm>
            <a:off x="2279520" y="4651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Овал 196"/>
          <p:cNvSpPr/>
          <p:nvPr/>
        </p:nvSpPr>
        <p:spPr>
          <a:xfrm>
            <a:off x="2881440" y="2440080"/>
            <a:ext cx="46080" cy="46080"/>
          </a:xfrm>
          <a:prstGeom prst="ellipse">
            <a:avLst/>
          </a:prstGeom>
          <a:solidFill>
            <a:srgbClr val="c00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373" name="Прямая со стрелкой 33"/>
          <p:cNvCxnSpPr/>
          <p:nvPr/>
        </p:nvCxnSpPr>
        <p:spPr>
          <a:xfrm flipH="1" flipV="1">
            <a:off x="2996640" y="2483640"/>
            <a:ext cx="2299320" cy="2520"/>
          </a:xfrm>
          <a:prstGeom prst="straightConnector1">
            <a:avLst/>
          </a:prstGeom>
          <a:ln w="19080">
            <a:solidFill>
              <a:srgbClr val="4e67c8"/>
            </a:solidFill>
            <a:miter/>
            <a:tailEnd len="lg" type="stealth" w="med"/>
          </a:ln>
        </p:spPr>
      </p:cxnSp>
      <p:cxnSp>
        <p:nvCxnSpPr>
          <p:cNvPr id="374" name="Прямая со стрелкой 51"/>
          <p:cNvCxnSpPr/>
          <p:nvPr/>
        </p:nvCxnSpPr>
        <p:spPr>
          <a:xfrm flipH="1" flipV="1">
            <a:off x="3401640" y="3384360"/>
            <a:ext cx="1891440" cy="2160"/>
          </a:xfrm>
          <a:prstGeom prst="straightConnector1">
            <a:avLst/>
          </a:prstGeom>
          <a:ln w="19080">
            <a:solidFill>
              <a:srgbClr val="4e67c8"/>
            </a:solidFill>
            <a:miter/>
            <a:tailEnd len="lg" type="stealth" w="med"/>
          </a:ln>
        </p:spPr>
      </p:cxnSp>
      <p:cxnSp>
        <p:nvCxnSpPr>
          <p:cNvPr id="375" name="Прямая со стрелкой 58"/>
          <p:cNvCxnSpPr/>
          <p:nvPr/>
        </p:nvCxnSpPr>
        <p:spPr>
          <a:xfrm flipH="1">
            <a:off x="3536280" y="4238640"/>
            <a:ext cx="1756440" cy="46800"/>
          </a:xfrm>
          <a:prstGeom prst="straightConnector1">
            <a:avLst/>
          </a:prstGeom>
          <a:ln w="19080">
            <a:solidFill>
              <a:srgbClr val="4e67c8"/>
            </a:solidFill>
            <a:miter/>
            <a:tailEnd len="lg" type="stealth" w="med"/>
          </a:ln>
        </p:spPr>
      </p:cxnSp>
      <p:cxnSp>
        <p:nvCxnSpPr>
          <p:cNvPr id="376" name="Прямая со стрелкой 65"/>
          <p:cNvCxnSpPr/>
          <p:nvPr/>
        </p:nvCxnSpPr>
        <p:spPr>
          <a:xfrm flipH="1">
            <a:off x="3266280" y="5138640"/>
            <a:ext cx="2026440" cy="54720"/>
          </a:xfrm>
          <a:prstGeom prst="straightConnector1">
            <a:avLst/>
          </a:prstGeom>
          <a:ln w="19080">
            <a:solidFill>
              <a:srgbClr val="4e67c8"/>
            </a:solidFill>
            <a:miter/>
            <a:tailEnd len="lg" type="stealth" w="med"/>
          </a:ln>
        </p:spPr>
      </p:cxnSp>
    </p:spTree>
  </p:cSld>
  <p:transition spd="slow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5"/>
          <p:cNvSpPr/>
          <p:nvPr/>
        </p:nvSpPr>
        <p:spPr>
          <a:xfrm>
            <a:off x="250920" y="18900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Піраміда називається </a:t>
            </a:r>
            <a:r>
              <a:rPr b="1" i="1" lang="ru-RU" sz="2800" spc="-1" strike="noStrike">
                <a:solidFill>
                  <a:srgbClr val="ffffff"/>
                </a:solidFill>
                <a:latin typeface="Palatino Linotype"/>
              </a:rPr>
              <a:t>правильною</a:t>
            </a: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, якщо  її основа - правильний многокутник, а вершина проектується  в центр основи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4140360" y="1916280"/>
            <a:ext cx="500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Palatino Linotype"/>
              </a:rPr>
              <a:t>В правильній пірамід</a:t>
            </a:r>
            <a:r>
              <a:rPr b="0" i="1" lang="uk-UA" sz="3200" spc="-1" strike="noStrike">
                <a:solidFill>
                  <a:srgbClr val="ffffff"/>
                </a:solidFill>
                <a:latin typeface="Palatino Linotype"/>
              </a:rPr>
              <a:t>і</a:t>
            </a:r>
            <a:r>
              <a:rPr b="0" i="1" lang="ru-RU" sz="3200" spc="-1" strike="noStrike">
                <a:solidFill>
                  <a:srgbClr val="ffffff"/>
                </a:solidFill>
                <a:latin typeface="Palatino Linotype"/>
              </a:rPr>
              <a:t> всі бічні  грані – рівні рівнобедрені  трикутники</a:t>
            </a:r>
            <a:r>
              <a:rPr b="0" i="1" lang="ru-RU" sz="3200" spc="-1" strike="noStrike">
                <a:solidFill>
                  <a:srgbClr val="5d2e00"/>
                </a:solidFill>
                <a:latin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Прямоугольник 49"/>
          <p:cNvSpPr/>
          <p:nvPr/>
        </p:nvSpPr>
        <p:spPr>
          <a:xfrm>
            <a:off x="5435640" y="4149720"/>
            <a:ext cx="37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Palatino Linotype"/>
              </a:rPr>
              <a:t>Апофема – висота бічної  грані правильнойї піраміди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0" name="Группа 53"/>
          <p:cNvGrpSpPr/>
          <p:nvPr/>
        </p:nvGrpSpPr>
        <p:grpSpPr>
          <a:xfrm>
            <a:off x="395280" y="1773360"/>
            <a:ext cx="3718080" cy="4565520"/>
            <a:chOff x="395280" y="1773360"/>
            <a:chExt cx="3718080" cy="4565520"/>
          </a:xfrm>
        </p:grpSpPr>
        <p:sp>
          <p:nvSpPr>
            <p:cNvPr id="381" name="Полилиния 7"/>
            <p:cNvSpPr/>
            <p:nvPr/>
          </p:nvSpPr>
          <p:spPr>
            <a:xfrm>
              <a:off x="1506600" y="2228760"/>
              <a:ext cx="2138400" cy="2219400"/>
            </a:xfrm>
            <a:custGeom>
              <a:avLst/>
              <a:gdLst/>
              <a:ahLst/>
              <a:rect l="l" t="t" r="r" b="b"/>
              <a:pathLst>
                <a:path w="2138901" h="2218414">
                  <a:moveTo>
                    <a:pt x="715618" y="0"/>
                  </a:moveTo>
                  <a:lnTo>
                    <a:pt x="2138901" y="2210463"/>
                  </a:lnTo>
                  <a:lnTo>
                    <a:pt x="0" y="2218414"/>
                  </a:lnTo>
                  <a:lnTo>
                    <a:pt x="7156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3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2" name="Параллелограмм 8"/>
            <p:cNvSpPr/>
            <p:nvPr/>
          </p:nvSpPr>
          <p:spPr>
            <a:xfrm>
              <a:off x="779400" y="4440240"/>
              <a:ext cx="2889360" cy="1466640"/>
            </a:xfrm>
            <a:prstGeom prst="parallelogram">
              <a:avLst>
                <a:gd name="adj" fmla="val 48996"/>
              </a:avLst>
            </a:prstGeom>
            <a:solidFill>
              <a:srgbClr val="424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3" name="Полилиния 9"/>
            <p:cNvSpPr/>
            <p:nvPr/>
          </p:nvSpPr>
          <p:spPr>
            <a:xfrm>
              <a:off x="798480" y="2228760"/>
              <a:ext cx="2162160" cy="3689280"/>
            </a:xfrm>
            <a:custGeom>
              <a:avLst/>
              <a:gdLst/>
              <a:ahLst/>
              <a:rect l="l" t="t" r="r" b="b"/>
              <a:pathLst>
                <a:path w="2162755" h="3689405">
                  <a:moveTo>
                    <a:pt x="1423284" y="0"/>
                  </a:moveTo>
                  <a:lnTo>
                    <a:pt x="2162755" y="3689405"/>
                  </a:lnTo>
                  <a:lnTo>
                    <a:pt x="0" y="3673503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4" name="Полилиния 10"/>
            <p:cNvSpPr/>
            <p:nvPr/>
          </p:nvSpPr>
          <p:spPr>
            <a:xfrm>
              <a:off x="806400" y="2220840"/>
              <a:ext cx="1422360" cy="3681360"/>
            </a:xfrm>
            <a:custGeom>
              <a:avLst/>
              <a:gdLst/>
              <a:ahLst/>
              <a:rect l="l" t="t" r="r" b="b"/>
              <a:pathLst>
                <a:path w="1423284" h="3681454">
                  <a:moveTo>
                    <a:pt x="1423284" y="0"/>
                  </a:moveTo>
                  <a:lnTo>
                    <a:pt x="723569" y="2226365"/>
                  </a:lnTo>
                  <a:lnTo>
                    <a:pt x="0" y="3681454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1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5" name="Полилиния 11"/>
            <p:cNvSpPr/>
            <p:nvPr/>
          </p:nvSpPr>
          <p:spPr>
            <a:xfrm>
              <a:off x="2220840" y="2228760"/>
              <a:ext cx="1432080" cy="3697200"/>
            </a:xfrm>
            <a:custGeom>
              <a:avLst/>
              <a:gdLst/>
              <a:ahLst/>
              <a:rect l="l" t="t" r="r" b="b"/>
              <a:pathLst>
                <a:path w="1431234" h="3697357">
                  <a:moveTo>
                    <a:pt x="0" y="0"/>
                  </a:moveTo>
                  <a:lnTo>
                    <a:pt x="1431234" y="2210463"/>
                  </a:lnTo>
                  <a:lnTo>
                    <a:pt x="739471" y="36973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14117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6" name="Прямая соединительная линия 12"/>
            <p:cNvSpPr/>
            <p:nvPr/>
          </p:nvSpPr>
          <p:spPr>
            <a:xfrm flipH="1" flipV="1">
              <a:off x="2217600" y="2217240"/>
              <a:ext cx="6120" cy="29595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7" name="Полилиния 13"/>
            <p:cNvSpPr/>
            <p:nvPr/>
          </p:nvSpPr>
          <p:spPr>
            <a:xfrm>
              <a:off x="798480" y="4411800"/>
              <a:ext cx="2878200" cy="1479600"/>
            </a:xfrm>
            <a:custGeom>
              <a:avLst/>
              <a:gdLst/>
              <a:ahLst/>
              <a:rect l="l" t="t" r="r" b="b"/>
              <a:pathLst>
                <a:path w="2878372" h="1478943">
                  <a:moveTo>
                    <a:pt x="0" y="1478943"/>
                  </a:moveTo>
                  <a:lnTo>
                    <a:pt x="731520" y="0"/>
                  </a:lnTo>
                  <a:lnTo>
                    <a:pt x="2878372" y="15903"/>
                  </a:lnTo>
                  <a:lnTo>
                    <a:pt x="2870420" y="1590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Прямая соединительная линия 17"/>
            <p:cNvSpPr/>
            <p:nvPr/>
          </p:nvSpPr>
          <p:spPr>
            <a:xfrm flipH="1">
              <a:off x="1530360" y="2208240"/>
              <a:ext cx="698400" cy="22035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9" name="Прямая соединительная линия 19"/>
            <p:cNvSpPr/>
            <p:nvPr/>
          </p:nvSpPr>
          <p:spPr>
            <a:xfrm flipH="1">
              <a:off x="779400" y="2236680"/>
              <a:ext cx="1441440" cy="367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0" name="TextBox 20"/>
            <p:cNvSpPr/>
            <p:nvPr/>
          </p:nvSpPr>
          <p:spPr>
            <a:xfrm>
              <a:off x="395280" y="5788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Palatino Linotype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1" name="TextBox 21"/>
            <p:cNvSpPr/>
            <p:nvPr/>
          </p:nvSpPr>
          <p:spPr>
            <a:xfrm>
              <a:off x="2868840" y="5818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Palatino Linotype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3580200" y="408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Palatino Linotype"/>
                </a:rPr>
                <a:t>С</a:t>
              </a:r>
              <a:endParaRPr b="0" lang="en-US" sz="2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3" name="TextBox 23"/>
            <p:cNvSpPr/>
            <p:nvPr/>
          </p:nvSpPr>
          <p:spPr>
            <a:xfrm>
              <a:off x="934920" y="406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Palatino Linotype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4" name="TextBox 24"/>
            <p:cNvSpPr/>
            <p:nvPr/>
          </p:nvSpPr>
          <p:spPr>
            <a:xfrm>
              <a:off x="2024280" y="1773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Palatino Linotype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5" name="Прямая соединительная линия 36"/>
            <p:cNvSpPr/>
            <p:nvPr/>
          </p:nvSpPr>
          <p:spPr>
            <a:xfrm flipV="1">
              <a:off x="844920" y="4435200"/>
              <a:ext cx="2880000" cy="14396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6" name="Прямая соединительная линия 39"/>
            <p:cNvSpPr/>
            <p:nvPr/>
          </p:nvSpPr>
          <p:spPr>
            <a:xfrm flipH="1" flipV="1">
              <a:off x="1508040" y="4445280"/>
              <a:ext cx="1432080" cy="14652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7" name="Овал 25"/>
            <p:cNvSpPr/>
            <p:nvPr/>
          </p:nvSpPr>
          <p:spPr>
            <a:xfrm>
              <a:off x="2201760" y="5151600"/>
              <a:ext cx="45720" cy="45720"/>
            </a:xfrm>
            <a:prstGeom prst="ellipse">
              <a:avLst/>
            </a:prstGeom>
            <a:solidFill>
              <a:srgbClr val="c00000"/>
            </a:solidFill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8" name="Полилиния 46"/>
            <p:cNvSpPr/>
            <p:nvPr/>
          </p:nvSpPr>
          <p:spPr>
            <a:xfrm>
              <a:off x="3208680" y="4678560"/>
              <a:ext cx="218880" cy="285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90500" h="238125">
                  <a:moveTo>
                    <a:pt x="0" y="190500"/>
                  </a:moveTo>
                  <a:lnTo>
                    <a:pt x="85725" y="0"/>
                  </a:lnTo>
                  <a:lnTo>
                    <a:pt x="180975" y="238125"/>
                  </a:lnTo>
                  <a:lnTo>
                    <a:pt x="190500" y="2381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9" name="Прямая соединительная линия 29"/>
            <p:cNvSpPr/>
            <p:nvPr/>
          </p:nvSpPr>
          <p:spPr>
            <a:xfrm>
              <a:off x="2221920" y="2228760"/>
              <a:ext cx="1091520" cy="294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0" name="TextBox 47"/>
            <p:cNvSpPr/>
            <p:nvPr/>
          </p:nvSpPr>
          <p:spPr>
            <a:xfrm>
              <a:off x="3268800" y="4929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Palatino Linotype"/>
                </a:rPr>
                <a:t>Н</a:t>
              </a:r>
              <a:endParaRPr b="0" lang="en-US" sz="2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1" name="TextBox 48"/>
            <p:cNvSpPr/>
            <p:nvPr/>
          </p:nvSpPr>
          <p:spPr>
            <a:xfrm>
              <a:off x="1979640" y="5151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Palatino Linotype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2" name="Полилиния 14"/>
            <p:cNvSpPr/>
            <p:nvPr/>
          </p:nvSpPr>
          <p:spPr>
            <a:xfrm>
              <a:off x="782640" y="4440240"/>
              <a:ext cx="2886120" cy="1471680"/>
            </a:xfrm>
            <a:custGeom>
              <a:avLst/>
              <a:gdLst/>
              <a:ahLst/>
              <a:rect l="l" t="t" r="r" b="b"/>
              <a:pathLst>
                <a:path w="2886323" h="1470991">
                  <a:moveTo>
                    <a:pt x="2886323" y="0"/>
                  </a:moveTo>
                  <a:lnTo>
                    <a:pt x="2178657" y="1470991"/>
                  </a:lnTo>
                  <a:lnTo>
                    <a:pt x="0" y="1455089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3" name="Прямая соединительная линия 18"/>
            <p:cNvSpPr/>
            <p:nvPr/>
          </p:nvSpPr>
          <p:spPr>
            <a:xfrm>
              <a:off x="2220840" y="2236680"/>
              <a:ext cx="736560" cy="367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4" name="Прямая соединительная линия 16"/>
            <p:cNvSpPr/>
            <p:nvPr/>
          </p:nvSpPr>
          <p:spPr>
            <a:xfrm>
              <a:off x="2262240" y="2225520"/>
              <a:ext cx="1432080" cy="221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405" name="Прямая со стрелкой 29"/>
          <p:cNvCxnSpPr/>
          <p:nvPr/>
        </p:nvCxnSpPr>
        <p:spPr>
          <a:xfrm flipH="1">
            <a:off x="3602880" y="4327920"/>
            <a:ext cx="2004120" cy="1080"/>
          </a:xfrm>
          <a:prstGeom prst="straightConnector1">
            <a:avLst/>
          </a:prstGeom>
          <a:ln w="19080">
            <a:solidFill>
              <a:srgbClr val="4e67c8"/>
            </a:solidFill>
            <a:miter/>
            <a:tailEnd len="lg" type="stealth" w="med"/>
          </a:ln>
        </p:spPr>
      </p:cxnSp>
    </p:spTree>
  </p:cSld>
  <p:transition spd="slow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25400" y="2044800"/>
            <a:ext cx="3524400" cy="4124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981680" y="1959120"/>
            <a:ext cx="3362400" cy="42955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900000" y="260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та бічної грані, що проведена з вершини  правильної піраміди, називаєтьс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офемою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split dir="out" orient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4"/>
          <p:cNvSpPr/>
          <p:nvPr/>
        </p:nvSpPr>
        <p:spPr>
          <a:xfrm>
            <a:off x="755640" y="404640"/>
            <a:ext cx="7848720" cy="58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17928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ильній  піраміді ( властивості)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     бічні ребра рівні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     бічні грані рівні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     апофеми рівні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     двогранні кути при основі рівні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     кожна точка висоти правильної піраміди рівновіддалена від всіх вершин основи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     кожна точка висоти правильної піраміди рівновіддалена від усіх бічних граней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Группа 84"/>
          <p:cNvGrpSpPr/>
          <p:nvPr/>
        </p:nvGrpSpPr>
        <p:grpSpPr>
          <a:xfrm>
            <a:off x="469800" y="89280"/>
            <a:ext cx="3957480" cy="3447720"/>
            <a:chOff x="469800" y="89280"/>
            <a:chExt cx="3957480" cy="3447720"/>
          </a:xfrm>
        </p:grpSpPr>
        <p:sp>
          <p:nvSpPr>
            <p:cNvPr id="411" name="Полилиния 2"/>
            <p:cNvSpPr/>
            <p:nvPr/>
          </p:nvSpPr>
          <p:spPr>
            <a:xfrm rot="367800">
              <a:off x="491400" y="2714400"/>
              <a:ext cx="3614400" cy="600120"/>
            </a:xfrm>
            <a:custGeom>
              <a:avLst/>
              <a:gdLst/>
              <a:ahLst/>
              <a:rect l="l" t="t" r="r" b="b"/>
              <a:pathLst>
                <a:path w="3048000" h="571500">
                  <a:moveTo>
                    <a:pt x="0" y="571500"/>
                  </a:moveTo>
                  <a:lnTo>
                    <a:pt x="795337" y="0"/>
                  </a:lnTo>
                  <a:lnTo>
                    <a:pt x="3048000" y="266700"/>
                  </a:lnTo>
                  <a:lnTo>
                    <a:pt x="0" y="571500"/>
                  </a:lnTo>
                  <a:close/>
                </a:path>
              </a:pathLst>
            </a:custGeom>
            <a:solidFill>
              <a:srgbClr val="4fadf3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2" name="Полилиния 75"/>
            <p:cNvSpPr/>
            <p:nvPr/>
          </p:nvSpPr>
          <p:spPr>
            <a:xfrm rot="367800">
              <a:off x="1612080" y="330480"/>
              <a:ext cx="2675880" cy="2743200"/>
            </a:xfrm>
            <a:custGeom>
              <a:avLst/>
              <a:gdLst>
                <a:gd name="textAreaLeft" fmla="*/ 0 w 2675880"/>
                <a:gd name="textAreaRight" fmla="*/ 2676240 w 267588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257425" h="2609850">
                  <a:moveTo>
                    <a:pt x="342900" y="0"/>
                  </a:moveTo>
                  <a:lnTo>
                    <a:pt x="0" y="2352675"/>
                  </a:lnTo>
                  <a:lnTo>
                    <a:pt x="2257425" y="2609850"/>
                  </a:lnTo>
                  <a:lnTo>
                    <a:pt x="34290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3" name="Полилиния 4"/>
            <p:cNvSpPr/>
            <p:nvPr/>
          </p:nvSpPr>
          <p:spPr>
            <a:xfrm rot="367800">
              <a:off x="665640" y="157320"/>
              <a:ext cx="1337760" cy="3069000"/>
            </a:xfrm>
            <a:custGeom>
              <a:avLst/>
              <a:gdLst/>
              <a:ahLst/>
              <a:rect l="l" t="t" r="r" b="b"/>
              <a:pathLst>
                <a:path w="1128713" h="2919413">
                  <a:moveTo>
                    <a:pt x="1128713" y="0"/>
                  </a:moveTo>
                  <a:lnTo>
                    <a:pt x="785813" y="2357438"/>
                  </a:lnTo>
                  <a:lnTo>
                    <a:pt x="0" y="2919413"/>
                  </a:lnTo>
                  <a:lnTo>
                    <a:pt x="1128713" y="0"/>
                  </a:lnTo>
                  <a:close/>
                </a:path>
              </a:pathLst>
            </a:custGeom>
            <a:solidFill>
              <a:srgbClr val="424e8a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4" name="Полилиния 81"/>
            <p:cNvSpPr/>
            <p:nvPr/>
          </p:nvSpPr>
          <p:spPr>
            <a:xfrm rot="367800">
              <a:off x="511200" y="2744280"/>
              <a:ext cx="3624480" cy="600480"/>
            </a:xfrm>
            <a:custGeom>
              <a:avLst/>
              <a:gdLst>
                <a:gd name="textAreaLeft" fmla="*/ 0 w 3624480"/>
                <a:gd name="textAreaRight" fmla="*/ 3624840 w 362448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057525" h="571500">
                  <a:moveTo>
                    <a:pt x="800100" y="0"/>
                  </a:moveTo>
                  <a:lnTo>
                    <a:pt x="3057525" y="261938"/>
                  </a:lnTo>
                  <a:lnTo>
                    <a:pt x="0" y="571500"/>
                  </a:lnTo>
                  <a:lnTo>
                    <a:pt x="800100" y="0"/>
                  </a:lnTo>
                  <a:close/>
                </a:path>
              </a:pathLst>
            </a:custGeom>
            <a:noFill/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5" name="Полилиния 82"/>
            <p:cNvSpPr/>
            <p:nvPr/>
          </p:nvSpPr>
          <p:spPr>
            <a:xfrm rot="367800">
              <a:off x="1606320" y="325440"/>
              <a:ext cx="2681640" cy="2753280"/>
            </a:xfrm>
            <a:custGeom>
              <a:avLst/>
              <a:gdLst>
                <a:gd name="textAreaLeft" fmla="*/ 0 w 2681640"/>
                <a:gd name="textAreaRight" fmla="*/ 2682000 w 2681640"/>
                <a:gd name="textAreaTop" fmla="*/ 0 h 2753280"/>
                <a:gd name="textAreaBottom" fmla="*/ 2753640 h 2753280"/>
              </a:gdLst>
              <a:ahLst/>
              <a:rect l="textAreaLeft" t="textAreaTop" r="textAreaRight" b="textAreaBottom"/>
              <a:pathLst>
                <a:path w="2262187" h="2619375">
                  <a:moveTo>
                    <a:pt x="0" y="2352675"/>
                  </a:moveTo>
                  <a:lnTo>
                    <a:pt x="347662" y="0"/>
                  </a:lnTo>
                  <a:lnTo>
                    <a:pt x="2262187" y="2619375"/>
                  </a:lnTo>
                </a:path>
              </a:pathLst>
            </a:custGeom>
            <a:noFill/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6" name="Полилиния 83"/>
            <p:cNvSpPr/>
            <p:nvPr/>
          </p:nvSpPr>
          <p:spPr>
            <a:xfrm rot="367800">
              <a:off x="649800" y="152280"/>
              <a:ext cx="1349280" cy="307836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3078360"/>
                <a:gd name="textAreaBottom" fmla="*/ 3078720 h 3078360"/>
              </a:gdLst>
              <a:ahLst/>
              <a:rect l="textAreaLeft" t="textAreaTop" r="textAreaRight" b="textAreaBottom"/>
              <a:pathLst>
                <a:path w="1138237" h="2928937">
                  <a:moveTo>
                    <a:pt x="1138237" y="0"/>
                  </a:moveTo>
                  <a:lnTo>
                    <a:pt x="0" y="2928937"/>
                  </a:lnTo>
                  <a:lnTo>
                    <a:pt x="14287" y="2914650"/>
                  </a:lnTo>
                </a:path>
              </a:pathLst>
            </a:custGeom>
            <a:noFill/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17" name="Группа 105"/>
          <p:cNvGrpSpPr/>
          <p:nvPr/>
        </p:nvGrpSpPr>
        <p:grpSpPr>
          <a:xfrm>
            <a:off x="2411280" y="3187800"/>
            <a:ext cx="3478320" cy="3265560"/>
            <a:chOff x="2411280" y="3187800"/>
            <a:chExt cx="3478320" cy="3265560"/>
          </a:xfrm>
        </p:grpSpPr>
        <p:sp>
          <p:nvSpPr>
            <p:cNvPr id="418" name="Полилиния 104"/>
            <p:cNvSpPr/>
            <p:nvPr/>
          </p:nvSpPr>
          <p:spPr>
            <a:xfrm>
              <a:off x="2411280" y="3193200"/>
              <a:ext cx="1943280" cy="2697840"/>
            </a:xfrm>
            <a:custGeom>
              <a:avLst/>
              <a:gdLst>
                <a:gd name="textAreaLeft" fmla="*/ 0 w 1943280"/>
                <a:gd name="textAreaRight" fmla="*/ 1943640 w 1943280"/>
                <a:gd name="textAreaTop" fmla="*/ 0 h 2697840"/>
                <a:gd name="textAreaBottom" fmla="*/ 2698200 h 2697840"/>
              </a:gdLst>
              <a:ahLst/>
              <a:rect l="textAreaLeft" t="textAreaTop" r="textAreaRight" b="textAreaBottom"/>
              <a:pathLst>
                <a:path w="1428750" h="2286000">
                  <a:moveTo>
                    <a:pt x="1428750" y="0"/>
                  </a:moveTo>
                  <a:lnTo>
                    <a:pt x="709613" y="1738313"/>
                  </a:lnTo>
                  <a:lnTo>
                    <a:pt x="0" y="2286000"/>
                  </a:lnTo>
                  <a:lnTo>
                    <a:pt x="142875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9" name="Полилиния 103"/>
            <p:cNvSpPr/>
            <p:nvPr/>
          </p:nvSpPr>
          <p:spPr>
            <a:xfrm>
              <a:off x="4354560" y="3187800"/>
              <a:ext cx="1535040" cy="264744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2647440"/>
                <a:gd name="textAreaBottom" fmla="*/ 2647800 h 2647440"/>
              </a:gdLst>
              <a:ahLst/>
              <a:rect l="textAreaLeft" t="textAreaTop" r="textAreaRight" b="textAreaBottom"/>
              <a:pathLst>
                <a:path w="1128713" h="2243137">
                  <a:moveTo>
                    <a:pt x="0" y="0"/>
                  </a:moveTo>
                  <a:lnTo>
                    <a:pt x="619125" y="1719262"/>
                  </a:lnTo>
                  <a:lnTo>
                    <a:pt x="1128713" y="22431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0" name="Полилиния 18"/>
            <p:cNvSpPr/>
            <p:nvPr/>
          </p:nvSpPr>
          <p:spPr>
            <a:xfrm>
              <a:off x="3363840" y="3193920"/>
              <a:ext cx="1839960" cy="2055960"/>
            </a:xfrm>
            <a:custGeom>
              <a:avLst/>
              <a:gdLst/>
              <a:ahLst/>
              <a:rect l="l" t="t" r="r" b="b"/>
              <a:pathLst>
                <a:path w="1352550" h="1743075">
                  <a:moveTo>
                    <a:pt x="0" y="1743075"/>
                  </a:moveTo>
                  <a:lnTo>
                    <a:pt x="1352550" y="1738313"/>
                  </a:lnTo>
                  <a:lnTo>
                    <a:pt x="728662" y="0"/>
                  </a:lnTo>
                  <a:lnTo>
                    <a:pt x="0" y="1743075"/>
                  </a:lnTo>
                  <a:close/>
                </a:path>
              </a:pathLst>
            </a:custGeom>
            <a:solidFill>
              <a:srgbClr val="424e8a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1" name="Полилиния 19"/>
            <p:cNvSpPr/>
            <p:nvPr/>
          </p:nvSpPr>
          <p:spPr>
            <a:xfrm>
              <a:off x="2414160" y="5229360"/>
              <a:ext cx="3473640" cy="1224000"/>
            </a:xfrm>
            <a:custGeom>
              <a:avLst/>
              <a:gdLst/>
              <a:ahLst/>
              <a:rect l="l" t="t" r="r" b="b"/>
              <a:pathLst>
                <a:path w="2552700" h="1038225">
                  <a:moveTo>
                    <a:pt x="457200" y="1038225"/>
                  </a:moveTo>
                  <a:lnTo>
                    <a:pt x="1828800" y="1038225"/>
                  </a:lnTo>
                  <a:lnTo>
                    <a:pt x="2552700" y="514350"/>
                  </a:lnTo>
                  <a:lnTo>
                    <a:pt x="2047875" y="0"/>
                  </a:lnTo>
                  <a:lnTo>
                    <a:pt x="704850" y="19050"/>
                  </a:lnTo>
                  <a:lnTo>
                    <a:pt x="0" y="561975"/>
                  </a:lnTo>
                  <a:lnTo>
                    <a:pt x="457200" y="1038225"/>
                  </a:lnTo>
                  <a:close/>
                </a:path>
              </a:pathLst>
            </a:custGeom>
            <a:solidFill>
              <a:srgbClr val="4fadf3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22" name="Группа 92"/>
          <p:cNvGrpSpPr/>
          <p:nvPr/>
        </p:nvGrpSpPr>
        <p:grpSpPr>
          <a:xfrm>
            <a:off x="5435640" y="620640"/>
            <a:ext cx="3359160" cy="3786120"/>
            <a:chOff x="5435640" y="620640"/>
            <a:chExt cx="3359160" cy="3786120"/>
          </a:xfrm>
        </p:grpSpPr>
        <p:sp>
          <p:nvSpPr>
            <p:cNvPr id="423" name="Полилиния 88"/>
            <p:cNvSpPr/>
            <p:nvPr/>
          </p:nvSpPr>
          <p:spPr>
            <a:xfrm>
              <a:off x="6378480" y="626760"/>
              <a:ext cx="2406960" cy="2884320"/>
            </a:xfrm>
            <a:custGeom>
              <a:avLst/>
              <a:gdLst>
                <a:gd name="textAreaLeft" fmla="*/ 0 w 2406960"/>
                <a:gd name="textAreaRight" fmla="*/ 2407320 w 240696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038350" h="2162175">
                  <a:moveTo>
                    <a:pt x="666750" y="0"/>
                  </a:moveTo>
                  <a:lnTo>
                    <a:pt x="2038350" y="2157412"/>
                  </a:lnTo>
                  <a:lnTo>
                    <a:pt x="0" y="2162175"/>
                  </a:lnTo>
                  <a:lnTo>
                    <a:pt x="666750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4" name="Полилиния 87"/>
            <p:cNvSpPr/>
            <p:nvPr/>
          </p:nvSpPr>
          <p:spPr>
            <a:xfrm>
              <a:off x="5439240" y="620640"/>
              <a:ext cx="1743480" cy="3786120"/>
            </a:xfrm>
            <a:custGeom>
              <a:avLst/>
              <a:gdLst>
                <a:gd name="textAreaLeft" fmla="*/ 0 w 1743480"/>
                <a:gd name="textAreaRight" fmla="*/ 1743840 w 1743480"/>
                <a:gd name="textAreaTop" fmla="*/ 0 h 3786120"/>
                <a:gd name="textAreaBottom" fmla="*/ 3786480 h 3786120"/>
              </a:gdLst>
              <a:ahLst/>
              <a:rect l="textAreaLeft" t="textAreaTop" r="textAreaRight" b="textAreaBottom"/>
              <a:pathLst>
                <a:path w="1476375" h="2838450">
                  <a:moveTo>
                    <a:pt x="0" y="2838450"/>
                  </a:moveTo>
                  <a:lnTo>
                    <a:pt x="781050" y="2171700"/>
                  </a:lnTo>
                  <a:lnTo>
                    <a:pt x="1476375" y="0"/>
                  </a:lnTo>
                  <a:lnTo>
                    <a:pt x="0" y="283845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5" name="Параллелограмм 23"/>
            <p:cNvSpPr/>
            <p:nvPr/>
          </p:nvSpPr>
          <p:spPr>
            <a:xfrm>
              <a:off x="5435640" y="3517920"/>
              <a:ext cx="3359160" cy="888840"/>
            </a:xfrm>
            <a:prstGeom prst="parallelogram">
              <a:avLst>
                <a:gd name="adj" fmla="val 104350"/>
              </a:avLst>
            </a:prstGeom>
            <a:solidFill>
              <a:srgbClr val="4fadf3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6" name="Полилиния 86"/>
            <p:cNvSpPr/>
            <p:nvPr/>
          </p:nvSpPr>
          <p:spPr>
            <a:xfrm>
              <a:off x="5439240" y="645840"/>
              <a:ext cx="1731960" cy="3748320"/>
            </a:xfrm>
            <a:custGeom>
              <a:avLst/>
              <a:gdLst>
                <a:gd name="textAreaLeft" fmla="*/ 0 w 1731960"/>
                <a:gd name="textAreaRight" fmla="*/ 1732320 w 1731960"/>
                <a:gd name="textAreaTop" fmla="*/ 0 h 3748320"/>
                <a:gd name="textAreaBottom" fmla="*/ 3748680 h 3748320"/>
              </a:gdLst>
              <a:ahLst/>
              <a:rect l="textAreaLeft" t="textAreaTop" r="textAreaRight" b="textAreaBottom"/>
              <a:pathLst>
                <a:path w="1466850" h="2809875">
                  <a:moveTo>
                    <a:pt x="0" y="2809875"/>
                  </a:moveTo>
                  <a:lnTo>
                    <a:pt x="1466850" y="0"/>
                  </a:lnTo>
                  <a:lnTo>
                    <a:pt x="790575" y="2162175"/>
                  </a:lnTo>
                </a:path>
              </a:pathLst>
            </a:custGeom>
            <a:noFill/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7" name="Прямая соединительная линия 90"/>
            <p:cNvSpPr/>
            <p:nvPr/>
          </p:nvSpPr>
          <p:spPr>
            <a:xfrm>
              <a:off x="7171560" y="645840"/>
              <a:ext cx="1623240" cy="2871360"/>
            </a:xfrm>
            <a:prstGeom prst="line">
              <a:avLst/>
            </a:prstGeom>
            <a:ln w="1260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Побудова правильних пірамі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29" name="Group 2"/>
          <p:cNvGrpSpPr/>
          <p:nvPr/>
        </p:nvGrpSpPr>
        <p:grpSpPr>
          <a:xfrm>
            <a:off x="468360" y="1628640"/>
            <a:ext cx="2906280" cy="2920680"/>
            <a:chOff x="468360" y="1628640"/>
            <a:chExt cx="2906280" cy="2920680"/>
          </a:xfrm>
        </p:grpSpPr>
        <p:grpSp>
          <p:nvGrpSpPr>
            <p:cNvPr id="430" name="Group 3"/>
            <p:cNvGrpSpPr/>
            <p:nvPr/>
          </p:nvGrpSpPr>
          <p:grpSpPr>
            <a:xfrm>
              <a:off x="1897920" y="2032200"/>
              <a:ext cx="930960" cy="1902240"/>
              <a:chOff x="1897920" y="2032200"/>
              <a:chExt cx="930960" cy="1902240"/>
            </a:xfrm>
          </p:grpSpPr>
          <p:cxnSp>
            <p:nvCxnSpPr>
              <p:cNvPr id="431" name="AutoShape 4"/>
              <p:cNvCxnSpPr/>
              <p:nvPr/>
            </p:nvCxnSpPr>
            <p:spPr>
              <a:xfrm>
                <a:off x="1897920" y="2032200"/>
                <a:ext cx="931320" cy="18007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</a:ln>
            </p:spPr>
          </p:cxnSp>
          <p:sp>
            <p:nvSpPr>
              <p:cNvPr id="432" name="Freeform 5"/>
              <p:cNvSpPr/>
              <p:nvPr/>
            </p:nvSpPr>
            <p:spPr>
              <a:xfrm>
                <a:off x="2631600" y="3704760"/>
                <a:ext cx="126720" cy="2296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129" h="232">
                    <a:moveTo>
                      <a:pt x="129" y="0"/>
                    </a:moveTo>
                    <a:lnTo>
                      <a:pt x="0" y="102"/>
                    </a:lnTo>
                    <a:lnTo>
                      <a:pt x="84" y="232"/>
                    </a:lnTo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33" name="Group 6"/>
            <p:cNvGrpSpPr/>
            <p:nvPr/>
          </p:nvGrpSpPr>
          <p:grpSpPr>
            <a:xfrm>
              <a:off x="468360" y="1628640"/>
              <a:ext cx="2906280" cy="2920680"/>
              <a:chOff x="468360" y="1628640"/>
              <a:chExt cx="2906280" cy="2920680"/>
            </a:xfrm>
          </p:grpSpPr>
          <p:grpSp>
            <p:nvGrpSpPr>
              <p:cNvPr id="434" name="Group 7"/>
              <p:cNvGrpSpPr/>
              <p:nvPr/>
            </p:nvGrpSpPr>
            <p:grpSpPr>
              <a:xfrm>
                <a:off x="468360" y="1628640"/>
                <a:ext cx="2906280" cy="2920680"/>
                <a:chOff x="468360" y="1628640"/>
                <a:chExt cx="2906280" cy="2920680"/>
              </a:xfrm>
            </p:grpSpPr>
            <p:grpSp>
              <p:nvGrpSpPr>
                <p:cNvPr id="435" name="Group 8"/>
                <p:cNvGrpSpPr/>
                <p:nvPr/>
              </p:nvGrpSpPr>
              <p:grpSpPr>
                <a:xfrm>
                  <a:off x="468360" y="1628640"/>
                  <a:ext cx="2906280" cy="2920680"/>
                  <a:chOff x="468360" y="1628640"/>
                  <a:chExt cx="2906280" cy="2920680"/>
                </a:xfrm>
              </p:grpSpPr>
              <p:sp>
                <p:nvSpPr>
                  <p:cNvPr id="436" name="Text Box 9"/>
                  <p:cNvSpPr/>
                  <p:nvPr/>
                </p:nvSpPr>
                <p:spPr>
                  <a:xfrm>
                    <a:off x="1650960" y="3760920"/>
                    <a:ext cx="352080" cy="4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d79ca"/>
                        </a:solidFill>
                        <a:latin typeface="Palatino Linotype"/>
                      </a:rPr>
                      <a:t>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Palatino Linotype"/>
                    </a:endParaRPr>
                  </a:p>
                </p:txBody>
              </p:sp>
              <p:grpSp>
                <p:nvGrpSpPr>
                  <p:cNvPr id="437" name="Group 10"/>
                  <p:cNvGrpSpPr/>
                  <p:nvPr/>
                </p:nvGrpSpPr>
                <p:grpSpPr>
                  <a:xfrm>
                    <a:off x="468360" y="1628640"/>
                    <a:ext cx="2906280" cy="2920680"/>
                    <a:chOff x="468360" y="1628640"/>
                    <a:chExt cx="2906280" cy="2920680"/>
                  </a:xfrm>
                </p:grpSpPr>
                <p:sp>
                  <p:nvSpPr>
                    <p:cNvPr id="438" name="Text Box 11"/>
                    <p:cNvSpPr/>
                    <p:nvPr/>
                  </p:nvSpPr>
                  <p:spPr>
                    <a:xfrm>
                      <a:off x="1719000" y="1628640"/>
                      <a:ext cx="351000" cy="47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grpSp>
                  <p:nvGrpSpPr>
                    <p:cNvPr id="439" name="Group 12"/>
                    <p:cNvGrpSpPr/>
                    <p:nvPr/>
                  </p:nvGrpSpPr>
                  <p:grpSpPr>
                    <a:xfrm>
                      <a:off x="468360" y="2025720"/>
                      <a:ext cx="2906280" cy="2523600"/>
                      <a:chOff x="468360" y="2025720"/>
                      <a:chExt cx="2906280" cy="2523600"/>
                    </a:xfrm>
                  </p:grpSpPr>
                  <p:grpSp>
                    <p:nvGrpSpPr>
                      <p:cNvPr id="440" name="Group 13"/>
                      <p:cNvGrpSpPr/>
                      <p:nvPr/>
                    </p:nvGrpSpPr>
                    <p:grpSpPr>
                      <a:xfrm>
                        <a:off x="681480" y="2025720"/>
                        <a:ext cx="2446920" cy="2198160"/>
                        <a:chOff x="681480" y="2025720"/>
                        <a:chExt cx="2446920" cy="2198160"/>
                      </a:xfrm>
                    </p:grpSpPr>
                    <p:cxnSp>
                      <p:nvCxnSpPr>
                        <p:cNvPr id="441" name="AutoShape 14"/>
                        <p:cNvCxnSpPr/>
                        <p:nvPr/>
                      </p:nvCxnSpPr>
                      <p:spPr>
                        <a:xfrm>
                          <a:off x="681840" y="4152600"/>
                          <a:ext cx="1779840" cy="108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42" name="AutoShape 15"/>
                        <p:cNvCxnSpPr/>
                        <p:nvPr/>
                      </p:nvCxnSpPr>
                      <p:spPr>
                        <a:xfrm>
                          <a:off x="1348920" y="3561840"/>
                          <a:ext cx="1779840" cy="108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3" name="AutoShape 16"/>
                        <p:cNvCxnSpPr/>
                        <p:nvPr/>
                      </p:nvCxnSpPr>
                      <p:spPr>
                        <a:xfrm flipV="1">
                          <a:off x="681480" y="3561840"/>
                          <a:ext cx="66780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4" name="AutoShape 17"/>
                        <p:cNvCxnSpPr/>
                        <p:nvPr/>
                      </p:nvCxnSpPr>
                      <p:spPr>
                        <a:xfrm flipV="1">
                          <a:off x="2460960" y="3557520"/>
                          <a:ext cx="666720" cy="5954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45" name="AutoShape 18"/>
                        <p:cNvCxnSpPr/>
                        <p:nvPr/>
                      </p:nvCxnSpPr>
                      <p:spPr>
                        <a:xfrm flipV="1">
                          <a:off x="681480" y="3561840"/>
                          <a:ext cx="244692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6" name="AutoShape 19"/>
                        <p:cNvCxnSpPr/>
                        <p:nvPr/>
                      </p:nvCxnSpPr>
                      <p:spPr>
                        <a:xfrm flipH="1" flipV="1">
                          <a:off x="1348560" y="3633120"/>
                          <a:ext cx="111240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7" name="AutoShape 20"/>
                        <p:cNvCxnSpPr/>
                        <p:nvPr/>
                      </p:nvCxnSpPr>
                      <p:spPr>
                        <a:xfrm flipV="1">
                          <a:off x="1905120" y="2025720"/>
                          <a:ext cx="1440" cy="177336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8" name="AutoShape 21"/>
                        <p:cNvCxnSpPr/>
                        <p:nvPr/>
                      </p:nvCxnSpPr>
                      <p:spPr>
                        <a:xfrm flipH="1">
                          <a:off x="1348200" y="2025720"/>
                          <a:ext cx="557640" cy="15368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9" name="AutoShape 22"/>
                        <p:cNvCxnSpPr/>
                        <p:nvPr/>
                      </p:nvCxnSpPr>
                      <p:spPr>
                        <a:xfrm>
                          <a:off x="1905480" y="2026080"/>
                          <a:ext cx="555480" cy="212760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50" name="AutoShape 23"/>
                        <p:cNvCxnSpPr/>
                        <p:nvPr/>
                      </p:nvCxnSpPr>
                      <p:spPr>
                        <a:xfrm>
                          <a:off x="1905840" y="2025720"/>
                          <a:ext cx="1222200" cy="15368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51" name="AutoShape 24"/>
                        <p:cNvCxnSpPr/>
                        <p:nvPr/>
                      </p:nvCxnSpPr>
                      <p:spPr>
                        <a:xfrm flipH="1">
                          <a:off x="681480" y="2026080"/>
                          <a:ext cx="1224000" cy="212760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</p:grpSp>
                  <p:sp>
                    <p:nvSpPr>
                      <p:cNvPr id="452" name="Text Box 25"/>
                      <p:cNvSpPr/>
                      <p:nvPr/>
                    </p:nvSpPr>
                    <p:spPr>
                      <a:xfrm>
                        <a:off x="468360" y="4090320"/>
                        <a:ext cx="261720" cy="45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ru-RU" sz="2000" spc="-1" strike="noStrike">
                            <a:solidFill>
                              <a:srgbClr val="ffffff"/>
                            </a:solidFill>
                            <a:latin typeface="Palatino Linotype"/>
                          </a:rPr>
                          <a:t>А</a:t>
                        </a:r>
                        <a:endParaRPr b="0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endParaRPr>
                      </a:p>
                    </p:txBody>
                  </p:sp>
                  <p:sp>
                    <p:nvSpPr>
                      <p:cNvPr id="453" name="Text Box 26"/>
                      <p:cNvSpPr/>
                      <p:nvPr/>
                    </p:nvSpPr>
                    <p:spPr>
                      <a:xfrm>
                        <a:off x="2314440" y="4077000"/>
                        <a:ext cx="352080" cy="472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ru-RU" sz="2000" spc="-1" strike="noStrike">
                            <a:solidFill>
                              <a:srgbClr val="ffffff"/>
                            </a:solidFill>
                            <a:latin typeface="Palatino Linotype"/>
                          </a:rPr>
                          <a:t>В</a:t>
                        </a:r>
                        <a:endParaRPr b="0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endParaRPr>
                      </a:p>
                    </p:txBody>
                  </p:sp>
                  <p:sp>
                    <p:nvSpPr>
                      <p:cNvPr id="454" name="Text Box 27"/>
                      <p:cNvSpPr/>
                      <p:nvPr/>
                    </p:nvSpPr>
                    <p:spPr>
                      <a:xfrm>
                        <a:off x="1162080" y="3513960"/>
                        <a:ext cx="352080" cy="47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>
                            <a:solidFill>
                              <a:srgbClr val="ffffff"/>
                            </a:solidFill>
                            <a:latin typeface="Palatino Linotype"/>
                          </a:rPr>
                          <a:t>D</a:t>
                        </a:r>
                        <a:endParaRPr b="0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endParaRPr>
                      </a:p>
                    </p:txBody>
                  </p:sp>
                  <p:sp>
                    <p:nvSpPr>
                      <p:cNvPr id="455" name="Text Box 28"/>
                      <p:cNvSpPr/>
                      <p:nvPr/>
                    </p:nvSpPr>
                    <p:spPr>
                      <a:xfrm>
                        <a:off x="3023640" y="3382560"/>
                        <a:ext cx="351000" cy="47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>
                            <a:solidFill>
                              <a:srgbClr val="ffffff"/>
                            </a:solidFill>
                            <a:latin typeface="Palatino Linotype"/>
                          </a:rPr>
                          <a:t>C</a:t>
                        </a:r>
                        <a:endParaRPr b="0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6" name="Freeform 29"/>
                <p:cNvSpPr/>
                <p:nvPr/>
              </p:nvSpPr>
              <p:spPr>
                <a:xfrm>
                  <a:off x="1905120" y="3602880"/>
                  <a:ext cx="180720" cy="21528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215280"/>
                    <a:gd name="textAreaBottom" fmla="*/ 215640 h 215280"/>
                  </a:gdLst>
                  <a:ahLst/>
                  <a:rect l="textAreaLeft" t="textAreaTop" r="textAreaRight" b="textAreaBottom"/>
                  <a:pathLst>
                    <a:path w="184" h="206">
                      <a:moveTo>
                        <a:pt x="0" y="35"/>
                      </a:moveTo>
                      <a:lnTo>
                        <a:pt x="184" y="0"/>
                      </a:lnTo>
                      <a:lnTo>
                        <a:pt x="184" y="206"/>
                      </a:lnTo>
                    </a:path>
                  </a:pathLst>
                </a:custGeom>
                <a:noFill/>
                <a:ln w="19080">
                  <a:solidFill>
                    <a:srgbClr val="4e67c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57" name="Text Box 30"/>
              <p:cNvSpPr/>
              <p:nvPr/>
            </p:nvSpPr>
            <p:spPr>
              <a:xfrm>
                <a:off x="2707920" y="3698280"/>
                <a:ext cx="3520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Palatino Linotype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58" name="Group 31"/>
          <p:cNvGrpSpPr/>
          <p:nvPr/>
        </p:nvGrpSpPr>
        <p:grpSpPr>
          <a:xfrm>
            <a:off x="5508720" y="1773360"/>
            <a:ext cx="3403080" cy="3633480"/>
            <a:chOff x="5508720" y="1773360"/>
            <a:chExt cx="3403080" cy="3633480"/>
          </a:xfrm>
        </p:grpSpPr>
        <p:grpSp>
          <p:nvGrpSpPr>
            <p:cNvPr id="459" name="Group 32"/>
            <p:cNvGrpSpPr/>
            <p:nvPr/>
          </p:nvGrpSpPr>
          <p:grpSpPr>
            <a:xfrm>
              <a:off x="5508720" y="1773360"/>
              <a:ext cx="3403080" cy="3633480"/>
              <a:chOff x="5508720" y="1773360"/>
              <a:chExt cx="3403080" cy="3633480"/>
            </a:xfrm>
          </p:grpSpPr>
          <p:sp>
            <p:nvSpPr>
              <p:cNvPr id="460" name="Text Box 33"/>
              <p:cNvSpPr/>
              <p:nvPr/>
            </p:nvSpPr>
            <p:spPr>
              <a:xfrm>
                <a:off x="6995880" y="4039560"/>
                <a:ext cx="44064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d79ca"/>
                    </a:solidFill>
                    <a:latin typeface="Palatino Linotype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grpSp>
            <p:nvGrpSpPr>
              <p:cNvPr id="461" name="Group 34"/>
              <p:cNvGrpSpPr/>
              <p:nvPr/>
            </p:nvGrpSpPr>
            <p:grpSpPr>
              <a:xfrm>
                <a:off x="5508720" y="1773360"/>
                <a:ext cx="3403080" cy="3633480"/>
                <a:chOff x="5508720" y="1773360"/>
                <a:chExt cx="3403080" cy="3633480"/>
              </a:xfrm>
            </p:grpSpPr>
            <p:grpSp>
              <p:nvGrpSpPr>
                <p:cNvPr id="462" name="Group 35"/>
                <p:cNvGrpSpPr/>
                <p:nvPr/>
              </p:nvGrpSpPr>
              <p:grpSpPr>
                <a:xfrm>
                  <a:off x="5851440" y="2195280"/>
                  <a:ext cx="2755800" cy="2727000"/>
                  <a:chOff x="5851440" y="2195280"/>
                  <a:chExt cx="2755800" cy="2727000"/>
                </a:xfrm>
              </p:grpSpPr>
              <p:cxnSp>
                <p:nvCxnSpPr>
                  <p:cNvPr id="463" name="AutoShape 36"/>
                  <p:cNvCxnSpPr/>
                  <p:nvPr/>
                </p:nvCxnSpPr>
                <p:spPr>
                  <a:xfrm>
                    <a:off x="5852160" y="3773880"/>
                    <a:ext cx="1653840" cy="114876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464" name="AutoShape 37"/>
                  <p:cNvCxnSpPr/>
                  <p:nvPr/>
                </p:nvCxnSpPr>
                <p:spPr>
                  <a:xfrm flipV="1">
                    <a:off x="7504920" y="3773520"/>
                    <a:ext cx="1101960" cy="114876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465" name="AutoShape 38"/>
                  <p:cNvCxnSpPr/>
                  <p:nvPr/>
                </p:nvCxnSpPr>
                <p:spPr>
                  <a:xfrm>
                    <a:off x="5852160" y="3773880"/>
                    <a:ext cx="2755440" cy="108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prstDash val="dash"/>
                    <a:miter/>
                  </a:ln>
                </p:spPr>
              </p:cxnSp>
              <p:cxnSp>
                <p:nvCxnSpPr>
                  <p:cNvPr id="466" name="AutoShape 39"/>
                  <p:cNvCxnSpPr/>
                  <p:nvPr/>
                </p:nvCxnSpPr>
                <p:spPr>
                  <a:xfrm flipV="1">
                    <a:off x="6684840" y="3773880"/>
                    <a:ext cx="1922400" cy="574560"/>
                  </a:xfrm>
                  <a:prstGeom prst="straightConnector1">
                    <a:avLst/>
                  </a:prstGeom>
                  <a:ln w="19080">
                    <a:solidFill>
                      <a:srgbClr val="212745"/>
                    </a:solidFill>
                    <a:prstDash val="dash"/>
                    <a:miter/>
                  </a:ln>
                </p:spPr>
              </p:cxnSp>
              <p:cxnSp>
                <p:nvCxnSpPr>
                  <p:cNvPr id="467" name="AutoShape 40"/>
                  <p:cNvCxnSpPr/>
                  <p:nvPr/>
                </p:nvCxnSpPr>
                <p:spPr>
                  <a:xfrm>
                    <a:off x="5852160" y="3774240"/>
                    <a:ext cx="2220840" cy="57456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prstDash val="dash"/>
                    <a:miter/>
                  </a:ln>
                </p:spPr>
              </p:cxnSp>
              <p:cxnSp>
                <p:nvCxnSpPr>
                  <p:cNvPr id="468" name="AutoShape 41"/>
                  <p:cNvCxnSpPr/>
                  <p:nvPr/>
                </p:nvCxnSpPr>
                <p:spPr>
                  <a:xfrm flipH="1" flipV="1">
                    <a:off x="7313400" y="2195280"/>
                    <a:ext cx="192240" cy="272700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469" name="AutoShape 42"/>
                  <p:cNvCxnSpPr/>
                  <p:nvPr/>
                </p:nvCxnSpPr>
                <p:spPr>
                  <a:xfrm flipV="1">
                    <a:off x="7312680" y="2195640"/>
                    <a:ext cx="2880" cy="191808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prstDash val="dash"/>
                    <a:miter/>
                  </a:ln>
                </p:spPr>
              </p:cxnSp>
              <p:cxnSp>
                <p:nvCxnSpPr>
                  <p:cNvPr id="470" name="AutoShape 43"/>
                  <p:cNvCxnSpPr/>
                  <p:nvPr/>
                </p:nvCxnSpPr>
                <p:spPr>
                  <a:xfrm flipH="1">
                    <a:off x="5851440" y="2196000"/>
                    <a:ext cx="1461240" cy="157896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471" name="AutoShape 44"/>
                  <p:cNvCxnSpPr/>
                  <p:nvPr/>
                </p:nvCxnSpPr>
                <p:spPr>
                  <a:xfrm>
                    <a:off x="7313760" y="2196000"/>
                    <a:ext cx="1293840" cy="1578960"/>
                  </a:xfrm>
                  <a:prstGeom prst="straightConnector1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</p:cxnSp>
              <p:sp>
                <p:nvSpPr>
                  <p:cNvPr id="472" name="Freeform 45"/>
                  <p:cNvSpPr/>
                  <p:nvPr/>
                </p:nvSpPr>
                <p:spPr>
                  <a:xfrm>
                    <a:off x="7118280" y="3890880"/>
                    <a:ext cx="1951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30">
                        <a:moveTo>
                          <a:pt x="158" y="57"/>
                        </a:moveTo>
                        <a:lnTo>
                          <a:pt x="0" y="0"/>
                        </a:lnTo>
                        <a:lnTo>
                          <a:pt x="0" y="130"/>
                        </a:lnTo>
                      </a:path>
                    </a:pathLst>
                  </a:custGeom>
                  <a:noFill/>
                  <a:ln w="1908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Palatino Linotype"/>
                    </a:endParaRPr>
                  </a:p>
                </p:txBody>
              </p:sp>
            </p:grpSp>
            <p:sp>
              <p:nvSpPr>
                <p:cNvPr id="473" name="Text Box 46"/>
                <p:cNvSpPr/>
                <p:nvPr/>
              </p:nvSpPr>
              <p:spPr>
                <a:xfrm>
                  <a:off x="5508720" y="3677760"/>
                  <a:ext cx="44064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ffffff"/>
                      </a:solidFill>
                      <a:latin typeface="Palatino Linotype"/>
                    </a:rPr>
                    <a:t>А</a:t>
                  </a:r>
                  <a:endParaRPr b="0" lang="en-US" sz="20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474" name="Text Box 47"/>
                <p:cNvSpPr/>
                <p:nvPr/>
              </p:nvSpPr>
              <p:spPr>
                <a:xfrm>
                  <a:off x="8471160" y="3646080"/>
                  <a:ext cx="440640" cy="57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ffffff"/>
                      </a:solidFill>
                      <a:latin typeface="Palatino Linotype"/>
                    </a:rPr>
                    <a:t>С</a:t>
                  </a:r>
                  <a:endParaRPr b="0" lang="en-US" sz="20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475" name="Text Box 48"/>
                <p:cNvSpPr/>
                <p:nvPr/>
              </p:nvSpPr>
              <p:spPr>
                <a:xfrm>
                  <a:off x="7326360" y="4834440"/>
                  <a:ext cx="443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ffffff"/>
                      </a:solidFill>
                      <a:latin typeface="Palatino Linotype"/>
                    </a:rPr>
                    <a:t>В</a:t>
                  </a:r>
                  <a:endParaRPr b="0" lang="en-US" sz="20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476" name="Text Box 49"/>
                <p:cNvSpPr/>
                <p:nvPr/>
              </p:nvSpPr>
              <p:spPr>
                <a:xfrm>
                  <a:off x="7120080" y="1773360"/>
                  <a:ext cx="443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ffff"/>
                      </a:solidFill>
                      <a:latin typeface="Palatino Linotype"/>
                    </a:rPr>
                    <a:t>S</a:t>
                  </a:r>
                  <a:endParaRPr b="0" lang="en-US" sz="20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</p:grpSp>
        </p:grpSp>
        <p:cxnSp>
          <p:nvCxnSpPr>
            <p:cNvPr id="477" name="AutoShape 50"/>
            <p:cNvCxnSpPr/>
            <p:nvPr/>
          </p:nvCxnSpPr>
          <p:spPr>
            <a:xfrm flipH="1">
              <a:off x="6684480" y="2195640"/>
              <a:ext cx="628200" cy="21524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478" name="Freeform 51"/>
            <p:cNvSpPr/>
            <p:nvPr/>
          </p:nvSpPr>
          <p:spPr>
            <a:xfrm>
              <a:off x="6537600" y="4039560"/>
              <a:ext cx="206280" cy="209160"/>
            </a:xfrm>
            <a:custGeom>
              <a:avLst/>
              <a:gdLst/>
              <a:ahLst/>
              <a:rect l="l" t="t" r="r" b="b"/>
              <a:pathLst>
                <a:path w="169" h="166">
                  <a:moveTo>
                    <a:pt x="0" y="166"/>
                  </a:moveTo>
                  <a:lnTo>
                    <a:pt x="57" y="0"/>
                  </a:lnTo>
                  <a:lnTo>
                    <a:pt x="169" y="81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79" name="Text Box 52"/>
            <p:cNvSpPr/>
            <p:nvPr/>
          </p:nvSpPr>
          <p:spPr>
            <a:xfrm>
              <a:off x="6288480" y="4235400"/>
              <a:ext cx="4395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Palatino Linotype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80" name="Group 53"/>
          <p:cNvGrpSpPr/>
          <p:nvPr/>
        </p:nvGrpSpPr>
        <p:grpSpPr>
          <a:xfrm>
            <a:off x="3132000" y="2852640"/>
            <a:ext cx="3120840" cy="3816360"/>
            <a:chOff x="3132000" y="2852640"/>
            <a:chExt cx="3120840" cy="3816360"/>
          </a:xfrm>
        </p:grpSpPr>
        <p:sp>
          <p:nvSpPr>
            <p:cNvPr id="481" name="Text Box 54"/>
            <p:cNvSpPr/>
            <p:nvPr/>
          </p:nvSpPr>
          <p:spPr>
            <a:xfrm>
              <a:off x="5406840" y="5812560"/>
              <a:ext cx="31608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Palatino Linotype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82" name="Group 55"/>
            <p:cNvGrpSpPr/>
            <p:nvPr/>
          </p:nvGrpSpPr>
          <p:grpSpPr>
            <a:xfrm>
              <a:off x="3132000" y="2852640"/>
              <a:ext cx="3120840" cy="3816360"/>
              <a:chOff x="3132000" y="2852640"/>
              <a:chExt cx="3120840" cy="3816360"/>
            </a:xfrm>
          </p:grpSpPr>
          <p:grpSp>
            <p:nvGrpSpPr>
              <p:cNvPr id="483" name="Group 56"/>
              <p:cNvGrpSpPr/>
              <p:nvPr/>
            </p:nvGrpSpPr>
            <p:grpSpPr>
              <a:xfrm>
                <a:off x="3132000" y="2852640"/>
                <a:ext cx="3120840" cy="3816360"/>
                <a:chOff x="3132000" y="2852640"/>
                <a:chExt cx="3120840" cy="3816360"/>
              </a:xfrm>
            </p:grpSpPr>
            <p:grpSp>
              <p:nvGrpSpPr>
                <p:cNvPr id="484" name="Group 57"/>
                <p:cNvGrpSpPr/>
                <p:nvPr/>
              </p:nvGrpSpPr>
              <p:grpSpPr>
                <a:xfrm>
                  <a:off x="3132000" y="2852640"/>
                  <a:ext cx="3120840" cy="3816360"/>
                  <a:chOff x="3132000" y="2852640"/>
                  <a:chExt cx="3120840" cy="3816360"/>
                </a:xfrm>
              </p:grpSpPr>
              <p:grpSp>
                <p:nvGrpSpPr>
                  <p:cNvPr id="485" name="Group 58"/>
                  <p:cNvGrpSpPr/>
                  <p:nvPr/>
                </p:nvGrpSpPr>
                <p:grpSpPr>
                  <a:xfrm>
                    <a:off x="3428280" y="3287880"/>
                    <a:ext cx="2604240" cy="2968920"/>
                    <a:chOff x="3428280" y="3287880"/>
                    <a:chExt cx="2604240" cy="2968920"/>
                  </a:xfrm>
                </p:grpSpPr>
                <p:cxnSp>
                  <p:nvCxnSpPr>
                    <p:cNvPr id="486" name="AutoShape 59"/>
                    <p:cNvCxnSpPr/>
                    <p:nvPr/>
                  </p:nvCxnSpPr>
                  <p:spPr>
                    <a:xfrm flipV="1">
                      <a:off x="3428280" y="4964760"/>
                      <a:ext cx="993240" cy="645480"/>
                    </a:xfrm>
                    <a:prstGeom prst="straightConnector1">
                      <a:avLst/>
                    </a:prstGeom>
                    <a:ln w="1908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7" name="AutoShape 60"/>
                    <p:cNvCxnSpPr/>
                    <p:nvPr/>
                  </p:nvCxnSpPr>
                  <p:spPr>
                    <a:xfrm>
                      <a:off x="5532480" y="4966560"/>
                      <a:ext cx="500400" cy="644400"/>
                    </a:xfrm>
                    <a:prstGeom prst="straightConnector1">
                      <a:avLst/>
                    </a:prstGeom>
                    <a:ln w="1908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8" name="AutoShape 61"/>
                    <p:cNvCxnSpPr/>
                    <p:nvPr/>
                  </p:nvCxnSpPr>
                  <p:spPr>
                    <a:xfrm>
                      <a:off x="4420800" y="4965480"/>
                      <a:ext cx="1112040" cy="1440"/>
                    </a:xfrm>
                    <a:prstGeom prst="straightConnector1">
                      <a:avLst/>
                    </a:prstGeom>
                    <a:ln w="1908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9" name="AutoShape 62"/>
                    <p:cNvCxnSpPr/>
                    <p:nvPr/>
                  </p:nvCxnSpPr>
                  <p:spPr>
                    <a:xfrm flipH="1" flipV="1">
                      <a:off x="4729680" y="3287880"/>
                      <a:ext cx="802440" cy="1678680"/>
                    </a:xfrm>
                    <a:prstGeom prst="straightConnector1">
                      <a:avLst/>
                    </a:prstGeom>
                    <a:ln w="1908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90" name="AutoShape 63"/>
                    <p:cNvCxnSpPr/>
                    <p:nvPr/>
                  </p:nvCxnSpPr>
                  <p:spPr>
                    <a:xfrm flipV="1">
                      <a:off x="3929040" y="3287880"/>
                      <a:ext cx="801720" cy="2967480"/>
                    </a:xfrm>
                    <a:prstGeom prst="straightConnector1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</p:cxnSp>
                <p:grpSp>
                  <p:nvGrpSpPr>
                    <p:cNvPr id="491" name="Group 64"/>
                    <p:cNvGrpSpPr/>
                    <p:nvPr/>
                  </p:nvGrpSpPr>
                  <p:grpSpPr>
                    <a:xfrm>
                      <a:off x="3428280" y="3287880"/>
                      <a:ext cx="2604240" cy="2968920"/>
                      <a:chOff x="3428280" y="3287880"/>
                      <a:chExt cx="2604240" cy="2968920"/>
                    </a:xfrm>
                  </p:grpSpPr>
                  <p:cxnSp>
                    <p:nvCxnSpPr>
                      <p:cNvPr id="492" name="AutoShape 65"/>
                      <p:cNvCxnSpPr/>
                      <p:nvPr/>
                    </p:nvCxnSpPr>
                    <p:spPr>
                      <a:xfrm>
                        <a:off x="3428280" y="5609880"/>
                        <a:ext cx="501480" cy="6454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93" name="AutoShape 66"/>
                      <p:cNvCxnSpPr/>
                      <p:nvPr/>
                    </p:nvCxnSpPr>
                    <p:spPr>
                      <a:xfrm>
                        <a:off x="3915360" y="6256080"/>
                        <a:ext cx="1115640" cy="10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94" name="AutoShape 67"/>
                      <p:cNvCxnSpPr/>
                      <p:nvPr/>
                    </p:nvCxnSpPr>
                    <p:spPr>
                      <a:xfrm flipV="1">
                        <a:off x="5030280" y="5609520"/>
                        <a:ext cx="1001880" cy="6454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495" name="AutoShape 68"/>
                      <p:cNvCxnSpPr/>
                      <p:nvPr/>
                    </p:nvCxnSpPr>
                    <p:spPr>
                      <a:xfrm flipV="1">
                        <a:off x="3929040" y="4966200"/>
                        <a:ext cx="1603800" cy="12895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6" name="AutoShape 69"/>
                      <p:cNvCxnSpPr/>
                      <p:nvPr/>
                    </p:nvCxnSpPr>
                    <p:spPr>
                      <a:xfrm flipH="1" flipV="1">
                        <a:off x="4420440" y="4966200"/>
                        <a:ext cx="610200" cy="12895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7" name="AutoShape 70"/>
                      <p:cNvCxnSpPr/>
                      <p:nvPr/>
                    </p:nvCxnSpPr>
                    <p:spPr>
                      <a:xfrm>
                        <a:off x="3428640" y="5609880"/>
                        <a:ext cx="2604240" cy="10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8" name="AutoShape 71"/>
                      <p:cNvCxnSpPr/>
                      <p:nvPr/>
                    </p:nvCxnSpPr>
                    <p:spPr>
                      <a:xfrm flipV="1">
                        <a:off x="4730040" y="3287880"/>
                        <a:ext cx="1080" cy="23223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9" name="AutoShape 72"/>
                      <p:cNvCxnSpPr/>
                      <p:nvPr/>
                    </p:nvCxnSpPr>
                    <p:spPr>
                      <a:xfrm flipV="1">
                        <a:off x="4420800" y="3288240"/>
                        <a:ext cx="309960" cy="16776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500" name="AutoShape 73"/>
                      <p:cNvCxnSpPr/>
                      <p:nvPr/>
                    </p:nvCxnSpPr>
                    <p:spPr>
                      <a:xfrm flipH="1" flipV="1">
                        <a:off x="4730040" y="3287880"/>
                        <a:ext cx="1302480" cy="23223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501" name="AutoShape 74"/>
                      <p:cNvCxnSpPr/>
                      <p:nvPr/>
                    </p:nvCxnSpPr>
                    <p:spPr>
                      <a:xfrm flipH="1" flipV="1">
                        <a:off x="4730400" y="3288240"/>
                        <a:ext cx="300600" cy="29685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502" name="AutoShape 75"/>
                      <p:cNvCxnSpPr/>
                      <p:nvPr/>
                    </p:nvCxnSpPr>
                    <p:spPr>
                      <a:xfrm flipV="1">
                        <a:off x="3428640" y="3287880"/>
                        <a:ext cx="1302480" cy="23223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503" name="Group 76"/>
                  <p:cNvGrpSpPr/>
                  <p:nvPr/>
                </p:nvGrpSpPr>
                <p:grpSpPr>
                  <a:xfrm>
                    <a:off x="3132000" y="2852640"/>
                    <a:ext cx="3120840" cy="3816360"/>
                    <a:chOff x="3132000" y="2852640"/>
                    <a:chExt cx="3120840" cy="3816360"/>
                  </a:xfrm>
                </p:grpSpPr>
                <p:sp>
                  <p:nvSpPr>
                    <p:cNvPr id="504" name="Text Box 77"/>
                    <p:cNvSpPr/>
                    <p:nvPr/>
                  </p:nvSpPr>
                  <p:spPr>
                    <a:xfrm>
                      <a:off x="3132000" y="5397120"/>
                      <a:ext cx="315360" cy="51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sp>
                  <p:nvSpPr>
                    <p:cNvPr id="505" name="Text Box 78"/>
                    <p:cNvSpPr/>
                    <p:nvPr/>
                  </p:nvSpPr>
                  <p:spPr>
                    <a:xfrm>
                      <a:off x="5936760" y="5397120"/>
                      <a:ext cx="316080" cy="51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sp>
                  <p:nvSpPr>
                    <p:cNvPr id="506" name="Text Box 79"/>
                    <p:cNvSpPr/>
                    <p:nvPr/>
                  </p:nvSpPr>
                  <p:spPr>
                    <a:xfrm>
                      <a:off x="4849200" y="6153120"/>
                      <a:ext cx="315360" cy="51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sp>
                  <p:nvSpPr>
                    <p:cNvPr id="507" name="Text Box 80"/>
                    <p:cNvSpPr/>
                    <p:nvPr/>
                  </p:nvSpPr>
                  <p:spPr>
                    <a:xfrm>
                      <a:off x="3737160" y="6153120"/>
                      <a:ext cx="316800" cy="51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sp>
                  <p:nvSpPr>
                    <p:cNvPr id="508" name="Text Box 81"/>
                    <p:cNvSpPr/>
                    <p:nvPr/>
                  </p:nvSpPr>
                  <p:spPr>
                    <a:xfrm>
                      <a:off x="5305680" y="4916520"/>
                      <a:ext cx="314280" cy="51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sp>
                  <p:nvSpPr>
                    <p:cNvPr id="509" name="Text Box 82"/>
                    <p:cNvSpPr/>
                    <p:nvPr/>
                  </p:nvSpPr>
                  <p:spPr>
                    <a:xfrm>
                      <a:off x="4192560" y="4916520"/>
                      <a:ext cx="315360" cy="51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sp>
                  <p:nvSpPr>
                    <p:cNvPr id="510" name="Text Box 83"/>
                    <p:cNvSpPr/>
                    <p:nvPr/>
                  </p:nvSpPr>
                  <p:spPr>
                    <a:xfrm>
                      <a:off x="4533840" y="2852640"/>
                      <a:ext cx="365040" cy="529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  <p:sp>
                  <p:nvSpPr>
                    <p:cNvPr id="511" name="Text Box 84"/>
                    <p:cNvSpPr/>
                    <p:nvPr/>
                  </p:nvSpPr>
                  <p:spPr>
                    <a:xfrm>
                      <a:off x="4485960" y="5555880"/>
                      <a:ext cx="316080" cy="51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p:txBody>
                </p:sp>
              </p:grpSp>
            </p:grpSp>
            <p:sp>
              <p:nvSpPr>
                <p:cNvPr id="512" name="Freeform 85"/>
                <p:cNvSpPr/>
                <p:nvPr/>
              </p:nvSpPr>
              <p:spPr>
                <a:xfrm>
                  <a:off x="4724280" y="5241960"/>
                  <a:ext cx="138240" cy="26028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157" h="228">
                      <a:moveTo>
                        <a:pt x="0" y="114"/>
                      </a:moveTo>
                      <a:lnTo>
                        <a:pt x="157" y="0"/>
                      </a:lnTo>
                      <a:lnTo>
                        <a:pt x="157" y="228"/>
                      </a:lnTo>
                    </a:path>
                  </a:pathLst>
                </a:custGeom>
                <a:noFill/>
                <a:ln w="1908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</p:grpSp>
          <p:cxnSp>
            <p:nvCxnSpPr>
              <p:cNvPr id="513" name="AutoShape 86"/>
              <p:cNvCxnSpPr/>
              <p:nvPr/>
            </p:nvCxnSpPr>
            <p:spPr>
              <a:xfrm>
                <a:off x="4730760" y="3303360"/>
                <a:ext cx="802800" cy="263088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</a:ln>
            </p:spPr>
          </p:cxnSp>
          <p:sp>
            <p:nvSpPr>
              <p:cNvPr id="514" name="Freeform 87"/>
              <p:cNvSpPr/>
              <p:nvPr/>
            </p:nvSpPr>
            <p:spPr>
              <a:xfrm>
                <a:off x="5480280" y="566172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w="201" h="162">
                    <a:moveTo>
                      <a:pt x="0" y="61"/>
                    </a:moveTo>
                    <a:lnTo>
                      <a:pt x="134" y="0"/>
                    </a:lnTo>
                    <a:lnTo>
                      <a:pt x="201" y="162"/>
                    </a:lnTo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</p:spTree>
  </p:cSld>
  <p:transition spd="slow">
    <p:split dir="out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4"/>
          <p:cNvSpPr/>
          <p:nvPr/>
        </p:nvSpPr>
        <p:spPr>
          <a:xfrm>
            <a:off x="357120" y="168120"/>
            <a:ext cx="85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Bookman"/>
              </a:rPr>
              <a:t>Алгоритм побудови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Bookman"/>
              </a:rPr>
              <a:t>правильної трикутної піраміди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516" name="Picture 8" descr="Untitled-5++"/>
          <p:cNvPicPr/>
          <p:nvPr/>
        </p:nvPicPr>
        <p:blipFill>
          <a:blip r:embed="rId2"/>
          <a:stretch/>
        </p:blipFill>
        <p:spPr>
          <a:xfrm>
            <a:off x="108000" y="1413000"/>
            <a:ext cx="3887640" cy="1847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9" descr="Untitled-6"/>
          <p:cNvPicPr/>
          <p:nvPr/>
        </p:nvPicPr>
        <p:blipFill>
          <a:blip r:embed="rId3"/>
          <a:stretch/>
        </p:blipFill>
        <p:spPr>
          <a:xfrm>
            <a:off x="3059280" y="2852640"/>
            <a:ext cx="2952720" cy="2219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" descr="Untitled-7"/>
          <p:cNvPicPr/>
          <p:nvPr/>
        </p:nvPicPr>
        <p:blipFill>
          <a:blip r:embed="rId4"/>
          <a:stretch/>
        </p:blipFill>
        <p:spPr>
          <a:xfrm>
            <a:off x="5867280" y="4365720"/>
            <a:ext cx="309744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Вчимося будувати піраміду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0" name="Прямоугольник 3"/>
          <p:cNvSpPr/>
          <p:nvPr/>
        </p:nvSpPr>
        <p:spPr>
          <a:xfrm>
            <a:off x="3143160" y="3214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521" name="Picture 2" descr="MA.E10.B9.33/innerimg0.jpg"/>
          <p:cNvPicPr/>
          <p:nvPr/>
        </p:nvPicPr>
        <p:blipFill>
          <a:blip r:embed="rId2"/>
          <a:stretch/>
        </p:blipFill>
        <p:spPr>
          <a:xfrm>
            <a:off x="5148360" y="4365720"/>
            <a:ext cx="3240000" cy="2325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http://t3.gstatic.com/images?q=tbn:ANd9GcTtAB18P8vWCAKsT0Kzxr6Of-T84rF03ZyNJdbjFvC_dJR_RMoESw"/>
          <p:cNvPicPr/>
          <p:nvPr/>
        </p:nvPicPr>
        <p:blipFill>
          <a:blip r:embed="rId3"/>
          <a:stretch/>
        </p:blipFill>
        <p:spPr>
          <a:xfrm>
            <a:off x="4786200" y="1357200"/>
            <a:ext cx="4094280" cy="271476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ая соединительная линия 11"/>
          <p:cNvSpPr/>
          <p:nvPr/>
        </p:nvSpPr>
        <p:spPr>
          <a:xfrm>
            <a:off x="285840" y="5214960"/>
            <a:ext cx="28573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4" name="Прямая соединительная линия 52"/>
          <p:cNvSpPr/>
          <p:nvPr/>
        </p:nvSpPr>
        <p:spPr>
          <a:xfrm flipV="1">
            <a:off x="285840" y="4286160"/>
            <a:ext cx="1571400" cy="928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5" name="Прямая соединительная линия 56"/>
          <p:cNvSpPr/>
          <p:nvPr/>
        </p:nvSpPr>
        <p:spPr>
          <a:xfrm flipV="1">
            <a:off x="3143160" y="4286160"/>
            <a:ext cx="1571760" cy="928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6" name="Прямая соединительная линия 58"/>
          <p:cNvSpPr/>
          <p:nvPr/>
        </p:nvSpPr>
        <p:spPr>
          <a:xfrm>
            <a:off x="1857240" y="4286160"/>
            <a:ext cx="2857680" cy="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7" name="Прямая соединительная линия 64"/>
          <p:cNvSpPr/>
          <p:nvPr/>
        </p:nvSpPr>
        <p:spPr>
          <a:xfrm flipV="1">
            <a:off x="214200" y="4286160"/>
            <a:ext cx="4429080" cy="928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8" name="Прямая соединительная линия 66"/>
          <p:cNvSpPr/>
          <p:nvPr/>
        </p:nvSpPr>
        <p:spPr>
          <a:xfrm flipH="1" flipV="1">
            <a:off x="1857240" y="4286160"/>
            <a:ext cx="1285920" cy="928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9" name="Прямая соединительная линия 68"/>
          <p:cNvSpPr/>
          <p:nvPr/>
        </p:nvSpPr>
        <p:spPr>
          <a:xfrm flipV="1">
            <a:off x="2498760" y="1928520"/>
            <a:ext cx="1440" cy="27874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0" name="Прямая соединительная линия 72"/>
          <p:cNvSpPr/>
          <p:nvPr/>
        </p:nvSpPr>
        <p:spPr>
          <a:xfrm flipV="1">
            <a:off x="285120" y="1928880"/>
            <a:ext cx="2214360" cy="3286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1" name="Прямая соединительная линия 75"/>
          <p:cNvSpPr/>
          <p:nvPr/>
        </p:nvSpPr>
        <p:spPr>
          <a:xfrm flipH="1" flipV="1">
            <a:off x="2500200" y="1928880"/>
            <a:ext cx="642960" cy="3286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2" name="Прямая соединительная линия 78"/>
          <p:cNvSpPr/>
          <p:nvPr/>
        </p:nvSpPr>
        <p:spPr>
          <a:xfrm flipH="1" flipV="1">
            <a:off x="2500200" y="1928880"/>
            <a:ext cx="2214720" cy="235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3" name="Прямая соединительная линия 81"/>
          <p:cNvSpPr/>
          <p:nvPr/>
        </p:nvSpPr>
        <p:spPr>
          <a:xfrm flipV="1">
            <a:off x="1857240" y="1928880"/>
            <a:ext cx="642960" cy="235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3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25200" y="227160"/>
            <a:ext cx="821844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ма про площу  бічної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рхні  правильної піраміди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250920" y="1413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Palatino Linotype"/>
              </a:rPr>
              <a:t>Площа бічної  поверхні правильноі піраміди дорівнює  половині добутку периметра основи на апофему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6" name="Text Box 35"/>
          <p:cNvSpPr/>
          <p:nvPr/>
        </p:nvSpPr>
        <p:spPr>
          <a:xfrm>
            <a:off x="395280" y="4653000"/>
            <a:ext cx="53290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Доведення :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S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Palatino Linotype"/>
              </a:rPr>
              <a:t>б,п,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 =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 (½ad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½ad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½ad + … ) =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= ½ d (a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a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i="1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a + …)= ½P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Palatino Linotype"/>
              </a:rPr>
              <a:t>осн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Palatino Linotype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Palatino Linotype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7" name="Прямоугольник 55"/>
          <p:cNvSpPr/>
          <p:nvPr/>
        </p:nvSpPr>
        <p:spPr>
          <a:xfrm>
            <a:off x="1187280" y="3284640"/>
            <a:ext cx="3888000" cy="12668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Palatino Linotype"/>
              </a:rPr>
              <a:t>S</a:t>
            </a:r>
            <a:r>
              <a:rPr b="0" i="1" lang="ru-RU" sz="3600" spc="-1" strike="noStrike" baseline="-25000">
                <a:solidFill>
                  <a:srgbClr val="ffffff"/>
                </a:solidFill>
                <a:latin typeface="Palatino Linotype"/>
              </a:rPr>
              <a:t>б,п.</a:t>
            </a:r>
            <a:r>
              <a:rPr b="0" i="1" lang="en-US" sz="3600" spc="-1" strike="noStrike">
                <a:solidFill>
                  <a:srgbClr val="ffffff"/>
                </a:solidFill>
                <a:latin typeface="Palatino Linotype"/>
              </a:rPr>
              <a:t> = ½ P</a:t>
            </a:r>
            <a:r>
              <a:rPr b="0" i="1" lang="ru-RU" sz="3600" spc="-1" strike="noStrike" baseline="-25000">
                <a:solidFill>
                  <a:srgbClr val="ffffff"/>
                </a:solidFill>
                <a:latin typeface="Palatino Linotype"/>
              </a:rPr>
              <a:t>осн.</a:t>
            </a:r>
            <a:r>
              <a:rPr b="0" i="1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Palatino Linotype"/>
              </a:rPr>
              <a:t>MH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8" name="Левая фигурная скобка 1"/>
          <p:cNvSpPr/>
          <p:nvPr/>
        </p:nvSpPr>
        <p:spPr>
          <a:xfrm flipH="1" rot="5400000">
            <a:off x="2967840" y="5272920"/>
            <a:ext cx="312480" cy="1946160"/>
          </a:xfrm>
          <a:custGeom>
            <a:avLst/>
            <a:gdLst>
              <a:gd name="textAreaLeft" fmla="*/ 199800 w 312480"/>
              <a:gd name="textAreaRight" fmla="*/ 312840 w 312480"/>
              <a:gd name="textAreaTop" fmla="*/ 55800 h 1946160"/>
              <a:gd name="textAreaBottom" fmla="*/ 1890360 h 19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0"/>
                  <a:pt x="10800" y="1980"/>
                </a:cubicBezTo>
                <a:lnTo>
                  <a:pt x="10800" y="8820"/>
                </a:lnTo>
                <a:cubicBezTo>
                  <a:pt x="10800" y="9810"/>
                  <a:pt x="5400" y="10800"/>
                  <a:pt x="0" y="10800"/>
                </a:cubicBezTo>
                <a:cubicBezTo>
                  <a:pt x="5400" y="10800"/>
                  <a:pt x="10800" y="11790"/>
                  <a:pt x="10800" y="12780"/>
                </a:cubicBezTo>
                <a:lnTo>
                  <a:pt x="10800" y="19620"/>
                </a:lnTo>
                <a:cubicBezTo>
                  <a:pt x="10800" y="2061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9" name="Прямоугольник 2"/>
          <p:cNvSpPr/>
          <p:nvPr/>
        </p:nvSpPr>
        <p:spPr>
          <a:xfrm>
            <a:off x="2793240" y="6303960"/>
            <a:ext cx="79200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P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Palatino Linotype"/>
              </a:rPr>
              <a:t>осн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Palatino Linotype"/>
              </a:rPr>
              <a:t>.</a:t>
            </a:r>
            <a:r>
              <a:rPr b="0" i="1" lang="ru-RU" sz="2400" spc="-1" strike="noStrike">
                <a:solidFill>
                  <a:srgbClr val="5d2e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40" name="Группа 73"/>
          <p:cNvGrpSpPr/>
          <p:nvPr/>
        </p:nvGrpSpPr>
        <p:grpSpPr>
          <a:xfrm>
            <a:off x="5724360" y="2781360"/>
            <a:ext cx="3419640" cy="4074840"/>
            <a:chOff x="5724360" y="2781360"/>
            <a:chExt cx="3419640" cy="4074840"/>
          </a:xfrm>
        </p:grpSpPr>
        <p:grpSp>
          <p:nvGrpSpPr>
            <p:cNvPr id="541" name="Группа 53"/>
            <p:cNvGrpSpPr/>
            <p:nvPr/>
          </p:nvGrpSpPr>
          <p:grpSpPr>
            <a:xfrm>
              <a:off x="5724360" y="2781360"/>
              <a:ext cx="3419640" cy="4074840"/>
              <a:chOff x="5724360" y="2781360"/>
              <a:chExt cx="3419640" cy="4074840"/>
            </a:xfrm>
          </p:grpSpPr>
          <p:sp>
            <p:nvSpPr>
              <p:cNvPr id="542" name="Прямая соединительная линия 12"/>
              <p:cNvSpPr/>
              <p:nvPr/>
            </p:nvSpPr>
            <p:spPr>
              <a:xfrm flipH="1" flipV="1">
                <a:off x="7278480" y="3134520"/>
                <a:ext cx="6120" cy="2671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43" name="Полилиния 78"/>
              <p:cNvSpPr/>
              <p:nvPr/>
            </p:nvSpPr>
            <p:spPr>
              <a:xfrm>
                <a:off x="5889240" y="5140440"/>
                <a:ext cx="2818080" cy="1297080"/>
              </a:xfrm>
              <a:custGeom>
                <a:avLst/>
                <a:gdLst/>
                <a:ahLst/>
                <a:rect l="l" t="t" r="r" b="b"/>
                <a:pathLst>
                  <a:path w="2878372" h="1478943">
                    <a:moveTo>
                      <a:pt x="0" y="1478943"/>
                    </a:moveTo>
                    <a:lnTo>
                      <a:pt x="731520" y="0"/>
                    </a:lnTo>
                    <a:lnTo>
                      <a:pt x="2878372" y="15903"/>
                    </a:lnTo>
                    <a:lnTo>
                      <a:pt x="2870420" y="15903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44" name="Прямая соединительная линия 79"/>
              <p:cNvSpPr/>
              <p:nvPr/>
            </p:nvSpPr>
            <p:spPr>
              <a:xfrm flipH="1">
                <a:off x="6615000" y="3151080"/>
                <a:ext cx="676080" cy="1989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45" name="Прямая соединительная линия 80"/>
              <p:cNvSpPr/>
              <p:nvPr/>
            </p:nvSpPr>
            <p:spPr>
              <a:xfrm flipH="1">
                <a:off x="5862240" y="3151080"/>
                <a:ext cx="1419120" cy="3313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46" name="TextBox 81"/>
              <p:cNvSpPr/>
              <p:nvPr/>
            </p:nvSpPr>
            <p:spPr>
              <a:xfrm>
                <a:off x="5724360" y="6396480"/>
                <a:ext cx="52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ffffff"/>
                    </a:solidFill>
                    <a:latin typeface="Palatino Linotype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47" name="TextBox 82"/>
              <p:cNvSpPr/>
              <p:nvPr/>
            </p:nvSpPr>
            <p:spPr>
              <a:xfrm>
                <a:off x="7918560" y="6385320"/>
                <a:ext cx="52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ffffff"/>
                    </a:solidFill>
                    <a:latin typeface="Palatino Linotype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48" name="TextBox 83"/>
              <p:cNvSpPr/>
              <p:nvPr/>
            </p:nvSpPr>
            <p:spPr>
              <a:xfrm>
                <a:off x="8620200" y="4819680"/>
                <a:ext cx="52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ffffff"/>
                    </a:solidFill>
                    <a:latin typeface="Palatino Linotype"/>
                  </a:rPr>
                  <a:t>С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49" name="TextBox 84"/>
              <p:cNvSpPr/>
              <p:nvPr/>
            </p:nvSpPr>
            <p:spPr>
              <a:xfrm>
                <a:off x="6043320" y="4807080"/>
                <a:ext cx="52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Palatino Linotype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0" name="TextBox 85"/>
              <p:cNvSpPr/>
              <p:nvPr/>
            </p:nvSpPr>
            <p:spPr>
              <a:xfrm>
                <a:off x="7338960" y="2781360"/>
                <a:ext cx="52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Palatino Linotype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1" name="Прямая соединительная линия 86"/>
              <p:cNvSpPr/>
              <p:nvPr/>
            </p:nvSpPr>
            <p:spPr>
              <a:xfrm flipV="1">
                <a:off x="5868720" y="5155920"/>
                <a:ext cx="2833920" cy="12999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2" name="Прямая соединительная линия 87"/>
              <p:cNvSpPr/>
              <p:nvPr/>
            </p:nvSpPr>
            <p:spPr>
              <a:xfrm flipH="1" flipV="1">
                <a:off x="6581520" y="5144760"/>
                <a:ext cx="1408320" cy="1322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3" name="Овал 25"/>
              <p:cNvSpPr/>
              <p:nvPr/>
            </p:nvSpPr>
            <p:spPr>
              <a:xfrm>
                <a:off x="7264440" y="5783400"/>
                <a:ext cx="44280" cy="41040"/>
              </a:xfrm>
              <a:prstGeom prst="ellipse">
                <a:avLst/>
              </a:prstGeom>
              <a:solidFill>
                <a:srgbClr val="c00000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4" name="Полилиния 46"/>
              <p:cNvSpPr/>
              <p:nvPr/>
            </p:nvSpPr>
            <p:spPr>
              <a:xfrm>
                <a:off x="8255160" y="5356440"/>
                <a:ext cx="214200" cy="2584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90500" h="238125">
                    <a:moveTo>
                      <a:pt x="0" y="190500"/>
                    </a:moveTo>
                    <a:lnTo>
                      <a:pt x="85725" y="0"/>
                    </a:lnTo>
                    <a:lnTo>
                      <a:pt x="180975" y="238125"/>
                    </a:lnTo>
                    <a:lnTo>
                      <a:pt x="190500" y="238125"/>
                    </a:lnTo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5" name="Прямая соединительная линия 29"/>
              <p:cNvSpPr/>
              <p:nvPr/>
            </p:nvSpPr>
            <p:spPr>
              <a:xfrm>
                <a:off x="7281720" y="3144960"/>
                <a:ext cx="1074960" cy="2661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6" name="TextBox 91"/>
              <p:cNvSpPr/>
              <p:nvPr/>
            </p:nvSpPr>
            <p:spPr>
              <a:xfrm>
                <a:off x="8269200" y="5612040"/>
                <a:ext cx="52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ffffff"/>
                    </a:solidFill>
                    <a:latin typeface="Palatino Linotype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7" name="TextBox 92"/>
              <p:cNvSpPr/>
              <p:nvPr/>
            </p:nvSpPr>
            <p:spPr>
              <a:xfrm>
                <a:off x="7062480" y="5959800"/>
                <a:ext cx="52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ffffff"/>
                    </a:solidFill>
                    <a:latin typeface="Palatino Linotype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8" name="Полилиния 93"/>
              <p:cNvSpPr/>
              <p:nvPr/>
            </p:nvSpPr>
            <p:spPr>
              <a:xfrm>
                <a:off x="5918040" y="5140440"/>
                <a:ext cx="2827440" cy="1326960"/>
              </a:xfrm>
              <a:custGeom>
                <a:avLst/>
                <a:gdLst/>
                <a:ahLst/>
                <a:rect l="l" t="t" r="r" b="b"/>
                <a:pathLst>
                  <a:path w="2886323" h="1470991">
                    <a:moveTo>
                      <a:pt x="2886323" y="0"/>
                    </a:moveTo>
                    <a:lnTo>
                      <a:pt x="2178657" y="1470991"/>
                    </a:lnTo>
                    <a:lnTo>
                      <a:pt x="0" y="1455089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59" name="Прямая соединительная линия 94"/>
              <p:cNvSpPr/>
              <p:nvPr/>
            </p:nvSpPr>
            <p:spPr>
              <a:xfrm>
                <a:off x="7281720" y="3151080"/>
                <a:ext cx="723960" cy="3313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560" name="Прямая соединительная линия 95"/>
              <p:cNvSpPr/>
              <p:nvPr/>
            </p:nvSpPr>
            <p:spPr>
              <a:xfrm>
                <a:off x="7281720" y="3151080"/>
                <a:ext cx="1409760" cy="199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561" name="Прямоугольник 56"/>
            <p:cNvSpPr/>
            <p:nvPr/>
          </p:nvSpPr>
          <p:spPr>
            <a:xfrm>
              <a:off x="7810560" y="42782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Palatino Linotype"/>
                </a:rPr>
                <a:t>d</a:t>
              </a:r>
              <a:r>
                <a:rPr b="0" i="1" lang="ru-RU" sz="24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62" name="Прямоугольник 56"/>
            <p:cNvSpPr/>
            <p:nvPr/>
          </p:nvSpPr>
          <p:spPr>
            <a:xfrm>
              <a:off x="6783120" y="63234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ffff"/>
                  </a:solidFill>
                  <a:latin typeface="Palatino Linotype"/>
                </a:rPr>
                <a:t>а 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539640" y="549360"/>
            <a:ext cx="8136000" cy="22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іраміда. Правильна піраміда, елементи. Об’єм піраміди. Площа поверхні піраміди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4" descr="piramid"/>
          <p:cNvPicPr/>
          <p:nvPr/>
        </p:nvPicPr>
        <p:blipFill>
          <a:blip r:embed="rId2"/>
          <a:stretch/>
        </p:blipFill>
        <p:spPr>
          <a:xfrm>
            <a:off x="4802040" y="4005360"/>
            <a:ext cx="380232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5200" y="137880"/>
            <a:ext cx="821844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 повної  поверхні пірамід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179280" y="2565360"/>
            <a:ext cx="60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Palatino Linotype"/>
              </a:rPr>
              <a:t>Площа повної  поверхні  піраміди  дорівнює  сумі площ основи та  бічної  поверхні</a:t>
            </a:r>
            <a:r>
              <a:rPr b="0" i="1" lang="ru-RU" sz="3200" spc="-1" strike="noStrike">
                <a:solidFill>
                  <a:srgbClr val="5d2e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65" name="Группа 53"/>
          <p:cNvGrpSpPr/>
          <p:nvPr/>
        </p:nvGrpSpPr>
        <p:grpSpPr>
          <a:xfrm>
            <a:off x="4932360" y="1557360"/>
            <a:ext cx="4211640" cy="5152680"/>
            <a:chOff x="4932360" y="1557360"/>
            <a:chExt cx="4211640" cy="5152680"/>
          </a:xfrm>
        </p:grpSpPr>
        <p:sp>
          <p:nvSpPr>
            <p:cNvPr id="566" name="Полилиния 28"/>
            <p:cNvSpPr/>
            <p:nvPr/>
          </p:nvSpPr>
          <p:spPr>
            <a:xfrm>
              <a:off x="6173640" y="2089080"/>
              <a:ext cx="2435400" cy="2571840"/>
            </a:xfrm>
            <a:custGeom>
              <a:avLst/>
              <a:gdLst/>
              <a:ahLst/>
              <a:rect l="l" t="t" r="r" b="b"/>
              <a:pathLst>
                <a:path w="2138901" h="2218414">
                  <a:moveTo>
                    <a:pt x="715618" y="0"/>
                  </a:moveTo>
                  <a:lnTo>
                    <a:pt x="2138901" y="2210463"/>
                  </a:lnTo>
                  <a:lnTo>
                    <a:pt x="0" y="2218414"/>
                  </a:lnTo>
                  <a:lnTo>
                    <a:pt x="7156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3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67" name="Параллелограмм 29"/>
            <p:cNvSpPr/>
            <p:nvPr/>
          </p:nvSpPr>
          <p:spPr>
            <a:xfrm>
              <a:off x="5375160" y="4656240"/>
              <a:ext cx="3279960" cy="1689120"/>
            </a:xfrm>
            <a:prstGeom prst="parallelogram">
              <a:avLst>
                <a:gd name="adj" fmla="val 53436"/>
              </a:avLst>
            </a:prstGeom>
            <a:solidFill>
              <a:srgbClr val="424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68" name="Полилиния 30"/>
            <p:cNvSpPr/>
            <p:nvPr/>
          </p:nvSpPr>
          <p:spPr>
            <a:xfrm>
              <a:off x="5359320" y="2079360"/>
              <a:ext cx="2463840" cy="4256280"/>
            </a:xfrm>
            <a:custGeom>
              <a:avLst/>
              <a:gdLst/>
              <a:ahLst/>
              <a:rect l="l" t="t" r="r" b="b"/>
              <a:pathLst>
                <a:path w="2162755" h="3689405">
                  <a:moveTo>
                    <a:pt x="1423284" y="0"/>
                  </a:moveTo>
                  <a:lnTo>
                    <a:pt x="2162755" y="3689405"/>
                  </a:lnTo>
                  <a:lnTo>
                    <a:pt x="0" y="3673503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69" name="Полилиния 31"/>
            <p:cNvSpPr/>
            <p:nvPr/>
          </p:nvSpPr>
          <p:spPr>
            <a:xfrm>
              <a:off x="5375160" y="2081160"/>
              <a:ext cx="1622520" cy="4265640"/>
            </a:xfrm>
            <a:custGeom>
              <a:avLst/>
              <a:gdLst/>
              <a:ahLst/>
              <a:rect l="l" t="t" r="r" b="b"/>
              <a:pathLst>
                <a:path w="1423284" h="3681454">
                  <a:moveTo>
                    <a:pt x="1423284" y="0"/>
                  </a:moveTo>
                  <a:lnTo>
                    <a:pt x="723569" y="2226365"/>
                  </a:lnTo>
                  <a:lnTo>
                    <a:pt x="0" y="3681454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1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0" name="Полилиния 32"/>
            <p:cNvSpPr/>
            <p:nvPr/>
          </p:nvSpPr>
          <p:spPr>
            <a:xfrm>
              <a:off x="6988320" y="2089080"/>
              <a:ext cx="1625400" cy="4327560"/>
            </a:xfrm>
            <a:custGeom>
              <a:avLst/>
              <a:gdLst/>
              <a:ahLst/>
              <a:rect l="l" t="t" r="r" b="b"/>
              <a:pathLst>
                <a:path w="1431234" h="3697357">
                  <a:moveTo>
                    <a:pt x="0" y="0"/>
                  </a:moveTo>
                  <a:lnTo>
                    <a:pt x="1431234" y="2210463"/>
                  </a:lnTo>
                  <a:lnTo>
                    <a:pt x="739471" y="36973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54c40"/>
                </a:gs>
                <a:gs pos="100000">
                  <a:srgbClr val="ff8672">
                    <a:alpha val="14117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1" name="Прямая соединительная линия 12"/>
            <p:cNvSpPr/>
            <p:nvPr/>
          </p:nvSpPr>
          <p:spPr>
            <a:xfrm flipH="1" flipV="1">
              <a:off x="6984000" y="2076120"/>
              <a:ext cx="7200" cy="34300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2" name="Полилиния 34"/>
            <p:cNvSpPr/>
            <p:nvPr/>
          </p:nvSpPr>
          <p:spPr>
            <a:xfrm>
              <a:off x="5375160" y="4653000"/>
              <a:ext cx="3262320" cy="1663560"/>
            </a:xfrm>
            <a:custGeom>
              <a:avLst/>
              <a:gdLst/>
              <a:ahLst/>
              <a:rect l="l" t="t" r="r" b="b"/>
              <a:pathLst>
                <a:path w="2878372" h="1478943">
                  <a:moveTo>
                    <a:pt x="0" y="1478943"/>
                  </a:moveTo>
                  <a:lnTo>
                    <a:pt x="731520" y="0"/>
                  </a:lnTo>
                  <a:lnTo>
                    <a:pt x="2878372" y="15903"/>
                  </a:lnTo>
                  <a:lnTo>
                    <a:pt x="2870420" y="1590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3" name="Прямая соединительная линия 37"/>
            <p:cNvSpPr/>
            <p:nvPr/>
          </p:nvSpPr>
          <p:spPr>
            <a:xfrm flipH="1">
              <a:off x="6203880" y="2098440"/>
              <a:ext cx="784080" cy="25542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4" name="Прямая соединительная линия 39"/>
            <p:cNvSpPr/>
            <p:nvPr/>
          </p:nvSpPr>
          <p:spPr>
            <a:xfrm flipH="1">
              <a:off x="5343480" y="2098440"/>
              <a:ext cx="1644480" cy="4253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5" name="TextBox 40"/>
            <p:cNvSpPr/>
            <p:nvPr/>
          </p:nvSpPr>
          <p:spPr>
            <a:xfrm>
              <a:off x="4932360" y="624060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ffff"/>
                  </a:solidFill>
                  <a:latin typeface="Palatino Linotype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6" name="TextBox 41"/>
            <p:cNvSpPr/>
            <p:nvPr/>
          </p:nvSpPr>
          <p:spPr>
            <a:xfrm>
              <a:off x="7724880" y="6250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ffff"/>
                  </a:solidFill>
                  <a:latin typeface="Palatino Linotype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7" name="TextBox 42"/>
            <p:cNvSpPr/>
            <p:nvPr/>
          </p:nvSpPr>
          <p:spPr>
            <a:xfrm>
              <a:off x="8537760" y="424044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ffff"/>
                  </a:solidFill>
                  <a:latin typeface="Palatino Linotype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8" name="TextBox 43"/>
            <p:cNvSpPr/>
            <p:nvPr/>
          </p:nvSpPr>
          <p:spPr>
            <a:xfrm>
              <a:off x="5553000" y="4222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Palatino Linotype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79" name="TextBox 44"/>
            <p:cNvSpPr/>
            <p:nvPr/>
          </p:nvSpPr>
          <p:spPr>
            <a:xfrm>
              <a:off x="6651720" y="1557360"/>
              <a:ext cx="60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Palatino Linotype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0" name="Прямая соединительная линия 45"/>
            <p:cNvSpPr/>
            <p:nvPr/>
          </p:nvSpPr>
          <p:spPr>
            <a:xfrm flipV="1">
              <a:off x="5349600" y="4671720"/>
              <a:ext cx="3283200" cy="16686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1" name="Прямая соединительная линия 46"/>
            <p:cNvSpPr/>
            <p:nvPr/>
          </p:nvSpPr>
          <p:spPr>
            <a:xfrm flipH="1" flipV="1">
              <a:off x="6175080" y="4656240"/>
              <a:ext cx="1631880" cy="16984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2" name="Овал 25"/>
            <p:cNvSpPr/>
            <p:nvPr/>
          </p:nvSpPr>
          <p:spPr>
            <a:xfrm>
              <a:off x="6966000" y="5477040"/>
              <a:ext cx="52200" cy="5220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3" name="Полилиния 46"/>
            <p:cNvSpPr/>
            <p:nvPr/>
          </p:nvSpPr>
          <p:spPr>
            <a:xfrm>
              <a:off x="8113680" y="4929480"/>
              <a:ext cx="249120" cy="3315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190500" h="238125">
                  <a:moveTo>
                    <a:pt x="0" y="190500"/>
                  </a:moveTo>
                  <a:lnTo>
                    <a:pt x="85725" y="0"/>
                  </a:lnTo>
                  <a:lnTo>
                    <a:pt x="180975" y="238125"/>
                  </a:lnTo>
                  <a:lnTo>
                    <a:pt x="190500" y="2381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4" name="Прямая соединительная линия 29"/>
            <p:cNvSpPr/>
            <p:nvPr/>
          </p:nvSpPr>
          <p:spPr>
            <a:xfrm>
              <a:off x="6987600" y="2089080"/>
              <a:ext cx="1244880" cy="3417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5" name="TextBox 50"/>
            <p:cNvSpPr/>
            <p:nvPr/>
          </p:nvSpPr>
          <p:spPr>
            <a:xfrm>
              <a:off x="8180640" y="5218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ffff"/>
                  </a:solidFill>
                  <a:latin typeface="Palatino Linotype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6" name="TextBox 51"/>
            <p:cNvSpPr/>
            <p:nvPr/>
          </p:nvSpPr>
          <p:spPr>
            <a:xfrm>
              <a:off x="6732720" y="5702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ffff"/>
                  </a:solidFill>
                  <a:latin typeface="Palatino Linotype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7" name="Полилиния 52"/>
            <p:cNvSpPr/>
            <p:nvPr/>
          </p:nvSpPr>
          <p:spPr>
            <a:xfrm>
              <a:off x="5362560" y="4653000"/>
              <a:ext cx="3275280" cy="1701720"/>
            </a:xfrm>
            <a:custGeom>
              <a:avLst/>
              <a:gdLst/>
              <a:ahLst/>
              <a:rect l="l" t="t" r="r" b="b"/>
              <a:pathLst>
                <a:path w="2886323" h="1470991">
                  <a:moveTo>
                    <a:pt x="2886323" y="0"/>
                  </a:moveTo>
                  <a:lnTo>
                    <a:pt x="2178657" y="1470991"/>
                  </a:lnTo>
                  <a:lnTo>
                    <a:pt x="0" y="145508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8" name="Прямая соединительная линия 53"/>
            <p:cNvSpPr/>
            <p:nvPr/>
          </p:nvSpPr>
          <p:spPr>
            <a:xfrm>
              <a:off x="6988320" y="2098440"/>
              <a:ext cx="838080" cy="4253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89" name="Прямая соединительная линия 54"/>
            <p:cNvSpPr/>
            <p:nvPr/>
          </p:nvSpPr>
          <p:spPr>
            <a:xfrm>
              <a:off x="6988320" y="2098440"/>
              <a:ext cx="1630440" cy="2562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590" name="Прямоугольник 55"/>
          <p:cNvSpPr/>
          <p:nvPr/>
        </p:nvSpPr>
        <p:spPr>
          <a:xfrm>
            <a:off x="-181080" y="4869000"/>
            <a:ext cx="6156360" cy="856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Palatino Linotype"/>
              </a:rPr>
              <a:t>S</a:t>
            </a:r>
            <a:r>
              <a:rPr b="0" i="1" lang="ru-RU" sz="4400" spc="-1" strike="noStrike" baseline="-25000">
                <a:solidFill>
                  <a:srgbClr val="ffffff"/>
                </a:solidFill>
                <a:latin typeface="Palatino Linotype"/>
              </a:rPr>
              <a:t>п,п,</a:t>
            </a:r>
            <a:r>
              <a:rPr b="0" i="1" lang="ru-RU" sz="4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4400" spc="-1" strike="noStrike" baseline="-25000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Palatino Linotype"/>
              </a:rPr>
              <a:t>= S</a:t>
            </a:r>
            <a:r>
              <a:rPr b="0" i="1" lang="ru-RU" sz="4400" spc="-1" strike="noStrike" baseline="-25000">
                <a:solidFill>
                  <a:srgbClr val="ffffff"/>
                </a:solidFill>
                <a:latin typeface="Palatino Linotype"/>
              </a:rPr>
              <a:t>осн.</a:t>
            </a:r>
            <a:r>
              <a:rPr b="0" i="1" lang="ru-RU" sz="4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Palatino Linotype"/>
              </a:rPr>
              <a:t>+ S</a:t>
            </a:r>
            <a:r>
              <a:rPr b="0" i="1" lang="ru-RU" sz="4400" spc="-1" strike="noStrike" baseline="-25000">
                <a:solidFill>
                  <a:srgbClr val="ffffff"/>
                </a:solidFill>
                <a:latin typeface="Palatino Linotype"/>
              </a:rPr>
              <a:t>б,п,</a:t>
            </a:r>
            <a:r>
              <a:rPr b="0" i="1" lang="en-US" sz="4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1" name="Прямоугольник 56"/>
          <p:cNvSpPr/>
          <p:nvPr/>
        </p:nvSpPr>
        <p:spPr>
          <a:xfrm>
            <a:off x="7893720" y="440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Palatino Linotype"/>
              </a:rPr>
              <a:t>l</a:t>
            </a:r>
            <a:r>
              <a:rPr b="0" i="1" lang="ru-RU" sz="2400" spc="-1" strike="noStrike">
                <a:solidFill>
                  <a:srgbClr val="5d2e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2" name="Прямоугольник 56"/>
          <p:cNvSpPr/>
          <p:nvPr/>
        </p:nvSpPr>
        <p:spPr>
          <a:xfrm>
            <a:off x="6869160" y="63421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Palatino Linotype"/>
              </a:rPr>
              <a:t>а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split dir="out" orient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25200" y="472680"/>
            <a:ext cx="821844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піраміди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250920" y="155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Palatino Linotype"/>
              </a:rPr>
              <a:t>Об</a:t>
            </a:r>
            <a:r>
              <a:rPr b="0" i="1" lang="en-US" sz="3600" spc="-1" strike="noStrike">
                <a:solidFill>
                  <a:srgbClr val="ffffff"/>
                </a:solidFill>
                <a:latin typeface="Palatino Linotype"/>
              </a:rPr>
              <a:t>’</a:t>
            </a:r>
            <a:r>
              <a:rPr b="0" i="1" lang="ru-RU" sz="3600" spc="-1" strike="noStrike">
                <a:solidFill>
                  <a:srgbClr val="ffffff"/>
                </a:solidFill>
                <a:latin typeface="Palatino Linotype"/>
              </a:rPr>
              <a:t>єм піраміди дорівнює 1/3 добутку площи основи  на висоту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5" name="Прямоугольник 55"/>
          <p:cNvSpPr/>
          <p:nvPr/>
        </p:nvSpPr>
        <p:spPr>
          <a:xfrm>
            <a:off x="1258920" y="3284640"/>
            <a:ext cx="4321080" cy="856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Palatino Linotype"/>
              </a:rPr>
              <a:t>V</a:t>
            </a:r>
            <a:r>
              <a:rPr b="0" i="1" lang="ru-RU" sz="4400" spc="-1" strike="noStrike" baseline="-25000">
                <a:solidFill>
                  <a:srgbClr val="ffffff"/>
                </a:solidFill>
                <a:latin typeface="Palatino Linotype"/>
              </a:rPr>
              <a:t>.</a:t>
            </a:r>
            <a:r>
              <a:rPr b="0" i="1" lang="en-US" sz="4400" spc="-1" strike="noStrike">
                <a:solidFill>
                  <a:srgbClr val="ffffff"/>
                </a:solidFill>
                <a:latin typeface="Palatino Linotype"/>
              </a:rPr>
              <a:t> = 1/3 S</a:t>
            </a:r>
            <a:r>
              <a:rPr b="0" i="1" lang="ru-RU" sz="4400" spc="-1" strike="noStrike" baseline="-25000">
                <a:solidFill>
                  <a:srgbClr val="ffffff"/>
                </a:solidFill>
                <a:latin typeface="Palatino Linotype"/>
              </a:rPr>
              <a:t>осн</a:t>
            </a:r>
            <a:r>
              <a:rPr b="0" i="1" lang="ru-RU" sz="4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ru-RU" sz="4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Palatino Linotype"/>
              </a:rPr>
              <a:t>h 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96" name="Группа 3"/>
          <p:cNvGrpSpPr/>
          <p:nvPr/>
        </p:nvGrpSpPr>
        <p:grpSpPr>
          <a:xfrm>
            <a:off x="5435640" y="2492280"/>
            <a:ext cx="3708360" cy="4319280"/>
            <a:chOff x="5435640" y="2492280"/>
            <a:chExt cx="3708360" cy="4319280"/>
          </a:xfrm>
        </p:grpSpPr>
        <p:grpSp>
          <p:nvGrpSpPr>
            <p:cNvPr id="597" name="Группа 1"/>
            <p:cNvGrpSpPr/>
            <p:nvPr/>
          </p:nvGrpSpPr>
          <p:grpSpPr>
            <a:xfrm>
              <a:off x="5435640" y="2492280"/>
              <a:ext cx="3708360" cy="4319280"/>
              <a:chOff x="5435640" y="2492280"/>
              <a:chExt cx="3708360" cy="4319280"/>
            </a:xfrm>
          </p:grpSpPr>
          <p:grpSp>
            <p:nvGrpSpPr>
              <p:cNvPr id="598" name="Группа 53"/>
              <p:cNvGrpSpPr/>
              <p:nvPr/>
            </p:nvGrpSpPr>
            <p:grpSpPr>
              <a:xfrm>
                <a:off x="5435640" y="2492280"/>
                <a:ext cx="3708360" cy="4319280"/>
                <a:chOff x="5435640" y="2492280"/>
                <a:chExt cx="3708360" cy="4319280"/>
              </a:xfrm>
            </p:grpSpPr>
            <p:sp>
              <p:nvSpPr>
                <p:cNvPr id="599" name="Прямая соединительная линия 12"/>
                <p:cNvSpPr/>
                <p:nvPr/>
              </p:nvSpPr>
              <p:spPr>
                <a:xfrm flipH="1" flipV="1">
                  <a:off x="7241760" y="2917080"/>
                  <a:ext cx="6120" cy="2828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0" name="Полилиния 34"/>
                <p:cNvSpPr/>
                <p:nvPr/>
              </p:nvSpPr>
              <p:spPr>
                <a:xfrm>
                  <a:off x="5824440" y="5040360"/>
                  <a:ext cx="2874960" cy="1373040"/>
                </a:xfrm>
                <a:custGeom>
                  <a:avLst/>
                  <a:gdLst/>
                  <a:ahLst/>
                  <a:rect l="l" t="t" r="r" b="b"/>
                  <a:pathLst>
                    <a:path w="2878372" h="1478943">
                      <a:moveTo>
                        <a:pt x="0" y="1478943"/>
                      </a:moveTo>
                      <a:lnTo>
                        <a:pt x="731520" y="0"/>
                      </a:lnTo>
                      <a:lnTo>
                        <a:pt x="2878372" y="15903"/>
                      </a:lnTo>
                      <a:lnTo>
                        <a:pt x="2870420" y="15903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1" name="Прямая соединительная линия 37"/>
                <p:cNvSpPr/>
                <p:nvPr/>
              </p:nvSpPr>
              <p:spPr>
                <a:xfrm flipH="1">
                  <a:off x="6565320" y="2935080"/>
                  <a:ext cx="688680" cy="21049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2" name="Прямая соединительная линия 39"/>
                <p:cNvSpPr/>
                <p:nvPr/>
              </p:nvSpPr>
              <p:spPr>
                <a:xfrm flipH="1">
                  <a:off x="5797440" y="2935080"/>
                  <a:ext cx="1447920" cy="35071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3" name="TextBox 40"/>
                <p:cNvSpPr/>
                <p:nvPr/>
              </p:nvSpPr>
              <p:spPr>
                <a:xfrm>
                  <a:off x="5435640" y="6351840"/>
                  <a:ext cx="534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ffffff"/>
                      </a:solidFill>
                      <a:latin typeface="Palatino Linotype"/>
                    </a:rPr>
                    <a:t>А</a:t>
                  </a:r>
                  <a:endParaRPr b="0" lang="en-US" sz="24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4" name="TextBox 41"/>
                <p:cNvSpPr/>
                <p:nvPr/>
              </p:nvSpPr>
              <p:spPr>
                <a:xfrm>
                  <a:off x="8045640" y="6336000"/>
                  <a:ext cx="536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ffffff"/>
                      </a:solidFill>
                      <a:latin typeface="Palatino Linotype"/>
                    </a:rPr>
                    <a:t>В</a:t>
                  </a:r>
                  <a:endParaRPr b="0" lang="en-US" sz="24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5" name="TextBox 42"/>
                <p:cNvSpPr/>
                <p:nvPr/>
              </p:nvSpPr>
              <p:spPr>
                <a:xfrm>
                  <a:off x="8609040" y="4700520"/>
                  <a:ext cx="534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ffffff"/>
                      </a:solidFill>
                      <a:latin typeface="Palatino Linotype"/>
                    </a:rPr>
                    <a:t>С</a:t>
                  </a:r>
                  <a:endParaRPr b="0" lang="en-US" sz="24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6" name="TextBox 43"/>
                <p:cNvSpPr/>
                <p:nvPr/>
              </p:nvSpPr>
              <p:spPr>
                <a:xfrm>
                  <a:off x="5981760" y="4687920"/>
                  <a:ext cx="536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ffff"/>
                      </a:solidFill>
                      <a:latin typeface="Palatino Linotype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7" name="TextBox 44"/>
                <p:cNvSpPr/>
                <p:nvPr/>
              </p:nvSpPr>
              <p:spPr>
                <a:xfrm>
                  <a:off x="7048440" y="24922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ffff"/>
                      </a:solidFill>
                      <a:latin typeface="Palatino Linotype"/>
                    </a:rPr>
                    <a:t>M</a:t>
                  </a:r>
                  <a:endParaRPr b="0" lang="en-US" sz="24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8" name="Прямая соединительная линия 45"/>
                <p:cNvSpPr/>
                <p:nvPr/>
              </p:nvSpPr>
              <p:spPr>
                <a:xfrm flipV="1">
                  <a:off x="5803920" y="5055840"/>
                  <a:ext cx="2889360" cy="13762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09" name="Прямая соединительная линия 46"/>
                <p:cNvSpPr/>
                <p:nvPr/>
              </p:nvSpPr>
              <p:spPr>
                <a:xfrm flipH="1" flipV="1">
                  <a:off x="6528960" y="5044680"/>
                  <a:ext cx="1438200" cy="1400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10" name="Овал 25"/>
                <p:cNvSpPr/>
                <p:nvPr/>
              </p:nvSpPr>
              <p:spPr>
                <a:xfrm>
                  <a:off x="7226280" y="5719680"/>
                  <a:ext cx="45720" cy="44280"/>
                </a:xfrm>
                <a:prstGeom prst="ellipse">
                  <a:avLst/>
                </a:prstGeom>
                <a:solidFill>
                  <a:srgbClr val="c00000"/>
                </a:solidFill>
                <a:ln w="190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11" name="TextBox 51"/>
                <p:cNvSpPr/>
                <p:nvPr/>
              </p:nvSpPr>
              <p:spPr>
                <a:xfrm>
                  <a:off x="7021440" y="5907240"/>
                  <a:ext cx="534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ffffff"/>
                      </a:solidFill>
                      <a:latin typeface="Palatino Linotype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12" name="Полилиния 52"/>
                <p:cNvSpPr/>
                <p:nvPr/>
              </p:nvSpPr>
              <p:spPr>
                <a:xfrm>
                  <a:off x="5848200" y="5027760"/>
                  <a:ext cx="2884680" cy="1405080"/>
                </a:xfrm>
                <a:custGeom>
                  <a:avLst/>
                  <a:gdLst/>
                  <a:ahLst/>
                  <a:rect l="l" t="t" r="r" b="b"/>
                  <a:pathLst>
                    <a:path w="2886323" h="1470991">
                      <a:moveTo>
                        <a:pt x="2886323" y="0"/>
                      </a:moveTo>
                      <a:lnTo>
                        <a:pt x="2178657" y="1470991"/>
                      </a:lnTo>
                      <a:lnTo>
                        <a:pt x="0" y="1455089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13" name="Прямая соединительная линия 53"/>
                <p:cNvSpPr/>
                <p:nvPr/>
              </p:nvSpPr>
              <p:spPr>
                <a:xfrm>
                  <a:off x="7245360" y="2935080"/>
                  <a:ext cx="738000" cy="35071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  <p:sp>
              <p:nvSpPr>
                <p:cNvPr id="614" name="Прямая соединительная линия 54"/>
                <p:cNvSpPr/>
                <p:nvPr/>
              </p:nvSpPr>
              <p:spPr>
                <a:xfrm>
                  <a:off x="7245360" y="2935080"/>
                  <a:ext cx="1436760" cy="21128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15" name="Прямоугольник 56"/>
              <p:cNvSpPr/>
              <p:nvPr/>
            </p:nvSpPr>
            <p:spPr>
              <a:xfrm>
                <a:off x="7207560" y="427356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Palatino Linotype"/>
                  </a:rPr>
                  <a:t>h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Palatino Linotyp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16" name="Прямоугольник 56"/>
              <p:cNvSpPr/>
              <p:nvPr/>
            </p:nvSpPr>
            <p:spPr>
              <a:xfrm>
                <a:off x="6480000" y="630252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ffffff"/>
                    </a:solidFill>
                    <a:latin typeface="Palatino Linotype"/>
                  </a:rPr>
                  <a:t>а </a:t>
                </a:r>
                <a:endParaRPr b="0" lang="en-US" sz="2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617" name="Полилиния 2"/>
            <p:cNvSpPr/>
            <p:nvPr/>
          </p:nvSpPr>
          <p:spPr>
            <a:xfrm>
              <a:off x="7246800" y="5353200"/>
              <a:ext cx="223560" cy="287280"/>
            </a:xfrm>
            <a:custGeom>
              <a:avLst/>
              <a:gdLst/>
              <a:ahLst/>
              <a:rect l="l" t="t" r="r" b="b"/>
              <a:pathLst>
                <a:path w="211667" h="262467">
                  <a:moveTo>
                    <a:pt x="0" y="101600"/>
                  </a:moveTo>
                  <a:lnTo>
                    <a:pt x="203200" y="0"/>
                  </a:lnTo>
                  <a:lnTo>
                    <a:pt x="211667" y="262467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428760" y="500040"/>
          <a:ext cx="8429400" cy="6023160"/>
        </p:xfrm>
        <a:graphic>
          <a:graphicData uri="http://schemas.openxmlformats.org/drawingml/2006/table">
            <a:tbl>
              <a:tblPr/>
              <a:tblGrid>
                <a:gridCol w="4362480"/>
                <a:gridCol w="4066920"/>
              </a:tblGrid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ІРАМІД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3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ічні грані - прямокутники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рхня і нижня основи  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івні  многоокут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 ПРИЗМИ залежить від основ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ічні грані –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трикут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огокут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 ПІРАМІДИ залежить від основ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uk-UA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вропі зараз є спеціальні овочесховища, зроблені у вигляді пірамід. Вважається, що смакові якості продуктів, які зберігаються на таких базах, підвищується, а втрати зменшуються на 4-10%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620" name="Picture 6" descr="8899"/>
          <p:cNvPicPr/>
          <p:nvPr/>
        </p:nvPicPr>
        <p:blipFill>
          <a:blip r:embed="rId2"/>
          <a:stretch/>
        </p:blipFill>
        <p:spPr>
          <a:xfrm>
            <a:off x="1332000" y="2541600"/>
            <a:ext cx="5975280" cy="39830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7" descr="дбвл"/>
          <p:cNvPicPr/>
          <p:nvPr/>
        </p:nvPicPr>
        <p:blipFill>
          <a:blip r:embed="rId3"/>
          <a:stretch/>
        </p:blipFill>
        <p:spPr>
          <a:xfrm>
            <a:off x="1332000" y="4797360"/>
            <a:ext cx="5975280" cy="1755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1844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ж піраміди впливають на здор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ни. Вже вважається доведеним, що перебування людини в піраміді на певних рівнях висоти знімає головний і зубний біль, швидше загоює рани, опіки, легше стає людям хворим на ревматизм, остеохондроз.  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623" name="Picture 6" descr="78"/>
          <p:cNvPicPr/>
          <p:nvPr/>
        </p:nvPicPr>
        <p:blipFill>
          <a:blip r:embed="rId2"/>
          <a:stretch/>
        </p:blipFill>
        <p:spPr>
          <a:xfrm>
            <a:off x="2340000" y="3645000"/>
            <a:ext cx="4680000" cy="30020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ТЫ ЧТО"/>
          <p:cNvPicPr/>
          <p:nvPr/>
        </p:nvPicPr>
        <p:blipFill>
          <a:blip r:embed="rId3"/>
          <a:stretch/>
        </p:blipFill>
        <p:spPr>
          <a:xfrm>
            <a:off x="3851280" y="4869000"/>
            <a:ext cx="880920" cy="1157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4" descr="006"/>
          <p:cNvPicPr/>
          <p:nvPr/>
        </p:nvPicPr>
        <p:blipFill>
          <a:blip r:embed="rId2"/>
          <a:stretch/>
        </p:blipFill>
        <p:spPr>
          <a:xfrm>
            <a:off x="611280" y="189000"/>
            <a:ext cx="7632720" cy="629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Изображение 017"/>
          <p:cNvPicPr/>
          <p:nvPr/>
        </p:nvPicPr>
        <p:blipFill>
          <a:blip r:embed="rId1"/>
          <a:stretch/>
        </p:blipFill>
        <p:spPr>
          <a:xfrm>
            <a:off x="324000" y="311040"/>
            <a:ext cx="8556480" cy="621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Рисунок 1" descr=""/>
          <p:cNvPicPr/>
          <p:nvPr/>
        </p:nvPicPr>
        <p:blipFill>
          <a:blip r:embed="rId2"/>
          <a:stretch/>
        </p:blipFill>
        <p:spPr>
          <a:xfrm>
            <a:off x="1357200" y="395280"/>
            <a:ext cx="6429600" cy="6067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0" descr="3_11752_04052012171901_1"/>
          <p:cNvPicPr/>
          <p:nvPr/>
        </p:nvPicPr>
        <p:blipFill>
          <a:blip r:embed="rId2"/>
          <a:stretch/>
        </p:blipFill>
        <p:spPr>
          <a:xfrm>
            <a:off x="1825560" y="404640"/>
            <a:ext cx="476244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Прямоугольник 4"/>
          <p:cNvSpPr/>
          <p:nvPr/>
        </p:nvSpPr>
        <p:spPr>
          <a:xfrm>
            <a:off x="250920" y="189000"/>
            <a:ext cx="86421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і піраміди  Хеопса – квадрат зі стороною  230м, висота -  138 м. Знайти бічне ребро, апофему , площі поверхонь та о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м   самої  високої египетської піраміди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630" name="Picture 5" descr="13A"/>
          <p:cNvPicPr/>
          <p:nvPr/>
        </p:nvPicPr>
        <p:blipFill>
          <a:blip r:embed="rId2"/>
          <a:stretch/>
        </p:blipFill>
        <p:spPr>
          <a:xfrm>
            <a:off x="1908000" y="3573360"/>
            <a:ext cx="5040360" cy="3164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8"/>
          <p:cNvSpPr txBox="1"/>
          <p:nvPr/>
        </p:nvSpPr>
        <p:spPr>
          <a:xfrm>
            <a:off x="468360" y="620640"/>
            <a:ext cx="82836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000"/>
                <a:gd name="adj2" fmla="val 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е на світі боїться часу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WordArt 9"/>
          <p:cNvSpPr txBox="1"/>
          <p:nvPr/>
        </p:nvSpPr>
        <p:spPr>
          <a:xfrm>
            <a:off x="468360" y="3860640"/>
            <a:ext cx="77788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 час боїться пірамід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5" name="Picture 4" descr="piramid"/>
          <p:cNvPicPr/>
          <p:nvPr/>
        </p:nvPicPr>
        <p:blipFill>
          <a:blip r:embed="rId2"/>
          <a:stretch/>
        </p:blipFill>
        <p:spPr>
          <a:xfrm>
            <a:off x="2771640" y="234936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Прямоугольник 4"/>
          <p:cNvSpPr/>
          <p:nvPr/>
        </p:nvSpPr>
        <p:spPr>
          <a:xfrm>
            <a:off x="250920" y="189000"/>
            <a:ext cx="8642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аедр з ребром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йти площу повної поверхні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632" name="Группа 84"/>
          <p:cNvGrpSpPr/>
          <p:nvPr/>
        </p:nvGrpSpPr>
        <p:grpSpPr>
          <a:xfrm>
            <a:off x="2198520" y="2567520"/>
            <a:ext cx="3957480" cy="3447720"/>
            <a:chOff x="2198520" y="2567520"/>
            <a:chExt cx="3957480" cy="3447720"/>
          </a:xfrm>
        </p:grpSpPr>
        <p:sp>
          <p:nvSpPr>
            <p:cNvPr id="633" name="Полилиния 4"/>
            <p:cNvSpPr/>
            <p:nvPr/>
          </p:nvSpPr>
          <p:spPr>
            <a:xfrm rot="367800">
              <a:off x="2220120" y="5192640"/>
              <a:ext cx="3614400" cy="600120"/>
            </a:xfrm>
            <a:custGeom>
              <a:avLst/>
              <a:gdLst/>
              <a:ahLst/>
              <a:rect l="l" t="t" r="r" b="b"/>
              <a:pathLst>
                <a:path w="3048000" h="571500">
                  <a:moveTo>
                    <a:pt x="0" y="571500"/>
                  </a:moveTo>
                  <a:lnTo>
                    <a:pt x="795337" y="0"/>
                  </a:lnTo>
                  <a:lnTo>
                    <a:pt x="3048000" y="266700"/>
                  </a:lnTo>
                  <a:lnTo>
                    <a:pt x="0" y="571500"/>
                  </a:lnTo>
                  <a:close/>
                </a:path>
              </a:pathLst>
            </a:custGeom>
            <a:solidFill>
              <a:srgbClr val="4fadf3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4" name="Полилиния 75"/>
            <p:cNvSpPr/>
            <p:nvPr/>
          </p:nvSpPr>
          <p:spPr>
            <a:xfrm rot="367800">
              <a:off x="3340800" y="2808720"/>
              <a:ext cx="2675880" cy="2743200"/>
            </a:xfrm>
            <a:custGeom>
              <a:avLst/>
              <a:gdLst>
                <a:gd name="textAreaLeft" fmla="*/ 0 w 2675880"/>
                <a:gd name="textAreaRight" fmla="*/ 2676240 w 267588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257425" h="2609850">
                  <a:moveTo>
                    <a:pt x="342900" y="0"/>
                  </a:moveTo>
                  <a:lnTo>
                    <a:pt x="0" y="2352675"/>
                  </a:lnTo>
                  <a:lnTo>
                    <a:pt x="2257425" y="2609850"/>
                  </a:lnTo>
                  <a:lnTo>
                    <a:pt x="34290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5" name="Полилиния 6"/>
            <p:cNvSpPr/>
            <p:nvPr/>
          </p:nvSpPr>
          <p:spPr>
            <a:xfrm rot="367800">
              <a:off x="2394360" y="2635560"/>
              <a:ext cx="1337760" cy="3069000"/>
            </a:xfrm>
            <a:custGeom>
              <a:avLst/>
              <a:gdLst/>
              <a:ahLst/>
              <a:rect l="l" t="t" r="r" b="b"/>
              <a:pathLst>
                <a:path w="1128713" h="2919413">
                  <a:moveTo>
                    <a:pt x="1128713" y="0"/>
                  </a:moveTo>
                  <a:lnTo>
                    <a:pt x="785813" y="2357438"/>
                  </a:lnTo>
                  <a:lnTo>
                    <a:pt x="0" y="2919413"/>
                  </a:lnTo>
                  <a:lnTo>
                    <a:pt x="1128713" y="0"/>
                  </a:lnTo>
                  <a:close/>
                </a:path>
              </a:pathLst>
            </a:custGeom>
            <a:solidFill>
              <a:srgbClr val="424e8a"/>
            </a:solidFill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6" name="Полилиния 81"/>
            <p:cNvSpPr/>
            <p:nvPr/>
          </p:nvSpPr>
          <p:spPr>
            <a:xfrm rot="367800">
              <a:off x="2239920" y="5222520"/>
              <a:ext cx="3624480" cy="600480"/>
            </a:xfrm>
            <a:custGeom>
              <a:avLst/>
              <a:gdLst>
                <a:gd name="textAreaLeft" fmla="*/ 0 w 3624480"/>
                <a:gd name="textAreaRight" fmla="*/ 3624840 w 362448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057525" h="571500">
                  <a:moveTo>
                    <a:pt x="800100" y="0"/>
                  </a:moveTo>
                  <a:lnTo>
                    <a:pt x="3057525" y="261938"/>
                  </a:lnTo>
                  <a:lnTo>
                    <a:pt x="0" y="571500"/>
                  </a:lnTo>
                  <a:lnTo>
                    <a:pt x="800100" y="0"/>
                  </a:lnTo>
                  <a:close/>
                </a:path>
              </a:pathLst>
            </a:custGeom>
            <a:noFill/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7" name="Полилиния 82"/>
            <p:cNvSpPr/>
            <p:nvPr/>
          </p:nvSpPr>
          <p:spPr>
            <a:xfrm rot="367800">
              <a:off x="3335040" y="2803680"/>
              <a:ext cx="2681640" cy="2753280"/>
            </a:xfrm>
            <a:custGeom>
              <a:avLst/>
              <a:gdLst>
                <a:gd name="textAreaLeft" fmla="*/ 0 w 2681640"/>
                <a:gd name="textAreaRight" fmla="*/ 2682000 w 2681640"/>
                <a:gd name="textAreaTop" fmla="*/ 0 h 2753280"/>
                <a:gd name="textAreaBottom" fmla="*/ 2753640 h 2753280"/>
              </a:gdLst>
              <a:ahLst/>
              <a:rect l="textAreaLeft" t="textAreaTop" r="textAreaRight" b="textAreaBottom"/>
              <a:pathLst>
                <a:path w="2262187" h="2619375">
                  <a:moveTo>
                    <a:pt x="0" y="2352675"/>
                  </a:moveTo>
                  <a:lnTo>
                    <a:pt x="347662" y="0"/>
                  </a:lnTo>
                  <a:lnTo>
                    <a:pt x="2262187" y="2619375"/>
                  </a:lnTo>
                </a:path>
              </a:pathLst>
            </a:custGeom>
            <a:noFill/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8" name="Полилиния 83"/>
            <p:cNvSpPr/>
            <p:nvPr/>
          </p:nvSpPr>
          <p:spPr>
            <a:xfrm rot="367800">
              <a:off x="2378520" y="2630520"/>
              <a:ext cx="1349280" cy="307836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3078360"/>
                <a:gd name="textAreaBottom" fmla="*/ 3078720 h 3078360"/>
              </a:gdLst>
              <a:ahLst/>
              <a:rect l="textAreaLeft" t="textAreaTop" r="textAreaRight" b="textAreaBottom"/>
              <a:pathLst>
                <a:path w="1138237" h="2928937">
                  <a:moveTo>
                    <a:pt x="1138237" y="0"/>
                  </a:moveTo>
                  <a:lnTo>
                    <a:pt x="0" y="2928937"/>
                  </a:lnTo>
                  <a:lnTo>
                    <a:pt x="14287" y="2914650"/>
                  </a:lnTo>
                </a:path>
              </a:pathLst>
            </a:custGeom>
            <a:noFill/>
            <a:ln w="12600">
              <a:solidFill>
                <a:srgbClr val="4e67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1"/>
          <p:cNvSpPr/>
          <p:nvPr/>
        </p:nvSpPr>
        <p:spPr>
          <a:xfrm>
            <a:off x="468360" y="1455840"/>
            <a:ext cx="806436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17928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езультатом своєї особистої роботи вважаю, що я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Розібрався в теорії. В. Навчився вирішувати завдання. С. Повторив увесь раніше вивчений матеріал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Що вам бракувало на уроці при рішенні завдань?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Знань. Б. Часу . С. Бажання. Д. Вирішував нормально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.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то надавав вам допомогу в подоланні труднощів на уроці?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560" indent="17928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туденти. Б. Учитель. С. Підручник. Д. Ніхто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1"/>
          <p:cNvSpPr/>
          <p:nvPr/>
        </p:nvSpPr>
        <p:spPr>
          <a:xfrm>
            <a:off x="755640" y="2590920"/>
            <a:ext cx="7561440" cy="24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атематика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ідручник Математика: 11 кл : підруч.для загальноосвіт. навч закл : рівень стандарту / Г.П. Бевз, В.Г.Бевз. – 2-ге вид. – К. : Генеза, 2012. –320 с. : іл.. – Бібліогр. :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п29 стр 224 №937-938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і найдивніші споруди збудовані в районі  міста Мемфіса. Це гробниці фараонів - єгипетських царів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5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і дві єгипетські піраміди - це піраміда Хеопса, її висота 138 м ( вище від сорокаповерхового будинку! ), а периметр основи майже 1км і піраміда Хефрена ( сина Хеопса ), висота якої 143 м. Їх було споруджено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сячолітті до нашої ери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7" name="Picture 4" descr="45a"/>
          <p:cNvPicPr/>
          <p:nvPr/>
        </p:nvPicPr>
        <p:blipFill>
          <a:blip r:embed="rId2"/>
          <a:stretch/>
        </p:blipFill>
        <p:spPr>
          <a:xfrm>
            <a:off x="4932360" y="393372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13A"/>
          <p:cNvPicPr/>
          <p:nvPr/>
        </p:nvPicPr>
        <p:blipFill>
          <a:blip r:embed="rId3"/>
          <a:stretch/>
        </p:blipFill>
        <p:spPr>
          <a:xfrm>
            <a:off x="382680" y="3933720"/>
            <a:ext cx="4476600" cy="281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395280" y="122400"/>
            <a:ext cx="8064360" cy="59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ово «піраміда» - латинська форма грецького слова «пюрамис», так греки називали єгипетські піраміди, походить від давньоєгипетського слова «пурамі» (так називали піраміди єгиптяни). Єгипетські піраміди – перше з 7 чудес світу. Єгипетська гробниця Хеопса – найбільша з пірамід. Вона була побудована приблизно 6000 років тому фараоном Хеопсом. Підраховано, що піраміда складається з 23 000 000 обтесаних вапнякових каменів вагою 2,5 тонни кожен. Загальна вага піраміди 5 750 000 тонн. Висота піраміди приблизно 140 метрів. Що б обійти піраміду кругом, треба пройти цілий кілометр. Припускають, що піраміду будували 20 років 100 тисяч рабів, змінюються кожні три місяці. Підраховано, що з каменів гробниці Хеопса можна було побудувати сучасне місто з населенням в 120 тисяч чоловік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090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і пірамід дуже точно орієнтовані по сторонах світу. Висота піраміди Хеопса, яку будували 30 років становить 1/1000000000 частину відстані від Землі до Сонця. Якщо довжину обводу основи піраміди Хеопса поділити на її подвоєну висоту, то вийде 3,14159 – число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 великою точністю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Picture 4" descr="piramid"/>
          <p:cNvPicPr/>
          <p:nvPr/>
        </p:nvPicPr>
        <p:blipFill>
          <a:blip r:embed="rId2"/>
          <a:stretch/>
        </p:blipFill>
        <p:spPr>
          <a:xfrm>
            <a:off x="5796000" y="35733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9"/>
          <p:cNvPicPr/>
          <p:nvPr/>
        </p:nvPicPr>
        <p:blipFill>
          <a:blip r:embed="rId3"/>
          <a:stretch/>
        </p:blipFill>
        <p:spPr>
          <a:xfrm>
            <a:off x="324000" y="3316320"/>
            <a:ext cx="5256000" cy="336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5280" y="5373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Palatino Linotype"/>
              </a:rPr>
              <a:t>Піраміда Сонця Теотіукан</a:t>
            </a:r>
            <a:br>
              <a:rPr sz="3600"/>
            </a:br>
            <a:r>
              <a:rPr b="1" lang="uk-UA" sz="3600" spc="-1" strike="noStrike">
                <a:solidFill>
                  <a:srgbClr val="ffffff"/>
                </a:solidFill>
                <a:latin typeface="Palatino Linotype"/>
              </a:rPr>
              <a:t> (Південна Америка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Picture 4" descr="4"/>
          <p:cNvPicPr/>
          <p:nvPr/>
        </p:nvPicPr>
        <p:blipFill>
          <a:blip r:embed="rId2"/>
          <a:stretch/>
        </p:blipFill>
        <p:spPr>
          <a:xfrm>
            <a:off x="485640" y="260280"/>
            <a:ext cx="819000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6560" y="5445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Palatino Linotype"/>
              </a:rPr>
              <a:t>Піраміди Мерое ( Судан 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6" name="Picture 5" descr="top-5-piramid-so-vsego-mira_2"/>
          <p:cNvPicPr/>
          <p:nvPr/>
        </p:nvPicPr>
        <p:blipFill>
          <a:blip r:embed="rId2"/>
          <a:stretch/>
        </p:blipFill>
        <p:spPr>
          <a:xfrm>
            <a:off x="755640" y="455760"/>
            <a:ext cx="7416720" cy="4991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566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Palatino Linotype"/>
              </a:rPr>
              <a:t>Піраміда з півострова Юкатан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32000" y="1052640"/>
            <a:ext cx="648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9" name="Picture 5" descr="top-5-piramid-so-vsego-mira_5"/>
          <p:cNvPicPr/>
          <p:nvPr/>
        </p:nvPicPr>
        <p:blipFill>
          <a:blip r:embed="rId2"/>
          <a:stretch/>
        </p:blipFill>
        <p:spPr>
          <a:xfrm>
            <a:off x="395280" y="549360"/>
            <a:ext cx="84535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0:02:01Z</dcterms:created>
  <dc:creator>Лена</dc:creator>
  <dc:description/>
  <dc:language>en-US</dc:language>
  <cp:lastModifiedBy>Пользователь</cp:lastModifiedBy>
  <dcterms:modified xsi:type="dcterms:W3CDTF">2019-02-11T15:56:42Z</dcterms:modified>
  <cp:revision>82</cp:revision>
  <dc:subject/>
  <dc:title>Презентация PowerPoint</dc:title>
</cp:coreProperties>
</file>