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F39D9-4AF7-4742-887C-3B716478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5F3BD-DD6C-4BE4-A060-87589C5DF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F8F56-626D-462C-B796-3EBCB1AD4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EAF8F-A802-4FA2-920F-CD948C922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69E28-C9E9-47AB-A46B-278DF5053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A8ACD-079E-4844-8D85-EB381B61D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07751-382B-40F2-BFF5-B8223C55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EBEE9-2272-46E9-B461-D64ABDA74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50C-8C3C-45BF-9B5B-F171B2E2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DFC-CE81-4E69-8247-617630B7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FAC-9B82-4615-A6B4-90A15F6C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EC6-17FC-42A0-B9E6-B9A75235C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1C0-3EB8-4F27-8111-3393179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0FD-CF5B-4959-9C6B-15AF742D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18C-3A8D-4A35-9411-39252EA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B28-BFAC-4C37-A5CF-CDD924F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A75-A4E3-4B3C-8A71-43446AB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2A3-2644-4B07-89A0-B317163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D01-08DE-4FBE-A26F-EFE3100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EAC-8FEC-4445-8004-19F48E12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07D6FD-8CC9-4446-A58A-BE32D44D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hyperlink" Target="http://interactive.ranok.com.ua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-1440" y="0"/>
            <a:ext cx="1008216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10960" y="501480"/>
            <a:ext cx="924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ірка домашнього завданн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0" y="2068560"/>
            <a:ext cx="100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extBox 6" descr=""/>
          <p:cNvPicPr/>
          <p:nvPr/>
        </p:nvPicPr>
        <p:blipFill>
          <a:blip r:embed="rId2"/>
          <a:stretch/>
        </p:blipFill>
        <p:spPr>
          <a:xfrm>
            <a:off x="2951280" y="3840120"/>
            <a:ext cx="6345000" cy="31464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2" descr=""/>
          <p:cNvPicPr/>
          <p:nvPr/>
        </p:nvPicPr>
        <p:blipFill>
          <a:blip r:embed="rId3"/>
          <a:stretch/>
        </p:blipFill>
        <p:spPr>
          <a:xfrm>
            <a:off x="0" y="1468440"/>
            <a:ext cx="101808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-1440" y="0"/>
            <a:ext cx="1008216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10960" y="501480"/>
            <a:ext cx="924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ірка домашнього завданн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0" y="2068560"/>
            <a:ext cx="100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extBox 6" descr=""/>
          <p:cNvPicPr/>
          <p:nvPr/>
        </p:nvPicPr>
        <p:blipFill>
          <a:blip r:embed="rId2"/>
          <a:stretch/>
        </p:blipFill>
        <p:spPr>
          <a:xfrm>
            <a:off x="5810400" y="4383000"/>
            <a:ext cx="2919240" cy="15670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" descr=""/>
          <p:cNvPicPr/>
          <p:nvPr/>
        </p:nvPicPr>
        <p:blipFill>
          <a:blip r:embed="rId3"/>
          <a:stretch/>
        </p:blipFill>
        <p:spPr>
          <a:xfrm>
            <a:off x="0" y="1401840"/>
            <a:ext cx="10266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271520" y="1768320"/>
            <a:ext cx="7504200" cy="5007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65040" y="208080"/>
            <a:ext cx="913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'язування зада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325760" y="1325520"/>
            <a:ext cx="581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тить вираз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extBox 7" descr=""/>
          <p:cNvPicPr/>
          <p:nvPr/>
        </p:nvPicPr>
        <p:blipFill>
          <a:blip r:embed="rId3"/>
          <a:stretch/>
        </p:blipFill>
        <p:spPr>
          <a:xfrm>
            <a:off x="-2230560" y="2279520"/>
            <a:ext cx="1416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1271520" y="1768320"/>
            <a:ext cx="7504200" cy="50072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65040" y="208080"/>
            <a:ext cx="913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'язування зада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325760" y="1325520"/>
            <a:ext cx="581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тить вираз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Box 7" descr=""/>
          <p:cNvPicPr/>
          <p:nvPr/>
        </p:nvPicPr>
        <p:blipFill>
          <a:blip r:embed="rId3"/>
          <a:stretch/>
        </p:blipFill>
        <p:spPr>
          <a:xfrm>
            <a:off x="-317520" y="2987640"/>
            <a:ext cx="10107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Объект 3" descr=""/>
          <p:cNvPicPr/>
          <p:nvPr/>
        </p:nvPicPr>
        <p:blipFill>
          <a:blip r:embed="rId1"/>
          <a:stretch/>
        </p:blipFill>
        <p:spPr>
          <a:xfrm>
            <a:off x="1271520" y="1768320"/>
            <a:ext cx="7504200" cy="50072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65040" y="208080"/>
            <a:ext cx="913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'язування зада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99480" y="1446120"/>
            <a:ext cx="9074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бавтесь від ірраціональності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наменнику дроб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extBox 7" descr=""/>
          <p:cNvPicPr/>
          <p:nvPr/>
        </p:nvPicPr>
        <p:blipFill>
          <a:blip r:embed="rId3"/>
          <a:stretch/>
        </p:blipFill>
        <p:spPr>
          <a:xfrm>
            <a:off x="517680" y="3340080"/>
            <a:ext cx="86817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-4680" y="0"/>
            <a:ext cx="10078920" cy="774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664000" y="301680"/>
            <a:ext cx="62355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50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8000" spc="-1" strike="noStrike">
                <a:solidFill>
                  <a:srgbClr val="000000"/>
                </a:solidFill>
                <a:latin typeface="Times New Roman"/>
              </a:rPr>
              <a:t>Домашне завданн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1979640"/>
            <a:ext cx="994896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 marL="914400" indent="-914400" algn="just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дання №4 «Перевірт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бе» в тестовій формі, стор. 13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ток з історії розвитку ко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в, чи якісь цікаві факти, назв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тивості, свята пов’язані 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ими коренями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1079640" y="23400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114640" y="2870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503280" y="1768320"/>
                <a:ext cx="250920" cy="1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" name="Rectangle 3"/>
          <p:cNvSpPr/>
          <p:nvPr/>
        </p:nvSpPr>
        <p:spPr>
          <a:xfrm>
            <a:off x="-4680" y="0"/>
            <a:ext cx="10078920" cy="774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" y="411120"/>
            <a:ext cx="8332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7000" spc="-1" strike="noStrike">
                <a:solidFill>
                  <a:srgbClr val="000000"/>
                </a:solidFill>
                <a:latin typeface="Times New Roman"/>
              </a:rPr>
              <a:t>Перевірка набутих знан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ext Box 5" descr=""/>
          <p:cNvPicPr/>
          <p:nvPr/>
        </p:nvPicPr>
        <p:blipFill>
          <a:blip r:embed="rId2"/>
          <a:stretch/>
        </p:blipFill>
        <p:spPr>
          <a:xfrm>
            <a:off x="-291960" y="1639800"/>
            <a:ext cx="10459800" cy="56944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1871640" y="2657520"/>
            <a:ext cx="792180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5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nteractive.ranok.com.u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-44280" y="0"/>
            <a:ext cx="10125000" cy="7559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328320" y="6300720"/>
            <a:ext cx="93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якую за урок, усім приємного понеділ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4680" y="318960"/>
            <a:ext cx="1007892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88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-4680" y="0"/>
            <a:ext cx="10078920" cy="774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6000" spc="-1" strike="noStrike">
                <a:solidFill>
                  <a:srgbClr val="000000"/>
                </a:solidFill>
                <a:latin typeface="Times New Roman"/>
              </a:rPr>
              <a:t>Трансфігурація (перетворення)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6000" spc="-1" strike="noStrike">
                <a:solidFill>
                  <a:srgbClr val="000000"/>
                </a:solidFill>
                <a:latin typeface="Times New Roman"/>
              </a:rPr>
              <a:t>виразів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6000" spc="-1" strike="noStrike">
                <a:solidFill>
                  <a:srgbClr val="000000"/>
                </a:solidFill>
                <a:latin typeface="Times New Roman"/>
              </a:rPr>
              <a:t>які містять квадратні корен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Times New Roman"/>
              </a:rPr>
              <a:t>Урок</a:t>
            </a:r>
            <a:r>
              <a:rPr b="0" i="1" lang="uk-UA" sz="3000" spc="-1" strike="noStrike">
                <a:solidFill>
                  <a:srgbClr val="000000"/>
                </a:solidFill>
                <a:latin typeface="Times New Roman"/>
              </a:rPr>
              <a:t>-гра</a:t>
            </a:r>
            <a:r>
              <a:rPr b="0" i="1" lang="de-DE" sz="3000" spc="-1" strike="noStrike">
                <a:solidFill>
                  <a:srgbClr val="000000"/>
                </a:solidFill>
                <a:latin typeface="Times New Roman"/>
              </a:rPr>
              <a:t> узагальнення зна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de-DE" sz="3000" spc="-1" strike="noStrike">
                <a:solidFill>
                  <a:srgbClr val="000000"/>
                </a:solidFill>
                <a:latin typeface="Times New Roman"/>
              </a:rPr>
              <a:t>чителя ОНВК № 5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3000" spc="-1" strike="noStrike">
                <a:solidFill>
                  <a:srgbClr val="000000"/>
                </a:solidFill>
                <a:latin typeface="Times New Roman"/>
              </a:rPr>
              <a:t>Кищенко Л. 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-1440" y="0"/>
            <a:ext cx="1008216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10960" y="501480"/>
            <a:ext cx="924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ірка домашнього завданн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extBox 5" descr=""/>
          <p:cNvPicPr/>
          <p:nvPr/>
        </p:nvPicPr>
        <p:blipFill>
          <a:blip r:embed="rId2"/>
          <a:stretch/>
        </p:blipFill>
        <p:spPr>
          <a:xfrm>
            <a:off x="0" y="2066760"/>
            <a:ext cx="10082160" cy="174312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6" descr=""/>
          <p:cNvPicPr/>
          <p:nvPr/>
        </p:nvPicPr>
        <p:blipFill>
          <a:blip r:embed="rId3"/>
          <a:stretch/>
        </p:blipFill>
        <p:spPr>
          <a:xfrm>
            <a:off x="1279440" y="4065480"/>
            <a:ext cx="76392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-1440" y="0"/>
            <a:ext cx="1008216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210960" y="501480"/>
            <a:ext cx="924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ірка домашнього завданн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0" y="2068560"/>
            <a:ext cx="100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6" descr=""/>
          <p:cNvPicPr/>
          <p:nvPr/>
        </p:nvPicPr>
        <p:blipFill>
          <a:blip r:embed="rId2"/>
          <a:stretch/>
        </p:blipFill>
        <p:spPr>
          <a:xfrm>
            <a:off x="5321160" y="4602240"/>
            <a:ext cx="4565880" cy="28890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2" descr=""/>
          <p:cNvPicPr/>
          <p:nvPr/>
        </p:nvPicPr>
        <p:blipFill>
          <a:blip r:embed="rId3"/>
          <a:stretch/>
        </p:blipFill>
        <p:spPr>
          <a:xfrm>
            <a:off x="189000" y="1573200"/>
            <a:ext cx="78645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-1440" y="0"/>
            <a:ext cx="1008216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10960" y="501480"/>
            <a:ext cx="924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ірка домашнього завданн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0" y="2068560"/>
            <a:ext cx="100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extBox 6" descr=""/>
          <p:cNvPicPr/>
          <p:nvPr/>
        </p:nvPicPr>
        <p:blipFill>
          <a:blip r:embed="rId2"/>
          <a:stretch/>
        </p:blipFill>
        <p:spPr>
          <a:xfrm>
            <a:off x="4608360" y="3780000"/>
            <a:ext cx="2378160" cy="373032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2" descr=""/>
          <p:cNvPicPr/>
          <p:nvPr/>
        </p:nvPicPr>
        <p:blipFill>
          <a:blip r:embed="rId3"/>
          <a:stretch/>
        </p:blipFill>
        <p:spPr>
          <a:xfrm>
            <a:off x="-433440" y="1560600"/>
            <a:ext cx="1078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-1440" y="0"/>
            <a:ext cx="1008216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10960" y="501480"/>
            <a:ext cx="924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ірка домашнього завданн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0" y="2068560"/>
            <a:ext cx="100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6" descr=""/>
          <p:cNvPicPr/>
          <p:nvPr/>
        </p:nvPicPr>
        <p:blipFill>
          <a:blip r:embed="rId2"/>
          <a:stretch/>
        </p:blipFill>
        <p:spPr>
          <a:xfrm>
            <a:off x="3243240" y="5029200"/>
            <a:ext cx="5450040" cy="164628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2" descr=""/>
          <p:cNvPicPr/>
          <p:nvPr/>
        </p:nvPicPr>
        <p:blipFill>
          <a:blip r:embed="rId3"/>
          <a:stretch/>
        </p:blipFill>
        <p:spPr>
          <a:xfrm>
            <a:off x="609480" y="1609560"/>
            <a:ext cx="8863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>ПК7</cp:lastModifiedBy>
  <dcterms:modified xsi:type="dcterms:W3CDTF">2019-02-09T09:12:50Z</dcterms:modified>
  <cp:revision>19</cp:revision>
  <dc:subject/>
  <dc:title>Презентация PowerPoint</dc:title>
</cp:coreProperties>
</file>