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7.png" ContentType="image/png"/>
  <Override PartName="/ppt/media/image36.png" ContentType="image/png"/>
  <Override PartName="/ppt/media/image60.png" ContentType="image/png"/>
  <Override PartName="/ppt/media/image40.png" ContentType="image/png"/>
  <Override PartName="/ppt/media/image4.jpeg" ContentType="image/jpeg"/>
  <Override PartName="/ppt/media/image2.jpeg" ContentType="image/jpeg"/>
  <Override PartName="/ppt/media/image57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4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19.jpeg" ContentType="image/jpeg"/>
  <Override PartName="/ppt/media/image15.jpeg" ContentType="image/jpeg"/>
  <Override PartName="/ppt/media/image59.png" ContentType="image/png"/>
  <Override PartName="/ppt/media/image24.jpeg" ContentType="image/jpeg"/>
  <Override PartName="/ppt/media/image22.png" ContentType="image/png"/>
  <Override PartName="/ppt/media/image26.jpeg" ContentType="image/jpeg"/>
  <Override PartName="/ppt/media/image21.jpeg" ContentType="image/jpeg"/>
  <Override PartName="/ppt/media/image29.png" ContentType="image/png"/>
  <Override PartName="/ppt/media/image16.png" ContentType="image/png"/>
  <Override PartName="/ppt/media/image49.jpeg" ContentType="image/jpeg"/>
  <Override PartName="/ppt/media/image17.jpeg" ContentType="image/jpeg"/>
  <Override PartName="/ppt/media/image12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9.png" ContentType="image/png"/>
  <Override PartName="/ppt/media/image38.jpeg" ContentType="image/jpeg"/>
  <Override PartName="/ppt/media/image28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11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png" ContentType="image/png"/>
  <Override PartName="/ppt/media/image35.jpeg" ContentType="image/jpeg"/>
  <Override PartName="/ppt/media/image47.png" ContentType="image/png"/>
  <Override PartName="/ppt/media/image41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8.jpeg" ContentType="image/jpeg"/>
  <Override PartName="/ppt/media/image51.jpeg" ContentType="image/jpeg"/>
  <Override PartName="/ppt/media/image1.png" ContentType="image/png"/>
  <Override PartName="/ppt/media/image52.jpeg" ContentType="image/jpeg"/>
  <Override PartName="/ppt/media/image54.jpeg" ContentType="image/jpeg"/>
  <Override PartName="/ppt/media/image53.png" ContentType="image/png"/>
  <Override PartName="/ppt/media/image56.jpeg" ContentType="image/jpeg"/>
  <Override PartName="/ppt/media/image58.png" ContentType="image/png"/>
  <Override PartName="/ppt/media/image4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DC0-F1B7-4AE6-98EA-CD5A3FCB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515-E87D-4F61-95E6-A0B805EB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419-5E3B-4BDD-AF6B-F99BEAB9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D27-A2C2-4A98-BA7B-70C4A093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E29D-5613-4980-8BBF-F12775C3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D18F-36D6-402E-80EC-A404F5BB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8F36-9952-42CD-9DFC-6A1618A9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9DBC-F21B-4A7A-9CF9-C58F4F94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EB99-4033-45E2-9C0C-681A9060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2324-472F-4550-9C17-1E6FBB98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B523-1653-4150-BD83-A886327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E98-6369-4F43-96DC-C5F4F148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A44B-0802-473A-B656-6494CDAE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CF78-04AE-409E-95BA-0086930F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D078-10C3-4907-9174-8CDA6CDB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6A95-C88F-4935-B240-03D168D0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8CA4-1ABC-4357-8D14-61B67023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5BA9-CA7F-45DA-A485-E480B6F8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412D-F175-4E6B-99CA-CCFFE782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B9AF-16AD-4196-A632-76F313FC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E6348-7F71-4CF0-9771-5AF343C8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2589B-92AB-4AD8-8A2F-D0BC803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A27-A5D5-4AEC-981A-0AB8531B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FA03-DB7B-41DC-A96B-A65F9012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D327D-E9F5-4FB5-83EE-D74899A9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5999-70CC-4059-BE66-44E393B9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2ABC-7116-4B2E-8092-11B384F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AF6F-6627-4557-813F-DFD33798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0A6E-5B06-437C-B240-D000C472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FCE71-15D9-4437-A7A5-7C2265A6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CF84-A472-4F0E-959A-53EEA9DC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99C08-906F-4742-A887-C173CF49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C403-F2EC-401D-BB4A-A05D64F0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8F3-C45A-4C09-96CB-401E7FF6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CFA08-D3C7-430D-8A29-3EA03A45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9F546-0512-4BCF-9AE6-AC09A3B6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7EE89-FE16-4CCE-B39A-C782BDD6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8422-3404-4F19-A162-4C1D81C3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0356-2456-441D-AF6E-9BECFDFB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9DFD-4052-4F77-B7DB-3E9DBED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2581-3456-47FD-ACF7-30DD6F3E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6281-43B0-4FEF-BA51-A3F73CC8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CADA1-4FEA-45DE-AA97-51589BF8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E23A1-3A05-4697-9030-422C8722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F7F-ECDB-4F41-8A42-65303E50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BAB86-AC7B-416F-9297-03D89E08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9812D-AD6C-4054-8D67-83CEEB4D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4286A-CCAE-4AED-A5FD-3034B861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ACE5C-F9D7-4336-B98C-9EF77C4A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F0F68-ABE4-478E-9B83-99E8BAA2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541D-A435-4F28-A0C4-F82F1DA4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F43C8-D179-4367-B2B6-8E25ED06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EF4FE-0206-4D32-9D74-DE82A784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953A8-B8F9-4B0F-8B8B-1BD5F96B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D6874-14B8-43CB-A6E9-C550BD53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3E0-7852-4566-ABA8-A6E7D9F7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001EB-1DCF-4ED8-B368-0A6DE347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D4EB9-50D1-412C-96B7-3AA656F4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9D9F8-D60B-4873-AA5E-C0D78EE4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F6128-DF24-4FFB-8DDC-515611CB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9C1B9-0810-4915-8698-844DDBF8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F35C-9A19-492B-BF37-DB1181B6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2625A-075E-415B-A091-59DD04E2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B5C57-8FBC-4D72-877F-781E1A71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FEED8-1F1E-4535-A726-A966487B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9E922-926D-48E4-84A0-886EA68B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EDD-D5C5-4D5D-8336-6CD832E5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2D146-76F9-4289-BA8E-89A02CFB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C5D9D-1A9C-4831-95BC-8FA26855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1E7AB-4611-49DC-94DC-F0E00A63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D5A27-FAD1-403F-B31A-7455787C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23956-3E82-4F7D-B3DD-6A7CE9CD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EB377-EF57-4C19-A475-42A06D81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0A005-E603-4301-A6D0-825FD735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15C49-FABE-4710-9743-20D75BF5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B0F9B-3BF3-4557-9494-CAC8A3FE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010C9-37E5-47EB-8203-4F42D391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331-A437-4CB5-885C-F02BA33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F8718-A8D5-41C2-8CE1-EAC4371E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EB7EC-15C6-4098-8510-FF40EA41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69796-5712-4D59-B38F-F06F9DF3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FABA9-DCB8-4BFE-9307-32763853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36283-A78F-4CD4-8521-DB90EA4F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F6E-C991-4114-B7D2-2D67154C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CF68-1ABE-4464-A750-C144FC0152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84BF-9608-4EDD-B8A8-CD95C6FD092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3CD7-8A16-4573-BD71-6AEFF21DE0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DD3C-9B27-4A75-8567-F0733EB289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107D-7596-429F-BECA-C77538E6BB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75F1-32AC-43D0-A5AB-FDD97C0AD3B6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5C9A-FCA3-4357-9757-B1FB01E323A2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034480" cy="914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thumb_Immovable Object, Irresistible Force"/>
          <p:cNvPicPr/>
          <p:nvPr/>
        </p:nvPicPr>
        <p:blipFill>
          <a:blip r:embed="rId2"/>
          <a:stretch/>
        </p:blipFill>
        <p:spPr>
          <a:xfrm>
            <a:off x="685800" y="838080"/>
            <a:ext cx="4143240" cy="3094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Maldives"/>
          <p:cNvPicPr/>
          <p:nvPr/>
        </p:nvPicPr>
        <p:blipFill>
          <a:blip r:embed="rId3"/>
          <a:stretch/>
        </p:blipFill>
        <p:spPr>
          <a:xfrm>
            <a:off x="4952880" y="1219320"/>
            <a:ext cx="3962520" cy="3124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Хвилі"/>
          <p:cNvPicPr/>
          <p:nvPr/>
        </p:nvPicPr>
        <p:blipFill>
          <a:blip r:embed="rId4"/>
          <a:stretch/>
        </p:blipFill>
        <p:spPr>
          <a:xfrm>
            <a:off x="609480" y="380988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5" descr="po2"/>
          <p:cNvPicPr/>
          <p:nvPr/>
        </p:nvPicPr>
        <p:blipFill>
          <a:blip r:embed="rId5"/>
          <a:stretch/>
        </p:blipFill>
        <p:spPr>
          <a:xfrm>
            <a:off x="4648320" y="3780000"/>
            <a:ext cx="38862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Ао кити"/>
          <p:cNvPicPr/>
          <p:nvPr/>
        </p:nvPicPr>
        <p:blipFill>
          <a:blip r:embed="rId2"/>
          <a:stretch/>
        </p:blipFill>
        <p:spPr>
          <a:xfrm>
            <a:off x="457200" y="1841400"/>
            <a:ext cx="8229600" cy="47880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6"/>
          <p:cNvSpPr/>
          <p:nvPr/>
        </p:nvSpPr>
        <p:spPr>
          <a:xfrm>
            <a:off x="152280" y="10666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Велика кількість планктону приваблює найбільших тварин на Землі - киті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3352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2d2d2"/>
                </a:solidFill>
                <a:latin typeface="Arial"/>
              </a:rPr>
              <a:t>Органічний світ океан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podvodniy041"/>
          <p:cNvPicPr/>
          <p:nvPr/>
        </p:nvPicPr>
        <p:blipFill>
          <a:blip r:embed="rId2"/>
          <a:stretch/>
        </p:blipFill>
        <p:spPr>
          <a:xfrm>
            <a:off x="838080" y="1447920"/>
            <a:ext cx="75438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podvodniy038"/>
          <p:cNvPicPr/>
          <p:nvPr/>
        </p:nvPicPr>
        <p:blipFill>
          <a:blip r:embed="rId2"/>
          <a:stretch/>
        </p:blipFill>
        <p:spPr>
          <a:xfrm>
            <a:off x="457200" y="1184400"/>
            <a:ext cx="82342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474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podvodniy043"/>
          <p:cNvPicPr/>
          <p:nvPr/>
        </p:nvPicPr>
        <p:blipFill>
          <a:blip r:embed="rId2"/>
          <a:stretch/>
        </p:blipFill>
        <p:spPr>
          <a:xfrm>
            <a:off x="533520" y="1447920"/>
            <a:ext cx="80769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530280" y="19080"/>
            <a:ext cx="8242200" cy="871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SSHsharmelsheikh"/>
          <p:cNvPicPr/>
          <p:nvPr/>
        </p:nvPicPr>
        <p:blipFill>
          <a:blip r:embed="rId2"/>
          <a:stretch/>
        </p:blipFill>
        <p:spPr>
          <a:xfrm>
            <a:off x="228600" y="1066680"/>
            <a:ext cx="4800600" cy="4778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publication_1594_0177"/>
          <p:cNvPicPr/>
          <p:nvPr/>
        </p:nvPicPr>
        <p:blipFill>
          <a:blip r:embed="rId3"/>
          <a:stretch/>
        </p:blipFill>
        <p:spPr>
          <a:xfrm>
            <a:off x="4495680" y="1752480"/>
            <a:ext cx="44960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8" descr="129"/>
          <p:cNvPicPr/>
          <p:nvPr/>
        </p:nvPicPr>
        <p:blipFill>
          <a:blip r:embed="rId1"/>
          <a:stretch/>
        </p:blipFill>
        <p:spPr>
          <a:xfrm>
            <a:off x="380880" y="4830840"/>
            <a:ext cx="3733920" cy="202716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2" descr=""/>
          <p:cNvPicPr/>
          <p:nvPr/>
        </p:nvPicPr>
        <p:blipFill>
          <a:blip r:embed="rId2"/>
          <a:stretch/>
        </p:blipFill>
        <p:spPr>
          <a:xfrm>
            <a:off x="450720" y="133200"/>
            <a:ext cx="8242560" cy="866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podvodniy009"/>
          <p:cNvPicPr/>
          <p:nvPr/>
        </p:nvPicPr>
        <p:blipFill>
          <a:blip r:embed="rId3"/>
          <a:stretch/>
        </p:blipFill>
        <p:spPr>
          <a:xfrm>
            <a:off x="609480" y="2057400"/>
            <a:ext cx="4092840" cy="27208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6"/>
          <p:cNvSpPr/>
          <p:nvPr/>
        </p:nvSpPr>
        <p:spPr>
          <a:xfrm>
            <a:off x="446760" y="1143000"/>
            <a:ext cx="736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Корали бурхливо розростаються та утворюють справжнє див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Тут знаходять притулок молюски, різнобарвні водорості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різноманітні риб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7" descr="permitreef-www_noaa_gov"/>
          <p:cNvPicPr/>
          <p:nvPr/>
        </p:nvPicPr>
        <p:blipFill>
          <a:blip r:embed="rId4"/>
          <a:stretch/>
        </p:blipFill>
        <p:spPr>
          <a:xfrm>
            <a:off x="4435560" y="3505320"/>
            <a:ext cx="4708440" cy="3352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podvodniy046"/>
          <p:cNvPicPr/>
          <p:nvPr/>
        </p:nvPicPr>
        <p:blipFill>
          <a:blip r:embed="rId5"/>
          <a:stretch/>
        </p:blipFill>
        <p:spPr>
          <a:xfrm>
            <a:off x="4876920" y="1752480"/>
            <a:ext cx="365760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12120" cy="9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Малд"/>
          <p:cNvPicPr/>
          <p:nvPr/>
        </p:nvPicPr>
        <p:blipFill>
          <a:blip r:embed="rId2"/>
          <a:stretch/>
        </p:blipFill>
        <p:spPr>
          <a:xfrm>
            <a:off x="4648320" y="3809880"/>
            <a:ext cx="4228920" cy="285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podvodniy016"/>
          <p:cNvPicPr/>
          <p:nvPr/>
        </p:nvPicPr>
        <p:blipFill>
          <a:blip r:embed="rId3"/>
          <a:stretch/>
        </p:blipFill>
        <p:spPr>
          <a:xfrm>
            <a:off x="152280" y="914400"/>
            <a:ext cx="48006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378000" y="-146160"/>
            <a:ext cx="8242200" cy="762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pe-sol-thumb"/>
          <p:cNvPicPr/>
          <p:nvPr/>
        </p:nvPicPr>
        <p:blipFill>
          <a:blip r:embed="rId2"/>
          <a:stretch/>
        </p:blipFill>
        <p:spPr>
          <a:xfrm>
            <a:off x="4800600" y="1752480"/>
            <a:ext cx="3505320" cy="2252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fm-canoes-thumb"/>
          <p:cNvPicPr/>
          <p:nvPr/>
        </p:nvPicPr>
        <p:blipFill>
          <a:blip r:embed="rId3"/>
          <a:stretch/>
        </p:blipFill>
        <p:spPr>
          <a:xfrm>
            <a:off x="380880" y="167652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vu-dancers-thumb"/>
          <p:cNvPicPr/>
          <p:nvPr/>
        </p:nvPicPr>
        <p:blipFill>
          <a:blip r:embed="rId4"/>
          <a:stretch/>
        </p:blipFill>
        <p:spPr>
          <a:xfrm>
            <a:off x="380880" y="4267080"/>
            <a:ext cx="3657600" cy="2449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Pasific-foto"/>
          <p:cNvPicPr/>
          <p:nvPr/>
        </p:nvPicPr>
        <p:blipFill>
          <a:blip r:embed="rId5"/>
          <a:stretch/>
        </p:blipFill>
        <p:spPr>
          <a:xfrm>
            <a:off x="4572000" y="419112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8"/>
          <p:cNvSpPr/>
          <p:nvPr/>
        </p:nvSpPr>
        <p:spPr>
          <a:xfrm>
            <a:off x="480600" y="685800"/>
            <a:ext cx="789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стровах проживає близько 10 млн. осіб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інні мешканці належать до австралійської гілки негроїдної раси т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особливої полінезійської груп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8" descr="482334-001"/>
          <p:cNvPicPr/>
          <p:nvPr/>
        </p:nvPicPr>
        <p:blipFill>
          <a:blip r:embed="rId1"/>
          <a:stretch/>
        </p:blipFill>
        <p:spPr>
          <a:xfrm>
            <a:off x="4324320" y="2590920"/>
            <a:ext cx="4476960" cy="2981160"/>
          </a:xfrm>
          <a:prstGeom prst="rect">
            <a:avLst/>
          </a:prstGeom>
          <a:ln w="0">
            <a:noFill/>
          </a:ln>
        </p:spPr>
      </p:pic>
      <p:pic>
        <p:nvPicPr>
          <p:cNvPr id="368" name="Rectangle 2" descr=""/>
          <p:cNvPicPr/>
          <p:nvPr/>
        </p:nvPicPr>
        <p:blipFill>
          <a:blip r:embed="rId2"/>
          <a:stretch/>
        </p:blipFill>
        <p:spPr>
          <a:xfrm>
            <a:off x="450720" y="6480"/>
            <a:ext cx="8242560" cy="7617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www_animaljpg_ru-50"/>
          <p:cNvPicPr/>
          <p:nvPr/>
        </p:nvPicPr>
        <p:blipFill>
          <a:blip r:embed="rId3"/>
          <a:stretch/>
        </p:blipFill>
        <p:spPr>
          <a:xfrm>
            <a:off x="433440" y="3592440"/>
            <a:ext cx="4214880" cy="2960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9"/>
          <p:cNvSpPr/>
          <p:nvPr/>
        </p:nvSpPr>
        <p:spPr>
          <a:xfrm>
            <a:off x="569160" y="990720"/>
            <a:ext cx="795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кеані мешкає понад 2000 видів ри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е з Тихого океану людство отримує понад половину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ітового вилову риби: минтаю, оселедця, скумбрії, лосося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йри та і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3" name="Picture 4" descr="podvodniy031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378000" y="-6480"/>
            <a:ext cx="7858080" cy="2225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228600" y="38088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хий океан найбільший за площею: </a:t>
            </a:r>
            <a:r>
              <a:rPr b="0" lang="en-US" sz="2400" spc="-1" strike="noStrike">
                <a:solidFill>
                  <a:srgbClr val="d2d2d2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d2d2d2"/>
                </a:solidFill>
                <a:latin typeface="Times New Roman"/>
                <a:ea typeface="Times New Roman"/>
              </a:rPr>
              <a:t> – 178,7 млн. км</a:t>
            </a:r>
            <a:r>
              <a:rPr b="0" lang="uk-UA" sz="2400" spc="-1" strike="noStrike" baseline="30000">
                <a:solidFill>
                  <a:srgbClr val="d2d2d2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2d2d2"/>
                </a:solidFill>
                <a:latin typeface="Times New Roman"/>
                <a:ea typeface="Times New Roman"/>
              </a:rPr>
              <a:t>Води океану омивають береги всіх континентів Землі, крім Афри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2d2d2"/>
                </a:solidFill>
                <a:latin typeface="Times New Roman"/>
                <a:ea typeface="Times New Roman"/>
              </a:rPr>
              <a:t>В океані нараховують 25 морів. Найбільші: Філіпінське, Коралове, Південнокитайське, Тасманове, Фіджи, Берінгове, Охотськ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738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Військові полігони для випробовування атомної зброї на окремих атолах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6" name="Picture 4" descr="Аоядерні в"/>
          <p:cNvPicPr/>
          <p:nvPr/>
        </p:nvPicPr>
        <p:blipFill>
          <a:blip r:embed="rId2"/>
          <a:stretch/>
        </p:blipFill>
        <p:spPr>
          <a:xfrm>
            <a:off x="228600" y="1600200"/>
            <a:ext cx="8229600" cy="245412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533520" y="4495680"/>
            <a:ext cx="304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абруднення вод океану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Виснаження   біологічних ресурсі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8" name="Picture 6" descr="Океанія люди"/>
          <p:cNvPicPr/>
          <p:nvPr/>
        </p:nvPicPr>
        <p:blipFill>
          <a:blip r:embed="rId3"/>
          <a:stretch/>
        </p:blipFill>
        <p:spPr>
          <a:xfrm>
            <a:off x="3657600" y="4165560"/>
            <a:ext cx="48006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69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378000" y="-182520"/>
            <a:ext cx="8242200" cy="731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Рис"/>
          <p:cNvPicPr/>
          <p:nvPr/>
        </p:nvPicPr>
        <p:blipFill>
          <a:blip r:embed="rId2"/>
          <a:stretch/>
        </p:blipFill>
        <p:spPr>
          <a:xfrm>
            <a:off x="2057400" y="3233880"/>
            <a:ext cx="4952880" cy="34146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304920" y="2255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243720" y="533520"/>
            <a:ext cx="9029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ьєф дна океану дуже складний. Для східної частини типов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чезні улоговини з рівним чи горбистим рельєфом, серединно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еанічний хребет. Для західної частини характерне поєднанн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водних хребтів, глибоководних жолобів, окремих гір, численни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рові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більша глибина Тихого океану (і всього Світового океану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 022 м в Маріанському жолобі, середня – 3976 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530280" y="-139680"/>
            <a:ext cx="8242200" cy="858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еан лежить в усіх кліматичних поясах, крім арктичного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лімат Тихого океану і прилеглих територій великий вплив мають пасати і західні вітр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ітку з океану на сушу дмуть змінні вітри - мусони, що мають вплив на клімат південн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ідних берегів Євразії. Максимальна кількість опадів на території океану випадає в західній частині екваторіального поясу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3000 мм, а мінімальна - в східній - близько 100 мм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Picture 9" descr="Баренцеве море"/>
          <p:cNvPicPr/>
          <p:nvPr/>
        </p:nvPicPr>
        <p:blipFill>
          <a:blip r:embed="rId2"/>
          <a:stretch/>
        </p:blipFill>
        <p:spPr>
          <a:xfrm>
            <a:off x="5181480" y="3699000"/>
            <a:ext cx="3505320" cy="2700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1337128_eeb4187c"/>
          <p:cNvPicPr/>
          <p:nvPr/>
        </p:nvPicPr>
        <p:blipFill>
          <a:blip r:embed="rId3"/>
          <a:stretch/>
        </p:blipFill>
        <p:spPr>
          <a:xfrm>
            <a:off x="380880" y="3726000"/>
            <a:ext cx="3733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450720" y="-122400"/>
            <a:ext cx="8242560" cy="787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kusto1"/>
          <p:cNvPicPr/>
          <p:nvPr/>
        </p:nvPicPr>
        <p:blipFill>
          <a:blip r:embed="rId2"/>
          <a:stretch/>
        </p:blipFill>
        <p:spPr>
          <a:xfrm>
            <a:off x="228600" y="3124080"/>
            <a:ext cx="3000240" cy="3276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vlcsnap-75520"/>
          <p:cNvPicPr/>
          <p:nvPr/>
        </p:nvPicPr>
        <p:blipFill>
          <a:blip r:embed="rId3"/>
          <a:stretch/>
        </p:blipFill>
        <p:spPr>
          <a:xfrm>
            <a:off x="4724280" y="3276720"/>
            <a:ext cx="4267440" cy="24127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8"/>
          <p:cNvSpPr/>
          <p:nvPr/>
        </p:nvSpPr>
        <p:spPr>
          <a:xfrm>
            <a:off x="1385640" y="5867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Жак-Ів Куст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0" name="Picture 10" descr="default"/>
          <p:cNvPicPr/>
          <p:nvPr/>
        </p:nvPicPr>
        <p:blipFill>
          <a:blip r:embed="rId4"/>
          <a:stretch/>
        </p:blipFill>
        <p:spPr>
          <a:xfrm>
            <a:off x="3048120" y="4724280"/>
            <a:ext cx="2590560" cy="19814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2"/>
          <p:cNvSpPr/>
          <p:nvPr/>
        </p:nvSpPr>
        <p:spPr>
          <a:xfrm>
            <a:off x="0" y="619920"/>
            <a:ext cx="876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другої половини XX ст. міжнародні дослідження Тихого океану стають масштабнішими. Спостереження в різних частинах океану ведуть 70 науково-дослідних суден з різних країн світу. В 1964 р. розпочалася Міжнародна програма глибоководного буріння дна Світового океану. Результати досліджень дали змогу розширити знання про будову дна, розвиток морських організмів і переміщення водних мас. У 60-х роках досліджувалися якість води і чинники, що впливають на неї, а також біологічні ресурси, засоби господарського використання ресурсів моря, океанічне д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325400" y="62485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Батискаф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380880" y="160020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втн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60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ка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з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йтенант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йськов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ьког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от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он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олт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"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ієсті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устилис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іанськог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лоб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глибшом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сці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ітовог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еан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н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явил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снуванн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водної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чії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и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стот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4" descr="Bathyscaphe_Trieste"/>
          <p:cNvPicPr/>
          <p:nvPr/>
        </p:nvPicPr>
        <p:blipFill>
          <a:blip r:embed="rId2"/>
          <a:stretch/>
        </p:blipFill>
        <p:spPr>
          <a:xfrm>
            <a:off x="3733920" y="1922400"/>
            <a:ext cx="51210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5048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0456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ні діє кілька міжнародних океанографічних організацій, які об'єднують зусилля вчених різних країн світу, координують їхню роботу з дослідження Світового океану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 — Міжнародна океанографічна комісія, Міжнародна рада з вивчення морів та інші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сучасному етапі розвитку суспільства проблема вивчення Тихого океану — одна з найважливіших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4" descr="geo_korabel_new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Seishelles"/>
          <p:cNvPicPr/>
          <p:nvPr/>
        </p:nvPicPr>
        <p:blipFill>
          <a:blip r:embed="rId1"/>
          <a:stretch/>
        </p:blipFill>
        <p:spPr>
          <a:xfrm>
            <a:off x="838080" y="2971800"/>
            <a:ext cx="5753160" cy="3733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afl0007"/>
          <p:cNvPicPr/>
          <p:nvPr/>
        </p:nvPicPr>
        <p:blipFill>
          <a:blip r:embed="rId2"/>
          <a:stretch/>
        </p:blipFill>
        <p:spPr>
          <a:xfrm>
            <a:off x="457200" y="4356000"/>
            <a:ext cx="3753000" cy="250200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" descr=""/>
          <p:cNvPicPr/>
          <p:nvPr/>
        </p:nvPicPr>
        <p:blipFill>
          <a:blip r:embed="rId3"/>
          <a:stretch/>
        </p:blipFill>
        <p:spPr>
          <a:xfrm>
            <a:off x="378000" y="-128520"/>
            <a:ext cx="8242200" cy="9205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7617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ора і фауна Тихого океану неймовірно багата і різноманітна. За кількістю видів Тихий океан перевершує інші океани. Тварини і бактерії населяють всю товщу вод і дно океану. Найрясніше розвивається життя в зоні шельфу і особливо біля самих берегів на малих глибинах, де всіляко представлені флора бурих водоростей і багата фауна молюсків, черв'яків, ракоподібних, голкошкірих і ін. організмів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3" name="Picture 5" descr="водов"/>
          <p:cNvPicPr/>
          <p:nvPr/>
        </p:nvPicPr>
        <p:blipFill>
          <a:blip r:embed="rId4"/>
          <a:stretch/>
        </p:blipFill>
        <p:spPr>
          <a:xfrm>
            <a:off x="5951520" y="3276720"/>
            <a:ext cx="3192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podvodniy007"/>
          <p:cNvPicPr/>
          <p:nvPr/>
        </p:nvPicPr>
        <p:blipFill>
          <a:blip r:embed="rId1"/>
          <a:stretch/>
        </p:blipFill>
        <p:spPr>
          <a:xfrm>
            <a:off x="3825720" y="1447920"/>
            <a:ext cx="5100840" cy="5257800"/>
          </a:xfrm>
          <a:prstGeom prst="rect">
            <a:avLst/>
          </a:prstGeom>
          <a:ln w="0">
            <a:noFill/>
          </a:ln>
        </p:spPr>
      </p:pic>
      <p:pic>
        <p:nvPicPr>
          <p:cNvPr id="335" name="Rectangle 7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242560" cy="787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shark1"/>
          <p:cNvPicPr/>
          <p:nvPr/>
        </p:nvPicPr>
        <p:blipFill>
          <a:blip r:embed="rId3"/>
          <a:stretch/>
        </p:blipFill>
        <p:spPr>
          <a:xfrm>
            <a:off x="380880" y="1371600"/>
            <a:ext cx="3810240" cy="3162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podvodniy010"/>
          <p:cNvPicPr/>
          <p:nvPr/>
        </p:nvPicPr>
        <p:blipFill>
          <a:blip r:embed="rId4"/>
          <a:stretch/>
        </p:blipFill>
        <p:spPr>
          <a:xfrm>
            <a:off x="609480" y="3759120"/>
            <a:ext cx="4724640" cy="29116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8"/>
          <p:cNvSpPr/>
          <p:nvPr/>
        </p:nvSpPr>
        <p:spPr>
          <a:xfrm>
            <a:off x="748440" y="870120"/>
            <a:ext cx="54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кеані мешкає багато видів аку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18-01-31T19:30:12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