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319-985C-4D20-BC53-FAC3D124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17B-D3D4-4808-BFDA-7360B150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3AE-6538-41FC-A1B6-8F7550C8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F72-298A-4238-803E-6C7F1EC6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4ED-AE6A-417D-B9AB-1E74037E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911-47F6-4FE0-8450-90CF5E10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CE5-06A3-43D4-82A4-79783EC9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BBE-03B4-4880-B43C-E1FCC8A1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B54-76BB-4775-8971-C82F8E0B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1AF-0538-4AC7-8E88-401A97C1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320-77C5-4AFF-B2E3-E7D902E6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793-A45F-43C0-8DCD-8124AE30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e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3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3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fa0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fa0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fa0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DACC-3C99-44A5-B20D-BE253FFF935C}" type="slidenum">
              <a:rPr b="0" lang="ru-RU" sz="1200" spc="-1" strike="noStrike">
                <a:solidFill>
                  <a:srgbClr val="8fa0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500040" y="37476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480" y="713880"/>
            <a:ext cx="828684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Arial Black"/>
              </a:rPr>
              <a:t>ПІВНІЧНИЙ ЛЬОДОВИТИЙ ОКЕАН</a:t>
            </a:r>
            <a:br>
              <a:rPr sz="2800"/>
            </a:br>
            <a:r>
              <a:rPr b="0" lang="uk-UA" sz="28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uk-UA" sz="28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66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42960" y="236520"/>
            <a:ext cx="8215200" cy="6140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3880" y="714240"/>
            <a:ext cx="82155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Північний Льодовитий океан — найменший з океанів планети, його площа становить 14,1 млн км2, з яких на моря припадає приблизно 8 млн км2.</a:t>
            </a:r>
            <a:br>
              <a:rPr sz="2600"/>
            </a:b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Максимальна глибина його також найменша й складає 5527 м.</a:t>
            </a:r>
            <a:br>
              <a:rPr sz="2400"/>
            </a:br>
            <a:endParaRPr b="0" lang="en-US" sz="2600" spc="-1" strike="noStrike">
              <a:solidFill>
                <a:srgbClr val="3366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28760" y="266760"/>
            <a:ext cx="8358120" cy="62499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1857240" y="357120"/>
            <a:ext cx="535788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 Black"/>
              </a:rPr>
              <a:t>Кліматичні умови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428760" y="2928960"/>
            <a:ext cx="3143160" cy="1428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Переважають арктичні повітряні маси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2000160" y="4643280"/>
            <a:ext cx="5715000" cy="1857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Температура повітря дорівнює від +3 до -40 (взимку) і від 0 до +10 (влітку) 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5429160" y="2928960"/>
            <a:ext cx="3214800" cy="13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Кількість опадів становить від 75 до 250 мм/рік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cxnSp>
        <p:nvCxnSpPr>
          <p:cNvPr id="50" name="Прямая со стрелкой 9"/>
          <p:cNvCxnSpPr/>
          <p:nvPr/>
        </p:nvCxnSpPr>
        <p:spPr>
          <a:xfrm flipH="1">
            <a:off x="2498400" y="1714320"/>
            <a:ext cx="2160" cy="1215000"/>
          </a:xfrm>
          <a:prstGeom prst="straightConnector1">
            <a:avLst/>
          </a:prstGeom>
          <a:ln w="7632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1" name="Прямая со стрелкой 11"/>
          <p:cNvCxnSpPr/>
          <p:nvPr/>
        </p:nvCxnSpPr>
        <p:spPr>
          <a:xfrm flipH="1">
            <a:off x="5714640" y="1714320"/>
            <a:ext cx="2160" cy="1215000"/>
          </a:xfrm>
          <a:prstGeom prst="straightConnector1">
            <a:avLst/>
          </a:prstGeom>
          <a:ln w="7632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2" name="Прямая со стрелкой 13"/>
          <p:cNvCxnSpPr/>
          <p:nvPr/>
        </p:nvCxnSpPr>
        <p:spPr>
          <a:xfrm flipH="1">
            <a:off x="4284360" y="1714680"/>
            <a:ext cx="2160" cy="2931120"/>
          </a:xfrm>
          <a:prstGeom prst="straightConnector1">
            <a:avLst/>
          </a:prstGeom>
          <a:ln w="7920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351000"/>
            <a:ext cx="8001000" cy="6022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35812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івнічний Льодовитий океан повністю розташований у полярних широтах, що значною мірою обумовлює особливості його природи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• Це найхолодніший з океанів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•  Більша частина акваторії океану вкрита кригою, що перешкоджає господарському використанню його ресурсів.</a:t>
            </a:r>
            <a:br>
              <a:rPr sz="2400"/>
            </a:br>
            <a:endParaRPr b="0" lang="en-US" sz="3200" spc="-1" strike="noStrike">
              <a:solidFill>
                <a:srgbClr val="3366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29200" cy="445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714920" y="3397320"/>
            <a:ext cx="4429080" cy="346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57120" y="492912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ff"/>
                </a:solidFill>
                <a:latin typeface="Arial Black"/>
              </a:rPr>
              <a:t>Органічний світ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714920" y="0"/>
            <a:ext cx="4429080" cy="513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42920" y="3143160"/>
            <a:ext cx="5251320" cy="3500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14200" y="107172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ff"/>
                </a:solidFill>
                <a:latin typeface="Arial Black"/>
              </a:rPr>
              <a:t>Органічний світ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7868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Calibri"/>
              </a:rPr>
              <a:t>                   </a:t>
            </a:r>
            <a:r>
              <a:rPr b="0" lang="ru-RU" sz="4800" spc="-1" strike="noStrike">
                <a:solidFill>
                  <a:srgbClr val="3366ff"/>
                </a:solidFill>
                <a:latin typeface="Calibri"/>
              </a:rPr>
              <a:t>Висновки</a:t>
            </a:r>
            <a:br>
              <a:rPr sz="2400"/>
            </a:br>
            <a:r>
              <a:rPr b="0" lang="ru-RU" sz="2800" spc="-1" strike="noStrike">
                <a:solidFill>
                  <a:srgbClr val="3366ff"/>
                </a:solidFill>
                <a:latin typeface="Calibri"/>
              </a:rPr>
              <a:t>Північний Льодовитий океан – найменший, наймілкіший і найхолодніший океан Землі. Центральна його частина вкрита шаром плавучої криги.</a:t>
            </a:r>
            <a:br>
              <a:rPr sz="2800"/>
            </a:br>
            <a:r>
              <a:rPr b="0" lang="ru-RU" sz="2800" spc="-1" strike="noStrike">
                <a:solidFill>
                  <a:srgbClr val="3366ff"/>
                </a:solidFill>
                <a:latin typeface="Calibri"/>
              </a:rPr>
              <a:t> Океан розташований на Крайній Півночі в Західній і Східній півкулях.</a:t>
            </a:r>
            <a:br>
              <a:rPr sz="2800"/>
            </a:br>
            <a:r>
              <a:rPr b="0" lang="ru-RU" sz="2800" spc="-1" strike="noStrike">
                <a:solidFill>
                  <a:srgbClr val="3366ff"/>
                </a:solidFill>
                <a:latin typeface="Calibri"/>
              </a:rPr>
              <a:t>Простір довкола Північного полюса, включаючи води океану,острови і узбережжя материків, називають АРТИКОЮ.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3366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ACER</cp:lastModifiedBy>
  <dcterms:modified xsi:type="dcterms:W3CDTF">2018-01-31T19:14:15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