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11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1ED-B023-48DB-8845-B7307F8E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092-0660-4D1C-B6B4-801D081D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BB3-98B3-4BFB-A8F7-C134C47D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0AF-60D2-44A3-8E58-6A4C49F2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E747-CC24-4958-86A6-46B8AE60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90E5-A244-473E-818C-1215195F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8668-FB7D-4F07-BEF6-F4A3F0A9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8290-45F0-4968-B2C7-8B52B80B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E777-6ACF-4C45-A562-DC16B5DA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C380-70EE-4ABB-AF1A-0A27BD06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D6A9-EBAE-40AA-8F88-2AB9A5AB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B71-6AE7-4D70-81B7-CBDC257B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02F7-685A-453D-8E3A-BC04A54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24E9-EE47-43F9-9499-2043CCA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2C5E-4ABB-4FAF-810B-7E7F8C84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121A-6BC6-46EC-9EA8-76850CE7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6BD1-735A-4F17-A5A0-29D896DF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200F-BEE1-4C7C-8305-5FD1C6DF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2092-3BDF-41D6-8874-0CCE5DB5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F407-C212-46BE-B1B2-8C4DEE5F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D5E0-385C-4FE5-A6B5-BF042E13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7F5B-EA93-4E04-9732-0F387287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8DA-FD9F-47EA-AFC7-F7FBA898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7AA2-37C9-4984-91CF-A2885E10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9199-3972-4174-BEA4-E2A1E60E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476B5-D4AC-419D-BBE3-806225FE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F90F-0C31-4374-B107-30884D3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7577-67D9-4929-8437-C06D6097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A794E-D74E-4CF1-BBC1-B38D3DA3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9AE9-0EDC-4B5A-9F60-040268A6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02B-5CC3-4A54-91C8-C3C00561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361-B1CC-4E69-A04C-6D4106D8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354-2CDD-46B0-9148-677BB6BF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138-831A-4DB7-AE6E-5693056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795-BBD7-47E7-A9AE-44812C1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BBD-F21B-41F7-844C-F60EFFDF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2DA4-D852-4E92-A3C2-A20B9AB776E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43C1-47BA-4880-9A0D-5C4ABE379C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C25F-5E06-4265-B9D5-86FBC86BC38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lph-spb.ru/main/image/_ID-322.html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boat001"/>
          <p:cNvPicPr/>
          <p:nvPr/>
        </p:nvPicPr>
        <p:blipFill>
          <a:blip r:embed="rId2"/>
          <a:stretch/>
        </p:blipFill>
        <p:spPr>
          <a:xfrm>
            <a:off x="4356000" y="2133720"/>
            <a:ext cx="2890800" cy="925560"/>
          </a:xfrm>
          <a:prstGeom prst="rect">
            <a:avLst/>
          </a:prstGeom>
          <a:ln w="0">
            <a:noFill/>
          </a:ln>
        </p:spPr>
      </p:pic>
      <p:sp>
        <p:nvSpPr>
          <p:cNvPr id="198" name="WordArt 4"/>
          <p:cNvSpPr txBox="1"/>
          <p:nvPr/>
        </p:nvSpPr>
        <p:spPr>
          <a:xfrm>
            <a:off x="900000" y="4221000"/>
            <a:ext cx="532476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ІНДІЙСЬКИЙ ОКЕА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ирода о. Мадагаск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1212153461_2403840"/>
          <p:cNvPicPr/>
          <p:nvPr/>
        </p:nvPicPr>
        <p:blipFill>
          <a:blip r:embed="rId1"/>
          <a:stretch/>
        </p:blipFill>
        <p:spPr>
          <a:xfrm>
            <a:off x="857160" y="1285920"/>
            <a:ext cx="2130480" cy="244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сероголов неразл"/>
          <p:cNvPicPr/>
          <p:nvPr/>
        </p:nvPicPr>
        <p:blipFill>
          <a:blip r:embed="rId2"/>
          <a:stretch/>
        </p:blipFill>
        <p:spPr>
          <a:xfrm>
            <a:off x="6443640" y="1700280"/>
            <a:ext cx="1709640" cy="2044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3888"/>
          <p:cNvPicPr/>
          <p:nvPr/>
        </p:nvPicPr>
        <p:blipFill>
          <a:blip r:embed="rId3"/>
          <a:stretch/>
        </p:blipFill>
        <p:spPr>
          <a:xfrm>
            <a:off x="3571920" y="1143000"/>
            <a:ext cx="2214360" cy="2071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r_4"/>
          <p:cNvPicPr/>
          <p:nvPr/>
        </p:nvPicPr>
        <p:blipFill>
          <a:blip r:embed="rId4"/>
          <a:stretch/>
        </p:blipFill>
        <p:spPr>
          <a:xfrm>
            <a:off x="3571920" y="3357720"/>
            <a:ext cx="2012760" cy="164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1967243"/>
          <p:cNvPicPr/>
          <p:nvPr/>
        </p:nvPicPr>
        <p:blipFill>
          <a:blip r:embed="rId5"/>
          <a:stretch/>
        </p:blipFill>
        <p:spPr>
          <a:xfrm>
            <a:off x="6588000" y="4005360"/>
            <a:ext cx="2090880" cy="1392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DSC01081"/>
          <p:cNvPicPr/>
          <p:nvPr/>
        </p:nvPicPr>
        <p:blipFill>
          <a:blip r:embed="rId6"/>
          <a:stretch/>
        </p:blipFill>
        <p:spPr>
          <a:xfrm>
            <a:off x="4357800" y="5143680"/>
            <a:ext cx="2085840" cy="1582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pardalis1"/>
          <p:cNvPicPr/>
          <p:nvPr/>
        </p:nvPicPr>
        <p:blipFill>
          <a:blip r:embed="rId7"/>
          <a:stretch/>
        </p:blipFill>
        <p:spPr>
          <a:xfrm>
            <a:off x="357120" y="4071960"/>
            <a:ext cx="2428920" cy="1798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xl_d9674"/>
          <p:cNvPicPr/>
          <p:nvPr/>
        </p:nvPicPr>
        <p:blipFill>
          <a:blip r:embed="rId8"/>
          <a:stretch/>
        </p:blipFill>
        <p:spPr>
          <a:xfrm>
            <a:off x="7104240" y="0"/>
            <a:ext cx="20397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трів Маврикій - перлина Індійського оке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варинний сві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Органический мир Индийского океана"/>
          <p:cNvPicPr/>
          <p:nvPr/>
        </p:nvPicPr>
        <p:blipFill>
          <a:blip r:embed="rId1"/>
          <a:stretch/>
        </p:blipFill>
        <p:spPr>
          <a:xfrm>
            <a:off x="539640" y="1127160"/>
            <a:ext cx="8136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іла ак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3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льм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юг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ангу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302400" y="586728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вет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5"/>
          <p:cNvSpPr/>
          <p:nvPr/>
        </p:nvSpPr>
        <p:spPr>
          <a:xfrm>
            <a:off x="285840" y="28584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2f2f2"/>
                </a:solidFill>
                <a:latin typeface="Arial"/>
              </a:rPr>
              <a:t>Літаюча ри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унец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Відкриття і дослідження океа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13" descr="Диаш"/>
          <p:cNvPicPr/>
          <p:nvPr/>
        </p:nvPicPr>
        <p:blipFill>
          <a:blip r:embed="rId1"/>
          <a:stretch/>
        </p:blipFill>
        <p:spPr>
          <a:xfrm>
            <a:off x="250920" y="1484280"/>
            <a:ext cx="2184480" cy="243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Диаш Бартол"/>
          <p:cNvPicPr/>
          <p:nvPr/>
        </p:nvPicPr>
        <p:blipFill>
          <a:blip r:embed="rId2"/>
          <a:stretch/>
        </p:blipFill>
        <p:spPr>
          <a:xfrm>
            <a:off x="324000" y="4076640"/>
            <a:ext cx="1896840" cy="223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5"/>
          <p:cNvSpPr/>
          <p:nvPr/>
        </p:nvSpPr>
        <p:spPr>
          <a:xfrm>
            <a:off x="250920" y="62373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ртоломеу Діаш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9528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95280" y="907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лавання Діа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0" descr="Рисунок2"/>
          <p:cNvPicPr/>
          <p:nvPr/>
        </p:nvPicPr>
        <p:blipFill>
          <a:blip r:embed="rId3"/>
          <a:stretch/>
        </p:blipFill>
        <p:spPr>
          <a:xfrm>
            <a:off x="2771640" y="2349360"/>
            <a:ext cx="5832720" cy="395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vasko_da_gama"/>
          <p:cNvPicPr/>
          <p:nvPr/>
        </p:nvPicPr>
        <p:blipFill>
          <a:blip r:embed="rId4"/>
          <a:stretch/>
        </p:blipFill>
        <p:spPr>
          <a:xfrm>
            <a:off x="7308720" y="907920"/>
            <a:ext cx="1650960" cy="2205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2"/>
          <p:cNvSpPr/>
          <p:nvPr/>
        </p:nvSpPr>
        <p:spPr>
          <a:xfrm>
            <a:off x="4356000" y="126828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ла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аско да Гами, 1497 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Скат - обитатель глубин"/>
          <p:cNvPicPr/>
          <p:nvPr/>
        </p:nvPicPr>
        <p:blipFill>
          <a:blip r:embed="rId1"/>
          <a:stretch/>
        </p:blipFill>
        <p:spPr>
          <a:xfrm>
            <a:off x="762120" y="660240"/>
            <a:ext cx="7619760" cy="50803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6084720" y="5877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Морская красавица"/>
          <p:cNvPicPr/>
          <p:nvPr/>
        </p:nvPicPr>
        <p:blipFill>
          <a:blip r:embed="rId1"/>
          <a:stretch/>
        </p:blipFill>
        <p:spPr>
          <a:xfrm>
            <a:off x="762120" y="660240"/>
            <a:ext cx="7619760" cy="50803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5667480" y="61545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рська зі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473400" y="633888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рські черепа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Морський промисе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7" descr="тунец2"/>
          <p:cNvPicPr/>
          <p:nvPr/>
        </p:nvPicPr>
        <p:blipFill>
          <a:blip r:embed="rId1"/>
          <a:stretch/>
        </p:blipFill>
        <p:spPr>
          <a:xfrm>
            <a:off x="885960" y="1719360"/>
            <a:ext cx="3181320" cy="4290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krevetki"/>
          <p:cNvPicPr/>
          <p:nvPr/>
        </p:nvPicPr>
        <p:blipFill>
          <a:blip r:embed="rId2"/>
          <a:stretch/>
        </p:blipFill>
        <p:spPr>
          <a:xfrm rot="535800">
            <a:off x="4716000" y="112536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жемчуг"/>
          <p:cNvPicPr/>
          <p:nvPr/>
        </p:nvPicPr>
        <p:blipFill>
          <a:blip r:embed="rId3"/>
          <a:stretch/>
        </p:blipFill>
        <p:spPr>
          <a:xfrm rot="357600">
            <a:off x="5003640" y="4149720"/>
            <a:ext cx="3200400" cy="2411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0"/>
          <p:cNvSpPr/>
          <p:nvPr/>
        </p:nvSpPr>
        <p:spPr>
          <a:xfrm>
            <a:off x="1168200" y="58975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нец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6858000" y="65898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860160" y="34480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крев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Корисні копали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5" descr="Рисунок4"/>
          <p:cNvPicPr/>
          <p:nvPr/>
        </p:nvPicPr>
        <p:blipFill>
          <a:blip r:embed="rId1"/>
          <a:stretch/>
        </p:blipFill>
        <p:spPr>
          <a:xfrm>
            <a:off x="468360" y="1484280"/>
            <a:ext cx="7991280" cy="5049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684360" y="431316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68360" y="4292640"/>
            <a:ext cx="2663640" cy="703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лізо-марганцеві конкре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              </a:t>
            </a: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Висновки</a:t>
            </a:r>
            <a:br>
              <a:rPr sz="3200"/>
            </a:b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Індійський океан – третій за розмірами глибиною, найсолоніший та один з найтепліших океанів Землі. </a:t>
            </a:r>
            <a:br>
              <a:rPr sz="3200"/>
            </a:b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Посідає перше місце в світі за запасами і видобутком нафти й природного газу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Picture 8" descr="Плавания египтян и арабов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852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Відкриття і дослідження океан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4000" y="1052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Індійський океан був відомим ще фінікійцям наприкінці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І 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еографічне положенн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7880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ретій за величиною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оща - 76,2 кв. к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ерегова лінія слабо порізана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В океані налічується 11 морів. Найбільші з них: Аравійське (4,6 млн. кв. км), Арафурське, Андаманське, Червон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Є великі затоки: Перська, Бенгальська, Велика Австралійсь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4" descr="Индийский океа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3797280" cy="5013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15" name="Picture 6" descr="Рисунок1"/>
          <p:cNvPicPr/>
          <p:nvPr/>
        </p:nvPicPr>
        <p:blipFill>
          <a:blip r:embed="rId3"/>
          <a:stretch/>
        </p:blipFill>
        <p:spPr>
          <a:xfrm>
            <a:off x="4859280" y="4365720"/>
            <a:ext cx="35305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7" descr="Рисунок1"/>
          <p:cNvPicPr/>
          <p:nvPr/>
        </p:nvPicPr>
        <p:blipFill>
          <a:blip r:embed="rId1"/>
          <a:stretch/>
        </p:blipFill>
        <p:spPr>
          <a:xfrm>
            <a:off x="0" y="765000"/>
            <a:ext cx="5364000" cy="4088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Течі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64000" y="1052640"/>
            <a:ext cx="378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 рух води в Індійському океані великий вплив має мусонна циркуляці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Мусони — стійкі вітри нижнього шару тропосфери, що протилежно змінюють свій напрямок два рази на рік. Зимовий мусон має напрямок з суходолу на море, літній — з моря на суходіл. 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95280" y="494172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півночі океану течії : Південна Пасатна,  Сомалійська, Мусонна утворюють  мусонний колообіг. Півроку води рухаються за годинниковою стрілкою, а півроку -  проти неї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південній частині океану морські течії рухаються проти годинникової стріл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ельєф океан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5" descr="Рисунок3"/>
          <p:cNvPicPr/>
          <p:nvPr/>
        </p:nvPicPr>
        <p:blipFill>
          <a:blip r:embed="rId1"/>
          <a:stretch/>
        </p:blipFill>
        <p:spPr>
          <a:xfrm>
            <a:off x="179280" y="1268280"/>
            <a:ext cx="5473800" cy="3665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5651640" y="1557360"/>
            <a:ext cx="3241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ападини - Сомалійська, Центральна, Крозе, Західно-Австралійська, Південно-Австралійсь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Хребти - Аравійсько-Індійський, Східно-Індійський, Західно-Індійськ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ідняття - Австрало-Антарктич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50920" y="508464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Бенгальській затоці материковий схил  опускається до ложа океану  під кутом 45</a:t>
            </a:r>
            <a:r>
              <a:rPr b="0" lang="uk-UA" sz="20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йглибшою ділянкою дна є Зондський жолоб 7729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cd16a2ae91_119464"/>
          <p:cNvPicPr/>
          <p:nvPr/>
        </p:nvPicPr>
        <p:blipFill>
          <a:blip r:embed="rId1"/>
          <a:stretch/>
        </p:blipFill>
        <p:spPr>
          <a:xfrm>
            <a:off x="285840" y="1268280"/>
            <a:ext cx="4914720" cy="5283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Клім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19280" y="1196640"/>
            <a:ext cx="392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ізноманітність кліматичних умов на поверхні Індійського океану визначається його великою меридіональною протяжністю і циркуляцією повітряних ма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В екваторіальних широтах за рік випадає 3000 мм опадів, у районі тропіків не більше 100 мм на рі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images"/>
          <p:cNvPicPr/>
          <p:nvPr/>
        </p:nvPicPr>
        <p:blipFill>
          <a:blip r:embed="rId1"/>
          <a:stretch/>
        </p:blipFill>
        <p:spPr>
          <a:xfrm>
            <a:off x="468360" y="1413000"/>
            <a:ext cx="4554360" cy="30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ШріЛа"/>
          <p:cNvPicPr/>
          <p:nvPr/>
        </p:nvPicPr>
        <p:blipFill>
          <a:blip r:embed="rId2"/>
          <a:stretch/>
        </p:blipFill>
        <p:spPr>
          <a:xfrm>
            <a:off x="5292720" y="1390680"/>
            <a:ext cx="3527280" cy="2382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МЛД"/>
          <p:cNvPicPr/>
          <p:nvPr/>
        </p:nvPicPr>
        <p:blipFill>
          <a:blip r:embed="rId3"/>
          <a:stretch/>
        </p:blipFill>
        <p:spPr>
          <a:xfrm>
            <a:off x="4211640" y="3778200"/>
            <a:ext cx="4557600" cy="3079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952920" y="40971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ейшельські остро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057280" y="61135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альді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6644160" y="17924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. Шрі-Ла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0" descr="МАЛДВідп"/>
          <p:cNvPicPr/>
          <p:nvPr/>
        </p:nvPicPr>
        <p:blipFill>
          <a:blip r:embed="rId4"/>
          <a:stretch/>
        </p:blipFill>
        <p:spPr>
          <a:xfrm>
            <a:off x="755640" y="4619520"/>
            <a:ext cx="3311640" cy="22384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2"/>
          <p:cNvSpPr/>
          <p:nvPr/>
        </p:nvSpPr>
        <p:spPr>
          <a:xfrm>
            <a:off x="828000" y="4724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альді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256680" y="836640"/>
            <a:ext cx="85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 океані багато островів вулканічного,  материкового,  коралового походже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564120" y="5734080"/>
            <a:ext cx="68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2f2f2"/>
                </a:solidFill>
                <a:latin typeface="Arial"/>
              </a:rPr>
              <a:t>Сейшельські острови відомі своїми пляжами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3:39:09Z</dcterms:created>
  <dc:creator>imya</dc:creator>
  <dc:description/>
  <dc:language>en-US</dc:language>
  <cp:lastModifiedBy>ACER</cp:lastModifiedBy>
  <dcterms:modified xsi:type="dcterms:W3CDTF">2018-01-31T19:32:22Z</dcterms:modified>
  <cp:revision>44</cp:revision>
  <dc:subject/>
  <dc:title>ТИХИЙ ОКЕАН.</dc:title>
</cp:coreProperties>
</file>