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1C50-98E1-47C9-895B-AB64016201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A7EF-8677-4978-A5E0-852D664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E87C-CFCF-495D-BA4E-18839CE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019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51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019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1951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C7FF-3028-41FD-AA98-2F1C6ED83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5FDAA-7B9D-4B2A-82A4-0A9FC4FEE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06D0-B043-4223-93C4-5D77CBF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7E408-E954-498D-90C0-64D03513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F5AC-0D4F-49B4-9399-C7725D1D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944BD-8279-4E4A-BEEB-2DAAB8FC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0C147-6065-4EC0-AFF8-69237382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DCA9D-9774-402A-8FAD-B4BCF61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D610-2A89-40A9-9022-85A56C0A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469B-F09A-4EA4-9BDC-DDEFD90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CA9CF-8BCF-4244-A82C-F2C364E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C090C-32B6-4751-8CAE-89B64E2E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1D93-1FBC-4E1C-BD74-1FA449C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19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51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12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19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1951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9880D-FBC2-48FB-BE0F-ED2E54E8C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FE0F-D6E5-4873-A01F-B6EC7B6CA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9BF5-76BD-4C57-99B6-BBA7040E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6872-B1E2-4B44-9DFE-0ABBAF5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6A3-98DA-46B1-88B2-A1E1D45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98D9-0F37-4EEC-924A-BC296341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971A-1B6C-4739-8F3E-424F7E6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1DEB-F1BE-4DE9-B35F-A32F2BB7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B057-A5CA-48B4-8983-FAA1951E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27E-E38B-49E4-9155-17F41C59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53A-83EA-4786-8485-B71F444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177-BCAA-4BFD-96E2-69EDCFB2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71FD-A60D-47E0-835D-A57BB9B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019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951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12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9019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1951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6AAD-1633-4026-8E6B-E3F9F8CAF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512A1-5936-4CE7-BC0D-5021F37F8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EA10F-5197-483B-8265-A4C3085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294CA-350E-488B-A6E8-3DB5548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E131-6428-4671-ACE6-92C786B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DEA0D-2764-4EC5-AEA7-6CE005D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8D945-B30D-4E1D-9702-3A3B5355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120" y="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4A894-A0C2-4E07-9F5E-DFBEB374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E98BA-F3E8-44A8-9985-C23D9432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B56EC-6649-47F2-A3A8-91526ECA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18CB7-82C0-4DE0-86F9-7255585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0D888-8006-4D81-86B3-9C4F2755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67038-75E4-4C98-AB5F-13C8246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019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95160" y="83772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12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9019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195160" y="3600000"/>
            <a:ext cx="21834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F5BE0-906E-4BB3-90CB-7D0722EA7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10C-6D6B-4045-8059-6175D5A8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275B-D5C5-46EE-B959-07AFD635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566E-ED70-4A79-9F54-0FA3DD2D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84560" y="360000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D79B-D621-4CB4-A549-E334E695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84560" y="837720"/>
            <a:ext cx="330948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00000"/>
            <a:ext cx="6782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3ADD-BA64-4D66-8969-541FEB3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057B-CA8A-41CA-AF36-4FF94AFB5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A1D0-060D-4286-8290-CC65B3064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7E5-5327-49D3-9903-E143DE519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0B2-2B0F-4C8E-8698-202879D4A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19720" y="76320"/>
            <a:ext cx="1295280" cy="67816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fr-FR" sz="5400" spc="-1" strike="noStrike">
                <a:solidFill>
                  <a:srgbClr val="003399"/>
                </a:solidFill>
                <a:latin typeface="Arial"/>
                <a:ea typeface="宋体"/>
              </a:rPr>
              <a:t>LE FRANçAIS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596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J’apprends et j’aime 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164" name="videoplayback (3).mp4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67820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"/>
                <a:ea typeface="宋体"/>
              </a:rPr>
              <a:t>La vie scolaire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Les matières à notre école</a:t>
            </a:r>
            <a:br>
              <a:rPr sz="28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s mathématique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 frança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littératu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’angla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géographi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chimi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musiqu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 sport 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biologi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thechnologi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82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animationfactory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8" descr="parisian_hike_prt"/>
          <p:cNvPicPr/>
          <p:nvPr/>
        </p:nvPicPr>
        <p:blipFill>
          <a:blip r:embed="rId1"/>
          <a:stretch/>
        </p:blipFill>
        <p:spPr>
          <a:xfrm>
            <a:off x="160200" y="-152280"/>
            <a:ext cx="8280360" cy="621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2" name="WordArt 13"/>
          <p:cNvSpPr txBox="1"/>
          <p:nvPr/>
        </p:nvSpPr>
        <p:spPr>
          <a:xfrm>
            <a:off x="0" y="457200"/>
            <a:ext cx="3390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gosy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gosy"/>
              <a:ea typeface="Argosy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990720" y="117468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1. Je m’appelle Pierre. J’ai treize ans. Je vais à l’école à Paris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2. Je vais à l’école à pied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3. Je ne porte pas l’unifor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4. J’aime l’histoire et gé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5. Je n’aime pas les maths parce que c’est diffici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990720" y="2952720"/>
            <a:ext cx="693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1. Je m’appelle ... J’ai ... ans. Je vais à l’école à .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2. Je vais à l’école à pied/ en bus /en voitur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3. Je ne porte pas 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4. J’aime 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5. Je n’aime pas ... parce que c’est difficile/ peu intressan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Les matières à l’école en France</a:t>
            </a:r>
            <a:br>
              <a:rPr sz="28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s mathématique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 frança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espagnol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’angla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’histoire et géographi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 science et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vie de la ter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l’allemand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 sport 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s arts plastique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7:35:27Z</dcterms:created>
  <dc:creator>eclipse</dc:creator>
  <dc:description/>
  <dc:language>en-US</dc:language>
  <cp:lastModifiedBy>admin</cp:lastModifiedBy>
  <dcterms:modified xsi:type="dcterms:W3CDTF">2019-01-23T21:25:13Z</dcterms:modified>
  <cp:revision>17</cp:revision>
  <dc:subject/>
  <dc:title>PARISIAN HIKE</dc:title>
</cp:coreProperties>
</file>