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4471-EEB6-433F-AC17-D614E7B6B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D589-073D-48DB-9DBD-3F675F2B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410E-DAA0-4ECA-8957-3EBF08F8F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B251-A34D-487A-81D2-364774415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CAC86-6B09-4588-AFF2-1EBEAF65B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15CE2-5B0F-452D-9860-02BD1D20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F5E66-8228-43D5-8532-412225B1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5488B-0829-46A3-8090-929798A4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10229-1CB0-4888-9E22-7DEB2821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B8887-98DF-40EF-BCA9-CF44F698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2A7BA-9837-424B-AB30-70BD64B3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0344-DC89-4236-AAEF-CA57ED71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94DE8-9B24-49BD-9A49-7649DA86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9AE61-6A02-41A9-B5CC-9D036D0C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439CE-8D1F-4772-8701-2CEED966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1B634-7068-472B-94B7-12FEA9E2A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FB3F31-507C-4BF6-8859-03BDF9A85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7A71-92BD-4F63-94BA-1DCA0BB4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4CCD-606E-4AC4-9917-7C74CBE0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37FE-623E-45D6-98D2-D3C5B1A5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EB3C-AC98-4AC9-AAF1-5419B869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2DC3-83AD-4A77-AEF4-EF0E4A41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B7E7-A3B6-4C22-B5A8-E9876F63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14E6-FC79-4361-A16C-F91D5F21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C58C-6342-42AA-B40A-DAD4D522A8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E09B-7E89-46A2-8142-95819ADE736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Rectangle 2" descr=""/>
          <p:cNvPicPr/>
          <p:nvPr/>
        </p:nvPicPr>
        <p:blipFill>
          <a:blip r:embed="rId1"/>
          <a:stretch/>
        </p:blipFill>
        <p:spPr>
          <a:xfrm>
            <a:off x="1042920" y="328680"/>
            <a:ext cx="7418520" cy="25905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249120" y="2779560"/>
            <a:ext cx="4378320" cy="5784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D:\ombudsmen.jpg"/>
          <p:cNvPicPr/>
          <p:nvPr/>
        </p:nvPicPr>
        <p:blipFill>
          <a:blip r:embed="rId3"/>
          <a:stretch/>
        </p:blipFill>
        <p:spPr>
          <a:xfrm>
            <a:off x="4643280" y="2708280"/>
            <a:ext cx="442152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00"/>
                </a:solidFill>
                <a:latin typeface="Tahoma"/>
              </a:rPr>
              <a:t>Вставте пропущені слова в тексті. Запропонованих слів більше, ніж повинно бути в тексті. Слова можуть повторюватися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ffff"/>
                </a:solidFill>
                <a:latin typeface="Tahoma"/>
              </a:rPr>
              <a:t>Слід визнати очевидними такі істини: всі люди створені ______, всі повинні бути _______ від народження, всі наділені деякими невідчужуваними ______ . Для забезпечення цих _________ засновані ________, що здійснюють справедливу владу. Держава ж встановлює _______ , які спрямовані на захист людей і забезпечення загального добробуту. </a:t>
            </a:r>
            <a:r>
              <a:rPr b="0" i="1" lang="uk-UA" sz="2800" spc="-1" strike="noStrike">
                <a:solidFill>
                  <a:srgbClr val="ffffff"/>
                </a:solidFill>
                <a:latin typeface="Tahoma"/>
              </a:rPr>
              <a:t>(Життя, право, свобода, необхідність, рівність, закон, правило, уряд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4000"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94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uk-UA" sz="3200" spc="-1" strike="noStrike">
                <a:solidFill>
                  <a:srgbClr val="ff3399"/>
                </a:solidFill>
                <a:latin typeface="Tahoma"/>
              </a:rPr>
              <a:t>Свободи людини</a:t>
            </a:r>
            <a:r>
              <a:rPr b="0" lang="uk-UA" sz="3200" spc="-1" strike="noStrike">
                <a:solidFill>
                  <a:srgbClr val="ff3399"/>
                </a:solidFill>
                <a:latin typeface="Tahom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— сфери, галузі діяльності людини, у які держава не повинна втручатися.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i="1" lang="uk-UA" sz="3200" spc="-1" strike="noStrike">
                <a:solidFill>
                  <a:srgbClr val="ff3399"/>
                </a:solidFill>
                <a:latin typeface="Tahoma"/>
              </a:rPr>
              <a:t>Обов'язки</a:t>
            </a:r>
            <a:r>
              <a:rPr b="0" lang="uk-UA" sz="3200" spc="-1" strike="noStrike">
                <a:solidFill>
                  <a:srgbClr val="ff3399"/>
                </a:solidFill>
                <a:latin typeface="Tahom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— це заходи суспільно необхідної поведінки людини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4000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Tahoma"/>
              </a:rPr>
              <a:t>Вільний мікрофон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195640" y="2636640"/>
            <a:ext cx="6697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5" descr="D:\0a13689df77415c743ba77f0587507d3.jpg"/>
          <p:cNvPicPr/>
          <p:nvPr/>
        </p:nvPicPr>
        <p:blipFill>
          <a:blip r:embed="rId1"/>
          <a:stretch/>
        </p:blipFill>
        <p:spPr>
          <a:xfrm>
            <a:off x="5796000" y="330120"/>
            <a:ext cx="2903400" cy="2179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D:\10834_html_m7ea0f073.jpg"/>
          <p:cNvPicPr/>
          <p:nvPr/>
        </p:nvPicPr>
        <p:blipFill>
          <a:blip r:embed="rId2"/>
          <a:stretch/>
        </p:blipFill>
        <p:spPr>
          <a:xfrm>
            <a:off x="250920" y="4508640"/>
            <a:ext cx="1996920" cy="199692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5"/>
          <p:cNvSpPr/>
          <p:nvPr/>
        </p:nvSpPr>
        <p:spPr>
          <a:xfrm>
            <a:off x="3203640" y="2967120"/>
            <a:ext cx="554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ff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ffff"/>
                </a:solidFill>
                <a:latin typeface="Tahoma"/>
              </a:rPr>
              <a:t>У чому полягає  відмінність  між «правами людини»  і «правами  громадянина»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4000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Tahoma"/>
              </a:rPr>
              <a:t>Вільний мікрофон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95640" y="2636640"/>
            <a:ext cx="6697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ffff"/>
                </a:solidFill>
                <a:latin typeface="Tahoma"/>
              </a:rPr>
              <a:t>Свобода є правом робити все, що дозволено __ 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ffff"/>
                </a:solidFill>
                <a:latin typeface="Tahoma"/>
              </a:rPr>
              <a:t>(Ш. Монтеск’є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5" descr="D:\0a13689df77415c743ba77f0587507d3.jpg"/>
          <p:cNvPicPr/>
          <p:nvPr/>
        </p:nvPicPr>
        <p:blipFill>
          <a:blip r:embed="rId1"/>
          <a:stretch/>
        </p:blipFill>
        <p:spPr>
          <a:xfrm>
            <a:off x="5796000" y="330120"/>
            <a:ext cx="2903400" cy="2179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D:\10834_html_m7ea0f073.jpg"/>
          <p:cNvPicPr/>
          <p:nvPr/>
        </p:nvPicPr>
        <p:blipFill>
          <a:blip r:embed="rId2"/>
          <a:stretch/>
        </p:blipFill>
        <p:spPr>
          <a:xfrm>
            <a:off x="250920" y="4508640"/>
            <a:ext cx="1996920" cy="19969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Tahoma"/>
              </a:rPr>
              <a:t>Вільний мікрофон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195640" y="2636640"/>
            <a:ext cx="6697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ffff"/>
                </a:solidFill>
                <a:latin typeface="Tahoma"/>
              </a:rPr>
              <a:t>Чи  залежать громадянські, політичні , економічні  та культурні  права і свободи  від  стану  економіки  кожної  конкретної країн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5" descr="D:\0a13689df77415c743ba77f0587507d3.jpg"/>
          <p:cNvPicPr/>
          <p:nvPr/>
        </p:nvPicPr>
        <p:blipFill>
          <a:blip r:embed="rId1"/>
          <a:stretch/>
        </p:blipFill>
        <p:spPr>
          <a:xfrm>
            <a:off x="5796000" y="330120"/>
            <a:ext cx="2903400" cy="2179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D:\10834_html_m7ea0f073.jpg"/>
          <p:cNvPicPr/>
          <p:nvPr/>
        </p:nvPicPr>
        <p:blipFill>
          <a:blip r:embed="rId2"/>
          <a:stretch/>
        </p:blipFill>
        <p:spPr>
          <a:xfrm>
            <a:off x="250920" y="4508640"/>
            <a:ext cx="1996920" cy="19969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3399"/>
                </a:solidFill>
                <a:latin typeface="Tahoma"/>
              </a:rPr>
              <a:t>Права людини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ffff"/>
                </a:solidFill>
                <a:latin typeface="Tahoma"/>
              </a:rPr>
              <a:t>Універсальні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ffff"/>
                </a:solidFill>
                <a:latin typeface="Tahoma"/>
              </a:rPr>
              <a:t>Природні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ffff"/>
                </a:solidFill>
                <a:latin typeface="Tahoma"/>
              </a:rPr>
              <a:t>є невідчужуваним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4000"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Tahoma"/>
              </a:rPr>
              <a:t>Вільний мікрофон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195640" y="2636640"/>
            <a:ext cx="6697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ffff"/>
                </a:solidFill>
                <a:latin typeface="Tahoma"/>
              </a:rPr>
              <a:t>Навіщо потрібно вивчати права людин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5" descr="D:\0a13689df77415c743ba77f0587507d3.jpg"/>
          <p:cNvPicPr/>
          <p:nvPr/>
        </p:nvPicPr>
        <p:blipFill>
          <a:blip r:embed="rId1"/>
          <a:stretch/>
        </p:blipFill>
        <p:spPr>
          <a:xfrm>
            <a:off x="5796000" y="330120"/>
            <a:ext cx="2903400" cy="2179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D:\10834_html_m7ea0f073.jpg"/>
          <p:cNvPicPr/>
          <p:nvPr/>
        </p:nvPicPr>
        <p:blipFill>
          <a:blip r:embed="rId2"/>
          <a:stretch/>
        </p:blipFill>
        <p:spPr>
          <a:xfrm>
            <a:off x="250920" y="4508640"/>
            <a:ext cx="1996920" cy="19969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c000"/>
                </a:solidFill>
                <a:latin typeface="Tahoma"/>
              </a:rPr>
              <a:t>Права і свободи людини в документах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05120"/>
            <a:ext cx="822960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ffff"/>
                </a:solidFill>
                <a:latin typeface="Tahoma"/>
              </a:rPr>
              <a:t>Міжнародного рівня — Міжнародний білль про прав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ffff"/>
                </a:solidFill>
                <a:latin typeface="Tahoma"/>
              </a:rPr>
              <a:t>Загальна декларація прав людини 1948 р.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ffff"/>
                </a:solidFill>
                <a:latin typeface="Tahoma"/>
              </a:rPr>
              <a:t>Міжнародний пакт про громадянські і політичні права 1966 рік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ffff"/>
                </a:solidFill>
                <a:latin typeface="Tahoma"/>
              </a:rPr>
              <a:t>Міжнародний пакт про соціальні, економічні та культурні прав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ffff"/>
                </a:solidFill>
                <a:latin typeface="Tahoma"/>
              </a:rPr>
              <a:t>європейського рівня — Європейська Конвенція про захист прав людини та основних свобод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ffff"/>
                </a:solidFill>
                <a:latin typeface="Tahoma"/>
              </a:rPr>
              <a:t>державного рівня — Конституція Украї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4000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Tahoma"/>
              </a:rPr>
              <a:t>Вільний мікрофон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195640" y="2636640"/>
            <a:ext cx="6697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ffff"/>
                </a:solidFill>
                <a:latin typeface="Tahoma"/>
              </a:rPr>
              <a:t>Які права людини не повинні обмежуватися ні за яких обставин 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D:\0a13689df77415c743ba77f0587507d3.jpg"/>
          <p:cNvPicPr/>
          <p:nvPr/>
        </p:nvPicPr>
        <p:blipFill>
          <a:blip r:embed="rId1"/>
          <a:stretch/>
        </p:blipFill>
        <p:spPr>
          <a:xfrm>
            <a:off x="5796000" y="330120"/>
            <a:ext cx="2903400" cy="2179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D:\10834_html_m7ea0f073.jpg"/>
          <p:cNvPicPr/>
          <p:nvPr/>
        </p:nvPicPr>
        <p:blipFill>
          <a:blip r:embed="rId2"/>
          <a:stretch/>
        </p:blipFill>
        <p:spPr>
          <a:xfrm>
            <a:off x="250920" y="4508640"/>
            <a:ext cx="1996920" cy="19969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ff00"/>
                </a:solidFill>
                <a:latin typeface="Tahoma"/>
              </a:rPr>
              <a:t>Права людини, які не повинні обмежуватися ні за яких обставин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ffff"/>
                </a:solidFill>
                <a:latin typeface="Tahoma"/>
              </a:rPr>
              <a:t>на житт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ffff"/>
                </a:solidFill>
                <a:latin typeface="Tahoma"/>
              </a:rPr>
              <a:t>на рівність у права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ffff"/>
                </a:solidFill>
                <a:latin typeface="Tahoma"/>
              </a:rPr>
              <a:t>на справедливий суд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ffff"/>
                </a:solidFill>
                <a:latin typeface="Tahoma"/>
              </a:rPr>
              <a:t>на першу медичну допомогу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ffff"/>
                </a:solidFill>
                <a:latin typeface="Tahoma"/>
              </a:rPr>
              <a:t>свобода від тортур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ffff"/>
                </a:solidFill>
                <a:latin typeface="Tahoma"/>
              </a:rPr>
              <a:t>свобода від раб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4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99"/>
                </a:solidFill>
                <a:latin typeface="Tahoma"/>
              </a:rPr>
              <a:t>Епіграф  уроку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000" y="2349360"/>
            <a:ext cx="806436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«..основні  свободи, які  становлять підвалини справедливості миру у всьому світі …  найкращим  чином здійснюються , з одного боку , завдяки дієвій політичній демократії, а з іншого боку - завдяки загальному розумінню і дотриманню  прав людини, від яких вони залежать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(Преамбула Європейської конвенції з прав людини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Tahoma"/>
              </a:rPr>
              <a:t>Вільний мікрофон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195640" y="2636640"/>
            <a:ext cx="6697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ffff"/>
                </a:solidFill>
                <a:latin typeface="Tahoma"/>
              </a:rPr>
              <a:t>Назвіть випадки, у яких допустимі обмеження прав людини з боку держави</a:t>
            </a:r>
            <a:r>
              <a:rPr b="1" lang="uk-UA" sz="3600" spc="-1" strike="noStrike">
                <a:solidFill>
                  <a:srgbClr val="00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5" descr="D:\0a13689df77415c743ba77f0587507d3.jpg"/>
          <p:cNvPicPr/>
          <p:nvPr/>
        </p:nvPicPr>
        <p:blipFill>
          <a:blip r:embed="rId1"/>
          <a:stretch/>
        </p:blipFill>
        <p:spPr>
          <a:xfrm>
            <a:off x="5796000" y="330120"/>
            <a:ext cx="2903400" cy="2179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D:\10834_html_m7ea0f073.jpg"/>
          <p:cNvPicPr/>
          <p:nvPr/>
        </p:nvPicPr>
        <p:blipFill>
          <a:blip r:embed="rId2"/>
          <a:stretch/>
        </p:blipFill>
        <p:spPr>
          <a:xfrm>
            <a:off x="250920" y="4508640"/>
            <a:ext cx="1996920" cy="19969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Tahoma"/>
              </a:rPr>
              <a:t>Вільний мікрофон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195640" y="2636640"/>
            <a:ext cx="6697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ffff"/>
                </a:solidFill>
                <a:latin typeface="Tahoma"/>
              </a:rPr>
              <a:t>Що лежить  в  основі стосунків між людиною і державою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5" descr="D:\0a13689df77415c743ba77f0587507d3.jpg"/>
          <p:cNvPicPr/>
          <p:nvPr/>
        </p:nvPicPr>
        <p:blipFill>
          <a:blip r:embed="rId1"/>
          <a:stretch/>
        </p:blipFill>
        <p:spPr>
          <a:xfrm>
            <a:off x="5940360" y="260280"/>
            <a:ext cx="2903760" cy="2179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D:\10834_html_m7ea0f073.jpg"/>
          <p:cNvPicPr/>
          <p:nvPr/>
        </p:nvPicPr>
        <p:blipFill>
          <a:blip r:embed="rId2"/>
          <a:stretch/>
        </p:blipFill>
        <p:spPr>
          <a:xfrm>
            <a:off x="250920" y="4508640"/>
            <a:ext cx="1996920" cy="19969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00"/>
                </a:solidFill>
                <a:latin typeface="Tahoma"/>
              </a:rPr>
              <a:t>Захист прав людини здійснюють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2204640"/>
            <a:ext cx="822960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суд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правозахисні організації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Уповноважений з прав людин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Європейський суд з прав людин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Інститут верховного комісара ООН з прав людини і справ біженці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4000"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21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000"/>
                </a:solidFill>
                <a:latin typeface="Tahoma"/>
              </a:rPr>
              <a:t>Уповноважений з прав людини, </a:t>
            </a:r>
            <a:r>
              <a:rPr b="0" lang="uk-UA" sz="2800" spc="-1" strike="noStrike">
                <a:solidFill>
                  <a:srgbClr val="ff0000"/>
                </a:solidFill>
                <a:latin typeface="Tahoma"/>
              </a:rPr>
              <a:t>омбудсмен, </a:t>
            </a:r>
            <a:r>
              <a:rPr b="0" lang="uk-UA" sz="2800" spc="-1" strike="noStrike">
                <a:solidFill>
                  <a:srgbClr val="ffc000"/>
                </a:solidFill>
                <a:latin typeface="Tahoma"/>
              </a:rPr>
              <a:t>- людина, яку обирає Верховна Рада  для  збирання  інформації  про  порушення прав людини і сприяння  тим, чиї  права  порушені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2" descr="D:\i.jpg"/>
          <p:cNvPicPr/>
          <p:nvPr/>
        </p:nvPicPr>
        <p:blipFill>
          <a:blip r:embed="rId1"/>
          <a:stretch/>
        </p:blipFill>
        <p:spPr>
          <a:xfrm>
            <a:off x="4788000" y="2637000"/>
            <a:ext cx="4003560" cy="3306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D:\4650.jpg"/>
          <p:cNvPicPr/>
          <p:nvPr/>
        </p:nvPicPr>
        <p:blipFill>
          <a:blip r:embed="rId2"/>
          <a:stretch/>
        </p:blipFill>
        <p:spPr>
          <a:xfrm>
            <a:off x="219240" y="2637000"/>
            <a:ext cx="4416120" cy="331308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split dir="in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Tahoma"/>
              </a:rPr>
              <a:t>Вільний мікрофон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195640" y="2636640"/>
            <a:ext cx="6697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ffff"/>
                </a:solidFill>
                <a:latin typeface="Tahoma"/>
              </a:rPr>
              <a:t>Чому  права  людини   породжують  її  відповідальність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5" descr="D:\0a13689df77415c743ba77f0587507d3.jpg"/>
          <p:cNvPicPr/>
          <p:nvPr/>
        </p:nvPicPr>
        <p:blipFill>
          <a:blip r:embed="rId1"/>
          <a:stretch/>
        </p:blipFill>
        <p:spPr>
          <a:xfrm>
            <a:off x="5796000" y="330120"/>
            <a:ext cx="2903400" cy="2179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D:\10834_html_m7ea0f073.jpg"/>
          <p:cNvPicPr/>
          <p:nvPr/>
        </p:nvPicPr>
        <p:blipFill>
          <a:blip r:embed="rId2"/>
          <a:stretch/>
        </p:blipFill>
        <p:spPr>
          <a:xfrm>
            <a:off x="250920" y="4508640"/>
            <a:ext cx="1996920" cy="19969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Tahoma"/>
              </a:rPr>
              <a:t>Проблемне завданн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ffff"/>
                </a:solidFill>
                <a:latin typeface="Tahoma"/>
              </a:rPr>
              <a:t>Щоб ви написали наприкінці цього  ролика ? </a:t>
            </a:r>
            <a:br>
              <a:rPr sz="4800"/>
            </a:br>
            <a:r>
              <a:rPr b="0" lang="ru-RU" sz="4800" spc="-1" strike="noStrike">
                <a:solidFill>
                  <a:srgbClr val="00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2" descr="D:\truth.jpg"/>
          <p:cNvPicPr/>
          <p:nvPr/>
        </p:nvPicPr>
        <p:blipFill>
          <a:blip r:embed="rId1"/>
          <a:stretch/>
        </p:blipFill>
        <p:spPr>
          <a:xfrm>
            <a:off x="3708360" y="3573360"/>
            <a:ext cx="2232000" cy="30243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3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Tahoma"/>
              </a:rPr>
              <a:t>- Чи погоджуєтеся зі  словами  І.Франка 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ffff"/>
                </a:solidFill>
                <a:latin typeface="Tahoma"/>
              </a:rPr>
              <a:t>«Будь - яке право людини, прямо або  побічно, зводиться до забезпечення за ним можливості  виконувати його обв’язки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4000"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Tahoma"/>
              </a:rPr>
              <a:t>Домашнє завданн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8000" y="1341000"/>
            <a:ext cx="8218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ffff"/>
                </a:solidFill>
                <a:latin typeface="Tahoma"/>
              </a:rPr>
              <a:t>1. Опрацювати матеріал підручника.(с.87-100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ffff"/>
                </a:solidFill>
                <a:latin typeface="Tahoma"/>
              </a:rPr>
              <a:t>2. Написати твір-роздум на тему «Яким буде суспільство, якщо всі погодяться із необхідністю дотримуватися прав людини. Чи можна це здійснити?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4" descr="D:\картинки\0_971ac_da74738a_XL.png"/>
          <p:cNvPicPr/>
          <p:nvPr/>
        </p:nvPicPr>
        <p:blipFill>
          <a:blip r:embed="rId1"/>
          <a:stretch/>
        </p:blipFill>
        <p:spPr>
          <a:xfrm>
            <a:off x="5292720" y="4276800"/>
            <a:ext cx="3851280" cy="25812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3399"/>
                </a:solidFill>
                <a:latin typeface="Tahoma"/>
              </a:rPr>
              <a:t>«Низка слів наперед»</a:t>
            </a:r>
            <a:br>
              <a:rPr sz="4000"/>
            </a:b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00"/>
                </a:solidFill>
                <a:latin typeface="Tahoma"/>
              </a:rPr>
              <a:t>Висловіть припущення , де і яким чином ці  слова  можуть бути використанні у змісті  навчальної тем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ffff"/>
                </a:solidFill>
                <a:latin typeface="Tahoma"/>
              </a:rPr>
              <a:t>права людини, відповідальність, свободи, еволюція, конвенція, пакт, права громадян, Генеральна Асамблея ООН, Загальна декларація прав людини, Конституці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amond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Tahoma"/>
              </a:rPr>
              <a:t>Проблемне завдання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ffff"/>
                </a:solidFill>
                <a:latin typeface="Tahoma"/>
              </a:rPr>
              <a:t>Щоб ви написали наприкінці цього  ролика ? </a:t>
            </a:r>
            <a:br>
              <a:rPr sz="4800"/>
            </a:br>
            <a:r>
              <a:rPr b="0" lang="ru-RU" sz="4800" spc="-1" strike="noStrike">
                <a:solidFill>
                  <a:srgbClr val="00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2" descr="D:\truth.jpg"/>
          <p:cNvPicPr/>
          <p:nvPr/>
        </p:nvPicPr>
        <p:blipFill>
          <a:blip r:embed="rId1"/>
          <a:stretch/>
        </p:blipFill>
        <p:spPr>
          <a:xfrm>
            <a:off x="3708360" y="3573360"/>
            <a:ext cx="2232000" cy="30243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9760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00"/>
                </a:solidFill>
                <a:latin typeface="Tahoma"/>
              </a:rPr>
              <a:t>Гра – імітація «Життя в новій державі»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Уявіть, що ви з друзями  опинилися  на безлюдному острові  і вирішили  утворити там  нову  державу. Складіть  перелік  із п’яти прав, які, на вашу думку, повинні бути гарантовані в цій державі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4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2d050"/>
                </a:solidFill>
                <a:latin typeface="Tahoma"/>
              </a:rPr>
              <a:t>Гра «Політ на повітряній кулі»</a:t>
            </a:r>
            <a:r>
              <a:rPr b="0" lang="uk-UA" sz="2800" spc="-1" strike="noStrike">
                <a:solidFill>
                  <a:srgbClr val="92d050"/>
                </a:solidFill>
                <a:latin typeface="Tahom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Tahoma"/>
              </a:rPr>
              <a:t>«право на освіту»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Tahoma"/>
              </a:rPr>
              <a:t>«право на житло»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Tahoma"/>
              </a:rPr>
              <a:t>«право на свободу слова»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Tahoma"/>
              </a:rPr>
              <a:t>«право на рівність перед законом»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Tahoma"/>
              </a:rPr>
              <a:t>«право на життя»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Tahoma"/>
              </a:rPr>
              <a:t>«право на громадянство»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Tahoma"/>
              </a:rPr>
              <a:t>«право на свободу думки і релігії»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Tahoma"/>
              </a:rPr>
              <a:t>«право на охорону здоров'я»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Tahoma"/>
              </a:rPr>
              <a:t>«право заснувати сім'ю (укласти шлюб)»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Tahoma"/>
              </a:rPr>
              <a:t>«право на соціальне забезпечення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2" descr="D:\cfe9f89e0d0b.jpg"/>
          <p:cNvPicPr/>
          <p:nvPr/>
        </p:nvPicPr>
        <p:blipFill>
          <a:blip r:embed="rId1"/>
          <a:stretch/>
        </p:blipFill>
        <p:spPr>
          <a:xfrm>
            <a:off x="5940360" y="105264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00"/>
                </a:solidFill>
                <a:latin typeface="Tahoma"/>
              </a:rPr>
              <a:t>Проект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4760"/>
            <a:ext cx="8229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uk-UA" sz="4800" spc="-1" strike="noStrike">
                <a:solidFill>
                  <a:srgbClr val="00ffff"/>
                </a:solidFill>
                <a:latin typeface="Tahoma"/>
              </a:rPr>
              <a:t>« Перлини мудрості »</a:t>
            </a:r>
            <a:r>
              <a:rPr b="0" i="1" lang="uk-UA" sz="4800" spc="-1" strike="noStrike">
                <a:solidFill>
                  <a:srgbClr val="00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3" descr="D:\oyster.jpg"/>
          <p:cNvPicPr/>
          <p:nvPr/>
        </p:nvPicPr>
        <p:blipFill>
          <a:blip r:embed="rId1"/>
          <a:stretch/>
        </p:blipFill>
        <p:spPr>
          <a:xfrm>
            <a:off x="2195640" y="3068640"/>
            <a:ext cx="4914720" cy="332424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Tahoma"/>
              </a:rPr>
              <a:t>Вільний мікрофон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195640" y="2636640"/>
            <a:ext cx="6697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ffff"/>
                </a:solidFill>
                <a:latin typeface="Tahoma"/>
              </a:rPr>
              <a:t>Як ви розумієте поняття «права людини»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5" descr="D:\0a13689df77415c743ba77f0587507d3.jpg"/>
          <p:cNvPicPr/>
          <p:nvPr/>
        </p:nvPicPr>
        <p:blipFill>
          <a:blip r:embed="rId1"/>
          <a:stretch/>
        </p:blipFill>
        <p:spPr>
          <a:xfrm>
            <a:off x="5796000" y="330120"/>
            <a:ext cx="2903400" cy="2179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D:\10834_html_m7ea0f073.jpg"/>
          <p:cNvPicPr/>
          <p:nvPr/>
        </p:nvPicPr>
        <p:blipFill>
          <a:blip r:embed="rId2"/>
          <a:stretch/>
        </p:blipFill>
        <p:spPr>
          <a:xfrm>
            <a:off x="250920" y="4508640"/>
            <a:ext cx="1996920" cy="19969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00"/>
                </a:solidFill>
                <a:latin typeface="Tahoma"/>
              </a:rPr>
              <a:t>Вільний мікрофон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95640" y="2636640"/>
            <a:ext cx="6697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ffff"/>
                </a:solidFill>
                <a:latin typeface="Tahoma"/>
              </a:rPr>
              <a:t>У чому, на вашу думку, виявляється  відповідальність людини перед суспільством що забезпечує її прав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5" descr="D:\0a13689df77415c743ba77f0587507d3.jpg"/>
          <p:cNvPicPr/>
          <p:nvPr/>
        </p:nvPicPr>
        <p:blipFill>
          <a:blip r:embed="rId1"/>
          <a:stretch/>
        </p:blipFill>
        <p:spPr>
          <a:xfrm>
            <a:off x="5796000" y="330120"/>
            <a:ext cx="2903400" cy="217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D:\10834_html_m7ea0f073.jpg"/>
          <p:cNvPicPr/>
          <p:nvPr/>
        </p:nvPicPr>
        <p:blipFill>
          <a:blip r:embed="rId2"/>
          <a:stretch/>
        </p:blipFill>
        <p:spPr>
          <a:xfrm>
            <a:off x="250920" y="4508640"/>
            <a:ext cx="1996920" cy="19969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1T15:37:26Z</dcterms:created>
  <dc:creator>host</dc:creator>
  <dc:description/>
  <dc:language>en-US</dc:language>
  <cp:lastModifiedBy>Oksana</cp:lastModifiedBy>
  <dcterms:modified xsi:type="dcterms:W3CDTF">2019-03-04T17:42:46Z</dcterms:modified>
  <cp:revision>29</cp:revision>
  <dc:subject/>
  <dc:title>Досвід роботи вчителя історії та правознавства Кожушко Ольги Миколаївни</dc:title>
</cp:coreProperties>
</file>