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6B2-B128-4E3F-A4FE-036071B3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9F1-54C5-44A8-9C93-1647DD4B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7E3A0-7947-4EB5-9282-64B7491E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27860-D20D-4D81-81A1-25771FBD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D21C0-3ABC-425F-9366-33456F56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00651-EFF6-44B8-BBFE-46E347B5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D8ED4-DD49-464E-8277-454BDBF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BB5B7-3D20-4B77-865D-875037A0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9AED5-EC30-4FEA-8518-2C837F22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BA2B2-D315-40A4-ACB8-FDC16154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01972-3ED0-4112-B301-E9E97C9D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A57-5463-4330-AADA-5D98D2F5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93D-8452-4229-978F-4E492514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7036-7E92-490B-9E1B-863448AE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AE9F-5340-48E8-96AD-6B5EF5CD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8654-DEB7-4357-ACED-723AC8D7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C69C-E255-4660-BED5-F91AB00B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0032-CBF6-4C21-A17B-578B69DE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E072-8D8D-44B2-83E4-17943C32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8A9E-7D66-4F81-BC27-497BB1D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225-D2B4-45E3-9A4A-9947EC7E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F4E5-C933-4B84-9860-DF71C1D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B9D1-0899-499E-B22E-F007BA98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42FF-6FE4-4C92-8BAB-FC097DB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54E1-AC07-4025-ADD9-518EFC40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1AB8-4CAF-4E38-A21C-819F7F00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602D-4D81-4860-88EC-610C69CA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1E5AE-B5A9-47BB-B885-DE631F62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1504-A74B-4928-A09E-5BC9FC3D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9F10-32EB-46BB-9F33-85A2B313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4093-4F7E-4CEF-8188-2B64B45A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80B-C9D5-4599-A1D0-D47A8606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4AB5-FCA8-40C1-90F8-0E52E025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9BA4-7771-48CE-B464-3980CF2E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5380-F4C7-4F1B-8871-368AF18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02AE-B264-4AB6-921C-155DFDB7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F1CF-3781-41AC-8E37-3C88A3E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F8C1-40AA-4A1B-B773-C340FF4E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6A5A-EC22-45A7-81B6-C7468B76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CA98-69DC-4AA5-B017-BE40FE04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2D901-5F2F-4B63-AA1C-B8A2DE59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7DB6-5986-4B3B-8C6C-C80D96C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2D9-575D-4E01-8A40-C3245BF3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15DDE-9E34-475D-BA4F-3CCA575E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1F39-C7B3-4E3F-BDF4-46297BA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AAE6A-B8B4-4276-8EA8-2181EE3A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8E8A-DA5A-485A-A0AA-11BB5EC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3DB1-866F-4BD8-ACCC-54FD330C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B561-CCAA-4F6E-88B6-6BBCBFC2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11206-4C19-4B81-AE32-0EB2AF0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FE26F-ADA2-4FA4-A2F6-4F5CD5E8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925D-B6AA-4154-8619-86199494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3EB8E-5892-4644-BD3A-C9427414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68B-AEE8-481B-BB63-7E3FC021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80E92-27B0-4E91-A6BE-6AB07974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62D37-EE0C-4175-9222-5E323F9D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F5567-9C34-4FE5-B102-F3752B39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CD96-3ED4-47D8-A42A-D238FF3F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034C-3F26-43E5-9359-A45AF98B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F5B6B-76D8-4052-9CF6-A5055F4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37D2D-F990-45AC-8415-8FBA84F4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CB5CD-08D9-4E1B-9C30-503E043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94C5-5DBD-4AA8-A62E-10F450D1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2FA0-6A32-4384-A647-A98C158E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21C-AD94-45E2-B958-52C9D415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A5A97-3176-4818-B110-48A8AD14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D0503-BFE9-4F0B-9764-C08598B2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13803-051C-4516-95B5-CFFE76BB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1A8FF-966F-41C5-A4D6-9837FEF6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EA6B0-1C6B-413A-A18E-2E406F11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E5D6-8EF4-4FE7-920C-BF635894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9DD5B-EEDA-47B4-847D-A0CF523D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58998-4001-40C2-AF96-19750E27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AB2C9-1CCD-47A0-BBC5-D04CCFC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717BA-8A7B-4377-9717-1B754BF4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03E-EE36-4DD1-8D02-54DF5569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FC3C6-C58D-4A34-AB86-B27DC253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D21AB-B551-4132-A482-3FC34E77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2BC5E-A7F2-4DFE-9258-1FA3BD8A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09EA1-9F8B-45F9-A0B2-789CBB48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B188B-0FE8-4BC4-AA18-0026A7BA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86672-F1AE-42B6-9732-5B1D1502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C01D1-E495-4810-BA33-CA14154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F959A-7377-4ED3-AC6B-A51B9869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D323D-9945-4B40-82CE-76B1086A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1FCA5-5EA3-40A6-87C8-8CA0C7F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817-9651-4DD8-9C92-4F573C5F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72F62-D549-4F17-AF7F-5E9F05B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48D9D-7386-4B08-98A9-D87EE06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56B9A-7513-4AE1-A643-209C4870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CA015-08DF-4FBC-A899-D3131739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024F-7C18-48D6-94C2-F28DC29D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986A2-0456-41F0-88BD-1309EB6C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AD49-85B1-422F-92A6-D503BEE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22D98-2D9E-472F-A602-E81F998F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CE577-4941-4C4E-B619-DBFBA94B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B27FF-D047-425C-9180-8D22F8F3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011-8AB9-4943-98E0-5BD83DE8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B19A-E8AA-44F8-93CC-CA7DAFC6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C99EC-AEF5-4490-8836-1217891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F825-1E1B-4460-BE3B-94E29DB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DEA75-CB5F-43DD-8C00-CF40B397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2CB3B-CDEA-4A09-B1AE-FD403E70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2A704-0738-4AD7-8C75-D94D5E1C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40CC6-32F6-4A7D-8636-B01AB9CB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B2FF8-A24C-4739-AFEF-28AC0FDD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2DC1D-EF52-48ED-82E7-4A04D56B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FD01B-E877-426D-8717-E5099DBF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409B-A8F3-4DCF-B54F-376070BA6E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E42B-D0E6-4BBE-BAEB-3426970561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099B-E05F-4F18-BE87-D68DD616E8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E5DD-6B84-4502-A66D-FE8D913918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0A1C-B750-4E0E-B91D-A94CC01678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1171-20B8-4ADC-97F5-14A3C35F8F4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52CC-92F1-45F3-98C6-4D4350B931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5A06-264F-49CC-BA9C-E080AFC76C8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867B-DC13-4BB3-8CF0-4A829EFF74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317520" y="1901880"/>
            <a:ext cx="91440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9" name="Прямая со стрелкой 5"/>
          <p:cNvCxnSpPr/>
          <p:nvPr/>
        </p:nvCxnSpPr>
        <p:spPr>
          <a:xfrm>
            <a:off x="2124000" y="4581000"/>
            <a:ext cx="561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Прямая со стрелкой 7"/>
          <p:cNvCxnSpPr/>
          <p:nvPr/>
        </p:nvCxnSpPr>
        <p:spPr>
          <a:xfrm flipV="1">
            <a:off x="2123640" y="980280"/>
            <a:ext cx="1080" cy="360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1" name="Прямая соединительная линия 9"/>
          <p:cNvSpPr/>
          <p:nvPr/>
        </p:nvSpPr>
        <p:spPr>
          <a:xfrm>
            <a:off x="262728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1"/>
          <p:cNvSpPr/>
          <p:nvPr/>
        </p:nvSpPr>
        <p:spPr>
          <a:xfrm>
            <a:off x="313200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2"/>
          <p:cNvSpPr/>
          <p:nvPr/>
        </p:nvSpPr>
        <p:spPr>
          <a:xfrm>
            <a:off x="363528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3"/>
          <p:cNvSpPr/>
          <p:nvPr/>
        </p:nvSpPr>
        <p:spPr>
          <a:xfrm>
            <a:off x="414036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14"/>
          <p:cNvSpPr/>
          <p:nvPr/>
        </p:nvSpPr>
        <p:spPr>
          <a:xfrm>
            <a:off x="464328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15"/>
          <p:cNvSpPr/>
          <p:nvPr/>
        </p:nvSpPr>
        <p:spPr>
          <a:xfrm>
            <a:off x="514836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16"/>
          <p:cNvSpPr/>
          <p:nvPr/>
        </p:nvSpPr>
        <p:spPr>
          <a:xfrm>
            <a:off x="565164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17"/>
          <p:cNvSpPr/>
          <p:nvPr/>
        </p:nvSpPr>
        <p:spPr>
          <a:xfrm>
            <a:off x="7093080" y="2492280"/>
            <a:ext cx="712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Овал 18"/>
          <p:cNvSpPr/>
          <p:nvPr/>
        </p:nvSpPr>
        <p:spPr>
          <a:xfrm>
            <a:off x="2627280" y="42926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22"/>
          <p:cNvSpPr/>
          <p:nvPr/>
        </p:nvSpPr>
        <p:spPr>
          <a:xfrm flipV="1">
            <a:off x="3851280" y="378936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23"/>
          <p:cNvSpPr/>
          <p:nvPr/>
        </p:nvSpPr>
        <p:spPr>
          <a:xfrm flipV="1">
            <a:off x="4643280" y="34995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27"/>
          <p:cNvSpPr/>
          <p:nvPr/>
        </p:nvSpPr>
        <p:spPr>
          <a:xfrm>
            <a:off x="615636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28"/>
          <p:cNvSpPr/>
          <p:nvPr/>
        </p:nvSpPr>
        <p:spPr>
          <a:xfrm>
            <a:off x="665964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29"/>
          <p:cNvSpPr/>
          <p:nvPr/>
        </p:nvSpPr>
        <p:spPr>
          <a:xfrm>
            <a:off x="7164360" y="4508640"/>
            <a:ext cx="0" cy="1443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30"/>
          <p:cNvSpPr/>
          <p:nvPr/>
        </p:nvSpPr>
        <p:spPr>
          <a:xfrm flipH="1">
            <a:off x="2050920" y="4076640"/>
            <a:ext cx="144720" cy="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31"/>
          <p:cNvSpPr/>
          <p:nvPr/>
        </p:nvSpPr>
        <p:spPr>
          <a:xfrm flipH="1">
            <a:off x="2050920" y="3573360"/>
            <a:ext cx="144720" cy="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32"/>
          <p:cNvSpPr/>
          <p:nvPr/>
        </p:nvSpPr>
        <p:spPr>
          <a:xfrm flipH="1">
            <a:off x="2050920" y="3068640"/>
            <a:ext cx="144720" cy="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33"/>
          <p:cNvSpPr/>
          <p:nvPr/>
        </p:nvSpPr>
        <p:spPr>
          <a:xfrm flipH="1">
            <a:off x="2050920" y="2565360"/>
            <a:ext cx="144720" cy="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40"/>
          <p:cNvSpPr/>
          <p:nvPr/>
        </p:nvSpPr>
        <p:spPr>
          <a:xfrm flipV="1">
            <a:off x="2411280" y="2421000"/>
            <a:ext cx="4969080" cy="20160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2050920" y="4591800"/>
            <a:ext cx="67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0        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200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Calibri"/>
              </a:rPr>
              <a:t> 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400       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600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Calibri"/>
              </a:rPr>
              <a:t> 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800          1000        1200       1400        1600        1800        2000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1619280" y="2297160"/>
            <a:ext cx="43164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45"/>
          <p:cNvSpPr/>
          <p:nvPr/>
        </p:nvSpPr>
        <p:spPr>
          <a:xfrm>
            <a:off x="1763640" y="83664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Овал 46"/>
          <p:cNvSpPr/>
          <p:nvPr/>
        </p:nvSpPr>
        <p:spPr>
          <a:xfrm flipV="1">
            <a:off x="5867280" y="2996640"/>
            <a:ext cx="73080" cy="45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48"/>
          <p:cNvSpPr/>
          <p:nvPr/>
        </p:nvSpPr>
        <p:spPr>
          <a:xfrm flipH="1">
            <a:off x="2123640" y="3851280"/>
            <a:ext cx="1738440" cy="936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52"/>
          <p:cNvSpPr/>
          <p:nvPr/>
        </p:nvSpPr>
        <p:spPr>
          <a:xfrm flipH="1">
            <a:off x="2123640" y="3562200"/>
            <a:ext cx="2530440" cy="1116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54"/>
          <p:cNvSpPr/>
          <p:nvPr/>
        </p:nvSpPr>
        <p:spPr>
          <a:xfrm flipH="1">
            <a:off x="2124000" y="3043080"/>
            <a:ext cx="3780000" cy="2556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133200" y="255600"/>
            <a:ext cx="8864640" cy="1049400"/>
          </a:xfrm>
          <a:prstGeom prst="rect">
            <a:avLst/>
          </a:prstGeom>
          <a:ln w="0">
            <a:noFill/>
          </a:ln>
        </p:spPr>
      </p:pic>
      <p:sp>
        <p:nvSpPr>
          <p:cNvPr id="458" name="Прямоугольник 1"/>
          <p:cNvSpPr/>
          <p:nvPr/>
        </p:nvSpPr>
        <p:spPr>
          <a:xfrm>
            <a:off x="1187280" y="1125360"/>
            <a:ext cx="684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 + 7х,          у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+ 6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116000" y="2060640"/>
          <a:ext cx="6264360" cy="2454120"/>
        </p:xfrm>
        <a:graphic>
          <a:graphicData uri="http://schemas.openxmlformats.org/drawingml/2006/table">
            <a:tbl>
              <a:tblPr/>
              <a:tblGrid>
                <a:gridCol w="695160"/>
                <a:gridCol w="2714760"/>
                <a:gridCol w="285444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1116000" y="2060640"/>
          <a:ext cx="6264360" cy="2454120"/>
        </p:xfrm>
        <a:graphic>
          <a:graphicData uri="http://schemas.openxmlformats.org/drawingml/2006/table">
            <a:tbl>
              <a:tblPr/>
              <a:tblGrid>
                <a:gridCol w="695160"/>
                <a:gridCol w="2714760"/>
                <a:gridCol w="285444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116000" y="2060640"/>
          <a:ext cx="6264360" cy="2454120"/>
        </p:xfrm>
        <a:graphic>
          <a:graphicData uri="http://schemas.openxmlformats.org/drawingml/2006/table">
            <a:tbl>
              <a:tblPr/>
              <a:tblGrid>
                <a:gridCol w="695160"/>
                <a:gridCol w="2714760"/>
                <a:gridCol w="285444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1116000" y="2060640"/>
          <a:ext cx="6264360" cy="2454120"/>
        </p:xfrm>
        <a:graphic>
          <a:graphicData uri="http://schemas.openxmlformats.org/drawingml/2006/table">
            <a:tbl>
              <a:tblPr/>
              <a:tblGrid>
                <a:gridCol w="695160"/>
                <a:gridCol w="2714760"/>
                <a:gridCol w="285444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1116000" y="2060640"/>
          <a:ext cx="6264360" cy="2454120"/>
        </p:xfrm>
        <a:graphic>
          <a:graphicData uri="http://schemas.openxmlformats.org/drawingml/2006/table">
            <a:tbl>
              <a:tblPr/>
              <a:tblGrid>
                <a:gridCol w="695160"/>
                <a:gridCol w="2714760"/>
                <a:gridCol w="285444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1116000" y="2060640"/>
          <a:ext cx="6264360" cy="2454120"/>
        </p:xfrm>
        <a:graphic>
          <a:graphicData uri="http://schemas.openxmlformats.org/drawingml/2006/table">
            <a:tbl>
              <a:tblPr/>
              <a:tblGrid>
                <a:gridCol w="695160"/>
                <a:gridCol w="2714760"/>
                <a:gridCol w="285444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"/>
          <p:cNvGraphicFramePr/>
          <p:nvPr/>
        </p:nvGraphicFramePr>
        <p:xfrm>
          <a:off x="1116000" y="2060640"/>
          <a:ext cx="6264360" cy="2454120"/>
        </p:xfrm>
        <a:graphic>
          <a:graphicData uri="http://schemas.openxmlformats.org/drawingml/2006/table">
            <a:tbl>
              <a:tblPr/>
              <a:tblGrid>
                <a:gridCol w="695160"/>
                <a:gridCol w="2714760"/>
                <a:gridCol w="285444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вид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133200" y="182520"/>
            <a:ext cx="8864640" cy="11286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риватний підприємець платить менеджеру за х кг проданого товар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Rectangle 1"/>
          <p:cNvSpPr/>
          <p:nvPr/>
        </p:nvSpPr>
        <p:spPr>
          <a:xfrm>
            <a:off x="1068120" y="263988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 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0,5х+1,  х≥10 гр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Левая фигурная скобка 4"/>
          <p:cNvSpPr/>
          <p:nvPr/>
        </p:nvSpPr>
        <p:spPr>
          <a:xfrm>
            <a:off x="1258920" y="263700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1800 h 792000"/>
              <a:gd name="textAreaBottom" fmla="*/ 790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103320" y="311040"/>
            <a:ext cx="8894520" cy="114624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2"/>
          <p:cNvSpPr/>
          <p:nvPr/>
        </p:nvSpPr>
        <p:spPr>
          <a:xfrm>
            <a:off x="468360" y="134136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місячна плата за оренду магазина становить 2000 грн. Запишіть у вигляді формули залежність загальної суми коштів, що підприємець витрачає на оренду приміщення протягом року від кожного місяця. Побудуйте графік отриманої функ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2"/>
          <a:srcRect l="30150" t="20725" r="1378" b="0"/>
          <a:stretch/>
        </p:blipFill>
        <p:spPr>
          <a:xfrm>
            <a:off x="4211640" y="2924280"/>
            <a:ext cx="4248000" cy="3335400"/>
          </a:xfrm>
          <a:prstGeom prst="rect">
            <a:avLst/>
          </a:prstGeom>
          <a:ln w="0">
            <a:noFill/>
          </a:ln>
        </p:spPr>
      </p:pic>
      <p:sp>
        <p:nvSpPr>
          <p:cNvPr id="473" name="Прямоугольник 4"/>
          <p:cNvSpPr/>
          <p:nvPr/>
        </p:nvSpPr>
        <p:spPr>
          <a:xfrm>
            <a:off x="767520" y="3645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2000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539640" y="3961440"/>
            <a:ext cx="36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– пряма, д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ісяці від 1 до 1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загальна сума коштів у тис.гр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133200" y="255600"/>
            <a:ext cx="8864640" cy="1049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навчальна: </a:t>
            </a:r>
            <a:r>
              <a:rPr b="0" lang="uk-UA" sz="2000" spc="-1" strike="noStrike">
                <a:solidFill>
                  <a:srgbClr val="4e3b30"/>
                </a:solidFill>
                <a:latin typeface="Bookman Old Style"/>
              </a:rPr>
              <a:t>закріпити вміння та навички будувати й читати графіки лінійних функцій, сформувати елементи фінансової грамотності через ознайомлення учнів з підприємницькою діяльніст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розвивальна:</a:t>
            </a:r>
            <a:r>
              <a:rPr b="0" lang="uk-UA" sz="2000" spc="-1" strike="noStrike">
                <a:solidFill>
                  <a:srgbClr val="4e3b30"/>
                </a:solidFill>
                <a:latin typeface="Bookman Old Style"/>
              </a:rPr>
              <a:t> розвивати уважність, самостійність, обчислювальні навички, пізнавальний інтерес до вивчення математики та вміння працювати у групах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виховна: </a:t>
            </a:r>
            <a:r>
              <a:rPr b="0" lang="uk-UA" sz="2000" spc="-1" strike="noStrike">
                <a:solidFill>
                  <a:srgbClr val="4e3b30"/>
                </a:solidFill>
                <a:latin typeface="Bookman Old Style"/>
              </a:rPr>
              <a:t>виховувати почуття відповідальності, культуру спілкуванн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133200" y="414360"/>
            <a:ext cx="8864640" cy="10303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2400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а  “ Вірю - не вірю»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нійна функція – це функція, яку можна задати формулою у = kx + b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k – аргумент, х і b – дані числ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ом лінійної функції є крива лінія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будови прямої, яка є графіком будь-якої лінійної функції достатньо знати координату однієї точк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нійна функція – це функція, яка задається формулою у = kx + b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х – аргумент, k i b – дані числ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рне твердження, що область визначення функції – це всі значення, які приймає аргумент функції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функції y = кх - пряма, яка не проходить через початок координа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в лінійній функції більшому значенню аргументу відповідає менше значення функції, то така функція - спадн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рне твердження, що лінійна функція вигляду y = kx називається прямою пропорційністю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"/>
          <p:cNvSpPr/>
          <p:nvPr/>
        </p:nvSpPr>
        <p:spPr>
          <a:xfrm>
            <a:off x="0" y="11268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найбільше запам’яталося ва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корисною була для вас інформаці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що розглядалось на уроці, я зрозумів на ______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багатив мене урок новими знаннями:  Так    Ні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трібне підкресліть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ацював на уроці на ______%  і заслуговую оцінку 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потрібна мені буде допомога при виконанні домашнього завдання: Так  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133200" y="378000"/>
            <a:ext cx="8864640" cy="10299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іть задачу, яка б стосувалася підприємницької діяльності та розв’язувалася б за допомогою лінійної функції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09440" y="328680"/>
            <a:ext cx="8832960" cy="10000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108000" y="1247400"/>
            <a:ext cx="8928000" cy="49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269640">
              <a:lnSpc>
                <a:spcPct val="10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конати тестові завданн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Виберіть формулу, якою задають лінійну функцію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) у=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kx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;      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bx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;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в) у=х</a:t>
            </a:r>
            <a:r>
              <a:rPr b="0" lang="uk-UA" sz="16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;    г) інша відповід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а з функцій є лінійною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) у=3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5;       б)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y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x</a:t>
            </a:r>
            <a:r>
              <a:rPr b="0" lang="ru-RU" sz="16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;              в) у=х</a:t>
            </a:r>
            <a:r>
              <a:rPr b="0" lang="uk-UA" sz="16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4; г) інша відповід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3.  Яка лінія є графіком лінійної функції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) крива;       б) коло;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в) пряма;       г) ламан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 Координати скількох точок треба знати, щоб побудувати графік лінійної функції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) трьох;        б) двох;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в) однієї;    г) п’яти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5. У лінійної функції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k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&lt;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0. Як веде себе функція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) спадає;     б) зростає;         в) стала;   г) інша відповід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6. У лінійної функції 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k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&gt;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0. Який кут нахилу утворює пряма з додатним напрямом осі </a:t>
            </a:r>
            <a:r>
              <a:rPr b="0" i="1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Х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69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) гострий;   б) тупий;       в) прямий;    г) розгорнутий.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95280" y="549360"/>
            <a:ext cx="82803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ти тестові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1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Виберіть формулу, якою задають лінійну функці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а) у=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x</a:t>
            </a:r>
            <a:r>
              <a:rPr b="0" lang="ru-RU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;      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x</a:t>
            </a:r>
            <a:r>
              <a:rPr b="0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bx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;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в) у=х</a:t>
            </a:r>
            <a:r>
              <a:rPr b="0" lang="uk-UA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;    г) інша відпові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а з функцій є лінійно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а) у=3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+</a:t>
            </a:r>
            <a:r>
              <a:rPr b="0" lang="uk-UA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5;      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=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x</a:t>
            </a:r>
            <a:r>
              <a:rPr b="0" lang="ru-RU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;              в) у=х</a:t>
            </a:r>
            <a:r>
              <a:rPr b="0" lang="uk-UA" sz="1800" spc="-1" strike="noStrike" baseline="30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4;     г) інша відпові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3.  Яка лінія є графіком лінійної функці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) крива;       б) коло;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</a:t>
            </a:r>
            <a:r>
              <a:rPr b="0" lang="uk-UA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в) пряма;      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) лам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 Координати скількох точок треба знати, щоб побудувати графік лінійної функці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) трьох;        </a:t>
            </a:r>
            <a:r>
              <a:rPr b="0" lang="uk-UA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б) двох;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в) однієї;    г) п’я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5. У лінійної функції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&lt;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0. Як веде себе функці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а) спадає;    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б) зростає;         в) стала;   г) інша відпові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6. У лінійної функції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&gt;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0. Який кут нахилу утворює пряма з додатним напрямом осі 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а) гострий;  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б) тупий;       в) прямий;    г) розгорнутий.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901800" y="1469880"/>
            <a:ext cx="6910200" cy="4046760"/>
          </a:xfrm>
          <a:prstGeom prst="roundRect">
            <a:avLst>
              <a:gd name="adj" fmla="val 16676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 є лінійною функція, задана формуло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+ 3 ;                                4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 -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;                                5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4 –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² + 1 ;                              6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ля  лінійних функцій назвіть знач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оефіцієнтів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"/>
          <p:cNvSpPr/>
          <p:nvPr/>
        </p:nvSpPr>
        <p:spPr>
          <a:xfrm>
            <a:off x="826920" y="549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Знайди зай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7" descr="Пояснення"/>
          <p:cNvPicPr/>
          <p:nvPr/>
        </p:nvPicPr>
        <p:blipFill>
          <a:blip r:embed="rId1"/>
          <a:stretch/>
        </p:blipFill>
        <p:spPr>
          <a:xfrm>
            <a:off x="324000" y="4797360"/>
            <a:ext cx="23079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utoShape 8"/>
          <p:cNvSpPr/>
          <p:nvPr/>
        </p:nvSpPr>
        <p:spPr>
          <a:xfrm>
            <a:off x="1042920" y="1341360"/>
            <a:ext cx="6694560" cy="4046760"/>
          </a:xfrm>
          <a:prstGeom prst="roundRect">
            <a:avLst>
              <a:gd name="adj" fmla="val 16676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якому рисунку графік побудовано правиль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" descr=""/>
          <p:cNvPicPr/>
          <p:nvPr/>
        </p:nvPicPr>
        <p:blipFill>
          <a:blip r:embed="rId1"/>
          <a:stretch/>
        </p:blipFill>
        <p:spPr>
          <a:xfrm>
            <a:off x="1459080" y="2708280"/>
            <a:ext cx="1414440" cy="14414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2" descr=""/>
          <p:cNvPicPr/>
          <p:nvPr/>
        </p:nvPicPr>
        <p:blipFill>
          <a:blip r:embed="rId2"/>
          <a:stretch/>
        </p:blipFill>
        <p:spPr>
          <a:xfrm>
            <a:off x="3635280" y="2708280"/>
            <a:ext cx="1297080" cy="1442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5"/>
          <p:cNvSpPr/>
          <p:nvPr/>
        </p:nvSpPr>
        <p:spPr>
          <a:xfrm>
            <a:off x="4459320" y="13611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4437360" y="239940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3" descr=""/>
          <p:cNvPicPr/>
          <p:nvPr/>
        </p:nvPicPr>
        <p:blipFill>
          <a:blip r:embed="rId3"/>
          <a:stretch/>
        </p:blipFill>
        <p:spPr>
          <a:xfrm>
            <a:off x="5724360" y="2708280"/>
            <a:ext cx="1368720" cy="14508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9"/>
          <p:cNvSpPr/>
          <p:nvPr/>
        </p:nvSpPr>
        <p:spPr>
          <a:xfrm>
            <a:off x="1258920" y="2205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2х+1                      у = -2х+1                    у = 0,5х+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0"/>
          <p:cNvSpPr/>
          <p:nvPr/>
        </p:nvSpPr>
        <p:spPr>
          <a:xfrm>
            <a:off x="104292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и поми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1"/>
          <p:cNvSpPr/>
          <p:nvPr/>
        </p:nvSpPr>
        <p:spPr>
          <a:xfrm>
            <a:off x="1476360" y="422100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                                        рис.2                                       рис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7" descr="Пояснення"/>
          <p:cNvPicPr/>
          <p:nvPr/>
        </p:nvPicPr>
        <p:blipFill>
          <a:blip r:embed="rId4"/>
          <a:stretch/>
        </p:blipFill>
        <p:spPr>
          <a:xfrm>
            <a:off x="6875640" y="4941720"/>
            <a:ext cx="20890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1547640" y="1484280"/>
            <a:ext cx="6120000" cy="4753080"/>
          </a:xfrm>
          <a:prstGeom prst="roundRect">
            <a:avLst>
              <a:gd name="adj" fmla="val 16667"/>
            </a:avLst>
          </a:prstGeom>
          <a:solidFill>
            <a:srgbClr val="fbe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baseline="-25000">
                <a:solidFill>
                  <a:srgbClr val="000000"/>
                </a:solidFill>
                <a:latin typeface="Times New Roman"/>
              </a:rPr>
              <a:t>у</a:t>
            </a:r>
            <a:r>
              <a:rPr b="0" i="1" lang="en-US" sz="6000" spc="-1" strike="noStrike" baseline="-25000">
                <a:solidFill>
                  <a:srgbClr val="000000"/>
                </a:solidFill>
                <a:latin typeface="Times New Roman"/>
              </a:rPr>
              <a:t>= 5x – 1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1403280" y="7891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Заповни  пропу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195640" y="3357720"/>
          <a:ext cx="3384360" cy="1008000"/>
        </p:xfrm>
        <a:graphic>
          <a:graphicData uri="http://schemas.openxmlformats.org/drawingml/2006/table">
            <a:tbl>
              <a:tblPr/>
              <a:tblGrid>
                <a:gridCol w="593640"/>
                <a:gridCol w="1351080"/>
                <a:gridCol w="143964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1" name="Picture 17" descr="Пояснення"/>
          <p:cNvPicPr/>
          <p:nvPr/>
        </p:nvPicPr>
        <p:blipFill>
          <a:blip r:embed="rId1"/>
          <a:stretch/>
        </p:blipFill>
        <p:spPr>
          <a:xfrm>
            <a:off x="6588000" y="4797360"/>
            <a:ext cx="2308320" cy="18972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9"/>
          <p:cNvSpPr/>
          <p:nvPr/>
        </p:nvSpPr>
        <p:spPr>
          <a:xfrm>
            <a:off x="2916360" y="39337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4500720" y="34297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33200" y="255600"/>
            <a:ext cx="8864640" cy="1049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372520" cy="3166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Пояснення"/>
          <p:cNvPicPr/>
          <p:nvPr/>
        </p:nvPicPr>
        <p:blipFill>
          <a:blip r:embed="rId3"/>
          <a:stretch/>
        </p:blipFill>
        <p:spPr>
          <a:xfrm>
            <a:off x="6588000" y="4797360"/>
            <a:ext cx="23083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33200" y="212760"/>
            <a:ext cx="8864640" cy="103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рати підприємця для закупівлі продукції на 200 одиниць становлять 100 грн, а на 2 000 одиниць — 800 грн. Знайдіть графічно витрати для закупівлі 700, 1000, 1500 одиниць продукції, вважаючи, що функція витрат ліній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6T15:49:35Z</dcterms:created>
  <dc:creator>User</dc:creator>
  <dc:description/>
  <dc:language>en-US</dc:language>
  <cp:lastModifiedBy>User</cp:lastModifiedBy>
  <dcterms:modified xsi:type="dcterms:W3CDTF">2018-02-07T15:34:23Z</dcterms:modified>
  <cp:revision>22</cp:revision>
  <dc:subject/>
  <dc:title>Слайд 1</dc:title>
</cp:coreProperties>
</file>