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18D4-2EA9-4A09-92E1-6F7BDA3218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9BA8-DB01-40D7-B616-2FA2408A71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3EB-32E5-4585-A7C7-F20560D1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A0C-9233-4377-9CC2-F6900E63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FD8-F85A-4F3F-A926-CFBA6045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497-8F2E-4FB9-BD2A-F2CB90EE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050-5133-431C-B85C-9027D73C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F24-152E-433C-BC99-78E339CC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5CE-3F4B-4408-B256-B579B12F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3FA-EAED-4575-AE65-0442E34F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662-B0B6-44F2-8B61-F74995A1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678-0223-4643-B009-CCE1CF73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B7B-A234-46C4-8B48-FBCF253E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1CD-1BBD-42FE-A8D9-86592121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8EA4-8757-4D26-A8E5-7E45FCB1AEC4}" type="datetime">
              <a:rPr b="0" lang="uk-UA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EA2F-6914-4E6A-B8CC-348EB9CAA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EB8B-6890-45DB-AC58-903BF3F28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хема 2" descr=""/>
          <p:cNvPicPr/>
          <p:nvPr/>
        </p:nvPicPr>
        <p:blipFill>
          <a:blip r:embed="rId1"/>
          <a:stretch/>
        </p:blipFill>
        <p:spPr>
          <a:xfrm>
            <a:off x="195120" y="1268280"/>
            <a:ext cx="8680680" cy="3675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t3.gstatic.com/images?q=tbn:ANd9GcQ2oFAL5zwk6lBkYbN6_URuCouJ349fnBt-sBv1S0bVpqfHUG_9"/>
          <p:cNvPicPr/>
          <p:nvPr/>
        </p:nvPicPr>
        <p:blipFill>
          <a:blip r:embed="rId2"/>
          <a:stretch/>
        </p:blipFill>
        <p:spPr>
          <a:xfrm>
            <a:off x="3924360" y="471168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хема 7" descr=""/>
          <p:cNvPicPr/>
          <p:nvPr/>
        </p:nvPicPr>
        <p:blipFill>
          <a:blip r:embed="rId1"/>
          <a:stretch/>
        </p:blipFill>
        <p:spPr>
          <a:xfrm>
            <a:off x="2146320" y="109440"/>
            <a:ext cx="5864040" cy="132876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8" descr=""/>
          <p:cNvPicPr/>
          <p:nvPr/>
        </p:nvPicPr>
        <p:blipFill>
          <a:blip r:embed="rId2"/>
          <a:stretch/>
        </p:blipFill>
        <p:spPr>
          <a:xfrm>
            <a:off x="2914560" y="1670040"/>
            <a:ext cx="4613400" cy="4584600"/>
          </a:xfrm>
          <a:prstGeom prst="rect">
            <a:avLst/>
          </a:prstGeom>
          <a:ln w="0">
            <a:noFill/>
          </a:ln>
        </p:spPr>
      </p:pic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3A41-A2B6-4159-ABB1-B22C1125F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image102"/>
          <p:cNvPicPr/>
          <p:nvPr/>
        </p:nvPicPr>
        <p:blipFill>
          <a:blip r:embed="rId3"/>
          <a:stretch/>
        </p:blipFill>
        <p:spPr>
          <a:xfrm>
            <a:off x="324000" y="1413000"/>
            <a:ext cx="2663640" cy="2330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хема 6" descr=""/>
          <p:cNvPicPr/>
          <p:nvPr/>
        </p:nvPicPr>
        <p:blipFill>
          <a:blip r:embed="rId1"/>
          <a:stretch/>
        </p:blipFill>
        <p:spPr>
          <a:xfrm>
            <a:off x="378000" y="274680"/>
            <a:ext cx="8321400" cy="1146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81040" y="126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1807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композиція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 - наука про узгодження складових об'єкта для надання йому зовнішньої привабливості та функціональності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1080" indent="1807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колористика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наука про колір, його властивості, особливості сприйняття кольорі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1080" indent="1807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ергономіка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 - наука про ефективність використання  пристроїв, засобі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DBE1-48C0-4B11-BC75-E9B6727F60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t1.gstatic.com/images?q=tbn:ANd9GcR0U0zAGmnxMh4hJOlwGvryWZEzkJBnFcas9EB5I3qG3ZeAcA0OKQ"/>
          <p:cNvPicPr/>
          <p:nvPr/>
        </p:nvPicPr>
        <p:blipFill>
          <a:blip r:embed="rId2"/>
          <a:stretch/>
        </p:blipFill>
        <p:spPr>
          <a:xfrm>
            <a:off x="1187280" y="5254560"/>
            <a:ext cx="1733760" cy="12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t2.gstatic.com/images?q=tbn:ANd9GcSKCAsNm3aWhipkty60lYVz8pAC2RtFSLOeiWFpaxUUr7Yf65TTmg"/>
          <p:cNvPicPr/>
          <p:nvPr/>
        </p:nvPicPr>
        <p:blipFill>
          <a:blip r:embed="rId3"/>
          <a:stretch/>
        </p:blipFill>
        <p:spPr>
          <a:xfrm>
            <a:off x="3995640" y="5283360"/>
            <a:ext cx="1582920" cy="121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t1.gstatic.com/images?q=tbn:ANd9GcRCk3USgbhJ0U_JW3u0S4jeUNGgoHE-oWULeQKDFZh71oshj78e6Q"/>
          <p:cNvPicPr/>
          <p:nvPr/>
        </p:nvPicPr>
        <p:blipFill>
          <a:blip r:embed="rId4"/>
          <a:stretch/>
        </p:blipFill>
        <p:spPr>
          <a:xfrm>
            <a:off x="6732720" y="5254560"/>
            <a:ext cx="1368360" cy="1165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хема 5" descr=""/>
          <p:cNvPicPr/>
          <p:nvPr/>
        </p:nvPicPr>
        <p:blipFill>
          <a:blip r:embed="rId1"/>
          <a:stretch/>
        </p:blipFill>
        <p:spPr>
          <a:xfrm>
            <a:off x="1163520" y="274680"/>
            <a:ext cx="698688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8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25480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54F4-CCD2-4ED3-9C05-4C2CD707B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3708360" y="4941720"/>
            <a:ext cx="50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лід зважати на те, що наявність полів у слайда надає відчуття простору, а їх відсутність - зменшує комфортність, створює почуття замкнутост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хема 6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8229600" cy="112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6836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Фізіологи та психологи вже давно займаються вивченням дії світла і кольору на фізичний та емоційний стан людини. Для створення ефективної та гармонійної презентації слід правильно вибрати її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 основний колі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Яку психологічну характеристи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ають кольори і як впливаю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 нервову систе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4B0C-E01B-4AD9-A80C-FA50973CD6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image106"/>
          <p:cNvPicPr/>
          <p:nvPr/>
        </p:nvPicPr>
        <p:blipFill>
          <a:blip r:embed="rId2"/>
          <a:stretch/>
        </p:blipFill>
        <p:spPr>
          <a:xfrm>
            <a:off x="5796000" y="3500280"/>
            <a:ext cx="258300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хема 5" descr=""/>
          <p:cNvPicPr/>
          <p:nvPr/>
        </p:nvPicPr>
        <p:blipFill>
          <a:blip r:embed="rId1"/>
          <a:stretch/>
        </p:blipFill>
        <p:spPr>
          <a:xfrm>
            <a:off x="444600" y="324000"/>
            <a:ext cx="8254800" cy="96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8713800" cy="5400720"/>
          </a:xfrm>
          <a:prstGeom prst="rect">
            <a:avLst/>
          </a:prstGeom>
          <a:ln w="0">
            <a:noFill/>
          </a:ln>
        </p:spPr>
      </p:pic>
      <p:sp>
        <p:nvSpPr>
          <p:cNvPr id="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5F2D-B8F3-45FB-BDAE-C6C947466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6" descr=""/>
          <p:cNvPicPr/>
          <p:nvPr/>
        </p:nvPicPr>
        <p:blipFill>
          <a:blip r:embed="rId1"/>
          <a:stretch/>
        </p:blipFill>
        <p:spPr>
          <a:xfrm>
            <a:off x="444600" y="274680"/>
            <a:ext cx="8254800" cy="1011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На ефективність сприймання тексту в презентаціях значно впливають вид шрифту, його розмір, використання ефектів накреслення та загальний обсяг тексту на слайді презентації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54B4-0554-4EB2-8641-AF1F104538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05:49:19Z</dcterms:created>
  <dc:creator>KEK$</dc:creator>
  <dc:description/>
  <dc:language>en-US</dc:language>
  <cp:lastModifiedBy>Викусичка</cp:lastModifiedBy>
  <dcterms:modified xsi:type="dcterms:W3CDTF">2017-03-14T11:12:31Z</dcterms:modified>
  <cp:revision>42</cp:revision>
  <dc:subject/>
  <dc:title>Вивчаємо інформатику</dc:title>
</cp:coreProperties>
</file>