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.gif" ContentType="image/gif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9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4.gif" ContentType="image/gif"/>
  <Override PartName="/ppt/media/image11.jpeg" ContentType="image/jpe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78DB-12E5-4CF0-A1DF-55B9A3D0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A28E-FA7E-44D9-9D67-0AED78E5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D90-204D-44D3-9753-8B6B4598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7BF-5E06-40C4-9423-0AC34F20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F6A-13C2-4957-AE35-33E9DB90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7E8-DE50-4EC1-8114-9477B926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169-5685-402F-80AF-423888C2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49D-807A-4A3C-AC74-F5BB3B10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31E-EB8B-4BE1-92C7-0EA246A6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F27-F590-4AFA-9118-CB3B8288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5C9D-D100-4CED-8893-4F3C6B7B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B8B-34F6-4035-8C68-6041418F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76"/>
            </a:gs>
            <a:gs pos="50000">
              <a:srgbClr val="ffccff"/>
            </a:gs>
            <a:gs pos="100000">
              <a:srgbClr val="76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521D-E77D-4133-B87C-C3F905F6EC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324000" y="-33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258920" y="2492280"/>
            <a:ext cx="3889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Знання -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411280" y="468360"/>
            <a:ext cx="3240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тич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удрість говор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6135840" y="359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7020000" y="1197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25"/>
          <p:cNvSpPr txBox="1"/>
          <p:nvPr/>
        </p:nvSpPr>
        <p:spPr>
          <a:xfrm>
            <a:off x="5003640" y="3789360"/>
            <a:ext cx="331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 сил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Picture 30" descr=""/>
          <p:cNvPicPr/>
          <p:nvPr/>
        </p:nvPicPr>
        <p:blipFill>
          <a:blip r:embed="rId2"/>
          <a:stretch/>
        </p:blipFill>
        <p:spPr>
          <a:xfrm>
            <a:off x="5867280" y="260280"/>
            <a:ext cx="3083040" cy="280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2" descr="08"/>
          <p:cNvPicPr/>
          <p:nvPr/>
        </p:nvPicPr>
        <p:blipFill>
          <a:blip r:embed="rId3"/>
          <a:stretch/>
        </p:blipFill>
        <p:spPr>
          <a:xfrm>
            <a:off x="971640" y="3716280"/>
            <a:ext cx="3663720" cy="240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3780000" y="4653000"/>
            <a:ext cx="153504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4"/>
          <a:stretch/>
        </p:blipFill>
        <p:spPr>
          <a:xfrm>
            <a:off x="7451640" y="0"/>
            <a:ext cx="1487520" cy="1800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1841400" y="1592640"/>
            <a:ext cx="5899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Snap ITC"/>
              </a:rPr>
              <a:t>4.Що називаєть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Snap ITC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Snap ITC"/>
              </a:rPr>
              <a:t>презентацією</a:t>
            </a:r>
            <a:r>
              <a:rPr b="1" lang="ru-RU" sz="5400" spc="-1" strike="noStrike">
                <a:solidFill>
                  <a:srgbClr val="000000"/>
                </a:solidFill>
                <a:latin typeface="comic"/>
              </a:rPr>
              <a:t>?</a:t>
            </a:r>
            <a:r>
              <a:rPr b="1" lang="ru-RU" sz="54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780000" y="4653000"/>
            <a:ext cx="1535040" cy="1785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7451640" y="0"/>
            <a:ext cx="1487520" cy="18003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315360" y="2058840"/>
            <a:ext cx="886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Snap ITC"/>
              </a:rPr>
              <a:t>5.Які вид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Snap ITC"/>
              </a:rPr>
              <a:t>презентацій Ви</a:t>
            </a:r>
            <a:r>
              <a:rPr b="1" lang="ru-RU" sz="5400" spc="-1" strike="noStrike">
                <a:solidFill>
                  <a:srgbClr val="000000"/>
                </a:solidFill>
                <a:latin typeface="Snap ITC"/>
              </a:rPr>
              <a:t> знаєте</a:t>
            </a:r>
            <a:r>
              <a:rPr b="1" lang="uk-UA" sz="5400" spc="-1" strike="noStrike">
                <a:solidFill>
                  <a:srgbClr val="000000"/>
                </a:solidFill>
                <a:latin typeface="comic"/>
              </a:rPr>
              <a:t>?</a:t>
            </a:r>
            <a:r>
              <a:rPr b="1" lang="ru-RU" sz="48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64600" cy="6958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780000" y="4653000"/>
            <a:ext cx="1535040" cy="1785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7451640" y="0"/>
            <a:ext cx="1487520" cy="1800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252720" y="2203560"/>
            <a:ext cx="887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"/>
              </a:rPr>
              <a:t>6.Які способи створен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"/>
              </a:rPr>
              <a:t>презентацій існують?</a:t>
            </a:r>
            <a:r>
              <a:rPr b="1" lang="ru-RU" sz="54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3780000" y="4653000"/>
            <a:ext cx="1535040" cy="1785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7451640" y="0"/>
            <a:ext cx="1487520" cy="1800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-356760" y="2204640"/>
            <a:ext cx="998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omic"/>
              </a:rPr>
              <a:t>7.Які основні етапи створенн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omic"/>
              </a:rPr>
              <a:t>презентації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3780000" y="4653000"/>
            <a:ext cx="1535040" cy="1785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4"/>
          <a:stretch/>
        </p:blipFill>
        <p:spPr>
          <a:xfrm>
            <a:off x="7451640" y="0"/>
            <a:ext cx="14875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179280" y="205884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omic"/>
              </a:rPr>
              <a:t>8.Що та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"/>
              </a:rPr>
              <a:t>Power Point</a:t>
            </a:r>
            <a:r>
              <a:rPr b="0" lang="uk-UA" sz="5400" spc="-1" strike="noStrike">
                <a:solidFill>
                  <a:srgbClr val="000000"/>
                </a:solidFill>
                <a:latin typeface="comic"/>
              </a:rPr>
              <a:t>?</a:t>
            </a:r>
            <a:r>
              <a:rPr b="1" lang="uk-UA" sz="5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780000" y="4653000"/>
            <a:ext cx="1535040" cy="1785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4"/>
          <a:stretch/>
        </p:blipFill>
        <p:spPr>
          <a:xfrm>
            <a:off x="7451640" y="0"/>
            <a:ext cx="1487520" cy="18003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2411280" y="30114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59440" y="2133720"/>
            <a:ext cx="806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Snap ITC"/>
              </a:rPr>
              <a:t>9.Як запустит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Snap ITC"/>
              </a:rPr>
              <a:t>програму </a:t>
            </a:r>
            <a:r>
              <a:rPr b="0" lang="ru-RU" sz="5400" spc="-1" strike="noStrike">
                <a:solidFill>
                  <a:srgbClr val="000000"/>
                </a:solidFill>
                <a:latin typeface="comic"/>
              </a:rPr>
              <a:t>Power Point?</a:t>
            </a:r>
            <a:r>
              <a:rPr b="0" lang="ru-RU" sz="18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75640" cy="721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3780000" y="4653000"/>
            <a:ext cx="1535040" cy="1785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7451640" y="0"/>
            <a:ext cx="1487520" cy="1800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2987640" y="1040760"/>
            <a:ext cx="40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Snap ITC"/>
              </a:rPr>
              <a:t>10.Що так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Snap ITC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Snap ITC"/>
              </a:rPr>
              <a:t>слайд</a:t>
            </a:r>
            <a:r>
              <a:rPr b="1" lang="ru-RU" sz="7200" spc="-1" strike="noStrike">
                <a:solidFill>
                  <a:srgbClr val="000000"/>
                </a:solidFill>
                <a:latin typeface="comic"/>
              </a:rPr>
              <a:t>?</a:t>
            </a:r>
            <a:r>
              <a:rPr b="1" lang="ru-RU" sz="72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3780000" y="4653000"/>
            <a:ext cx="1535040" cy="1785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4"/>
          <a:stretch/>
        </p:blipFill>
        <p:spPr>
          <a:xfrm>
            <a:off x="7451640" y="0"/>
            <a:ext cx="1487520" cy="1800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1763640" y="1308960"/>
            <a:ext cx="59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Snap ITC"/>
              </a:rPr>
              <a:t>11.Як встановити малюнок в  слайд</a:t>
            </a:r>
            <a:r>
              <a:rPr b="1" lang="ru-RU" sz="5400" spc="-1" strike="noStrike">
                <a:solidFill>
                  <a:srgbClr val="000000"/>
                </a:solidFill>
                <a:latin typeface="comic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3780000" y="4653000"/>
            <a:ext cx="1535040" cy="1785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7451640" y="0"/>
            <a:ext cx="1487520" cy="1800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1070280" y="974520"/>
            <a:ext cx="720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Snap ITC"/>
              </a:rPr>
              <a:t>12.Файли з яки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Snap ITC"/>
              </a:rPr>
              <a:t>розширення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Snap ITC"/>
              </a:rPr>
              <a:t>використовують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Snap ITC"/>
              </a:rPr>
              <a:t>для зберіганн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"/>
              </a:rPr>
              <a:t>MS Power</a:t>
            </a:r>
            <a:r>
              <a:rPr b="0" lang="uk-UA" sz="5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omic"/>
              </a:rPr>
              <a:t>Point?</a:t>
            </a:r>
            <a:r>
              <a:rPr b="1" lang="ru-RU" sz="54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-73080" y="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3"/>
          <p:cNvPicPr/>
          <p:nvPr/>
        </p:nvPicPr>
        <p:blipFill>
          <a:blip r:embed="rId2"/>
          <a:stretch/>
        </p:blipFill>
        <p:spPr>
          <a:xfrm>
            <a:off x="539640" y="1916280"/>
            <a:ext cx="3527640" cy="42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2"/>
          <p:cNvPicPr/>
          <p:nvPr/>
        </p:nvPicPr>
        <p:blipFill>
          <a:blip r:embed="rId3"/>
          <a:stretch/>
        </p:blipFill>
        <p:spPr>
          <a:xfrm>
            <a:off x="5435640" y="333360"/>
            <a:ext cx="3465360" cy="309564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  <p:pic>
        <p:nvPicPr>
          <p:cNvPr id="139" name="Прямоугольник 1" descr=""/>
          <p:cNvPicPr/>
          <p:nvPr/>
        </p:nvPicPr>
        <p:blipFill>
          <a:blip r:embed="rId4"/>
          <a:stretch/>
        </p:blipFill>
        <p:spPr>
          <a:xfrm>
            <a:off x="249120" y="208080"/>
            <a:ext cx="5980320" cy="18460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0"/>
          <p:cNvGrpSpPr/>
          <p:nvPr/>
        </p:nvGrpSpPr>
        <p:grpSpPr>
          <a:xfrm>
            <a:off x="-63360" y="5410080"/>
            <a:ext cx="1539720" cy="1258920"/>
            <a:chOff x="-63360" y="5410080"/>
            <a:chExt cx="1539720" cy="1258920"/>
          </a:xfrm>
        </p:grpSpPr>
        <p:sp>
          <p:nvSpPr>
            <p:cNvPr id="141" name="Rectangle 11"/>
            <p:cNvSpPr/>
            <p:nvPr/>
          </p:nvSpPr>
          <p:spPr>
            <a:xfrm>
              <a:off x="340560" y="5559120"/>
              <a:ext cx="6361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12" descr="учитель"/>
            <p:cNvPicPr/>
            <p:nvPr/>
          </p:nvPicPr>
          <p:blipFill>
            <a:blip r:embed="rId5"/>
            <a:stretch/>
          </p:blipFill>
          <p:spPr>
            <a:xfrm>
              <a:off x="-63360" y="5410080"/>
              <a:ext cx="1539720" cy="1258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Picture 9" descr="9"/>
          <p:cNvPicPr/>
          <p:nvPr/>
        </p:nvPicPr>
        <p:blipFill>
          <a:blip r:embed="rId6"/>
          <a:stretch/>
        </p:blipFill>
        <p:spPr>
          <a:xfrm>
            <a:off x="4619520" y="3578400"/>
            <a:ext cx="3216240" cy="30952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"/>
          <p:cNvSpPr/>
          <p:nvPr/>
        </p:nvSpPr>
        <p:spPr>
          <a:xfrm rot="892800">
            <a:off x="924480" y="4645440"/>
            <a:ext cx="962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Arial"/>
              </a:rPr>
              <a:t>ЗАБОРОНЕН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734760" y="2499840"/>
            <a:ext cx="816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Script MT Bold"/>
              </a:rPr>
              <a:t>Кроссворд по темі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Script MT Bold"/>
              </a:rPr>
              <a:t>"Комп</a:t>
            </a:r>
            <a:r>
              <a:rPr b="0" lang="en-US" sz="4800" spc="-1" strike="noStrike">
                <a:solidFill>
                  <a:srgbClr val="000000"/>
                </a:solidFill>
                <a:latin typeface="Script MT Bold"/>
              </a:rPr>
              <a:t>”</a:t>
            </a:r>
            <a:r>
              <a:rPr b="0" lang="ru-RU" sz="4800" spc="-1" strike="noStrike">
                <a:solidFill>
                  <a:srgbClr val="000000"/>
                </a:solidFill>
                <a:latin typeface="Script MT Bold"/>
              </a:rPr>
              <a:t>ютерні презентації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ook20"/>
          <p:cNvPicPr/>
          <p:nvPr/>
        </p:nvPicPr>
        <p:blipFill>
          <a:blip r:embed="rId2"/>
          <a:stretch/>
        </p:blipFill>
        <p:spPr>
          <a:xfrm>
            <a:off x="3708360" y="4475160"/>
            <a:ext cx="2519280" cy="2192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060000" y="4762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AG00051_"/>
          <p:cNvPicPr/>
          <p:nvPr/>
        </p:nvPicPr>
        <p:blipFill>
          <a:blip r:embed="rId3"/>
          <a:stretch/>
        </p:blipFill>
        <p:spPr>
          <a:xfrm>
            <a:off x="611280" y="692280"/>
            <a:ext cx="1512720" cy="6188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-3160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342120" y="620640"/>
            <a:ext cx="1400040" cy="1584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1908000" y="1125360"/>
            <a:ext cx="513432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ад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 треба показ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йди про усі формати –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опомозі не відмо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м ніколи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3635280" y="4797360"/>
            <a:ext cx="1679760" cy="1712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4"/>
          <a:stretch/>
        </p:blipFill>
        <p:spPr>
          <a:xfrm>
            <a:off x="7451640" y="0"/>
            <a:ext cx="1487520" cy="1800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755640" y="1140480"/>
            <a:ext cx="76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comic"/>
              </a:rPr>
              <a:t>Як зробити презентацію,</a:t>
            </a:r>
            <a:r>
              <a:rPr b="1" lang="uk-UA" sz="6000" spc="-1" strike="noStrike">
                <a:solidFill>
                  <a:srgbClr val="ff0000"/>
                </a:solidFill>
                <a:latin typeface="Snap ITC"/>
              </a:rPr>
              <a:t> більш яскравою, динамічною</a:t>
            </a:r>
            <a:r>
              <a:rPr b="0" lang="ru-RU" sz="6000" spc="-1" strike="noStrike">
                <a:solidFill>
                  <a:srgbClr val="ff0000"/>
                </a:solidFill>
                <a:latin typeface="comic"/>
              </a:rPr>
              <a:t>?</a:t>
            </a:r>
            <a:r>
              <a:rPr b="1" lang="ru-RU" sz="6000" spc="-1" strike="noStrike">
                <a:solidFill>
                  <a:srgbClr val="ff0000"/>
                </a:solidFill>
                <a:latin typeface="Snap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3780000" y="4653000"/>
            <a:ext cx="1535040" cy="1785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4"/>
          <a:stretch/>
        </p:blipFill>
        <p:spPr>
          <a:xfrm>
            <a:off x="7451640" y="0"/>
            <a:ext cx="1487520" cy="18003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1064520" y="2711520"/>
            <a:ext cx="69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Snap ITC"/>
              </a:rPr>
              <a:t>Що таке анімац</a:t>
            </a:r>
            <a:r>
              <a:rPr b="1" lang="uk-UA" sz="5400" spc="-1" strike="noStrike">
                <a:solidFill>
                  <a:srgbClr val="000000"/>
                </a:solidFill>
                <a:latin typeface="Snap ITC"/>
              </a:rPr>
              <a:t>і</a:t>
            </a:r>
            <a:r>
              <a:rPr b="1" lang="ru-RU" sz="5400" spc="-1" strike="noStrike">
                <a:solidFill>
                  <a:srgbClr val="000000"/>
                </a:solidFill>
                <a:latin typeface="Snap ITC"/>
              </a:rPr>
              <a:t>я</a:t>
            </a:r>
            <a:r>
              <a:rPr b="0" lang="ru-RU" sz="5400" spc="-1" strike="noStrike">
                <a:solidFill>
                  <a:srgbClr val="000000"/>
                </a:solidFill>
                <a:latin typeface="comic"/>
              </a:rPr>
              <a:t>?</a:t>
            </a:r>
            <a:r>
              <a:rPr b="1" lang="ru-RU" sz="54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Основний елемент, з яким працюємо в програмі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57913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536"/>
          <p:cNvSpPr/>
          <p:nvPr/>
        </p:nvSpPr>
        <p:spPr>
          <a:xfrm>
            <a:off x="3348000" y="2133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  Л  </a:t>
            </a: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Й 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37"/>
          <p:cNvSpPr/>
          <p:nvPr/>
        </p:nvSpPr>
        <p:spPr>
          <a:xfrm>
            <a:off x="44604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Наочне представлення інформації з використанням візуальних засобів…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38"/>
          <p:cNvSpPr/>
          <p:nvPr/>
        </p:nvSpPr>
        <p:spPr>
          <a:xfrm>
            <a:off x="1908000" y="2781360"/>
            <a:ext cx="53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  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  А  Ц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39"/>
          <p:cNvSpPr/>
          <p:nvPr/>
        </p:nvSpPr>
        <p:spPr>
          <a:xfrm>
            <a:off x="324000" y="115920"/>
            <a:ext cx="84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Назва програми в якій створюються презентації (англ.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40"/>
          <p:cNvSpPr/>
          <p:nvPr/>
        </p:nvSpPr>
        <p:spPr>
          <a:xfrm>
            <a:off x="3348000" y="3357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  O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І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N 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41"/>
          <p:cNvSpPr/>
          <p:nvPr/>
        </p:nvSpPr>
        <p:spPr>
          <a:xfrm>
            <a:off x="468360" y="11592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Тексти на слайдах можна 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42"/>
          <p:cNvSpPr/>
          <p:nvPr/>
        </p:nvSpPr>
        <p:spPr>
          <a:xfrm>
            <a:off x="2843280" y="38750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  О  Р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 Т  У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 Т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43"/>
          <p:cNvSpPr/>
          <p:nvPr/>
        </p:nvSpPr>
        <p:spPr>
          <a:xfrm>
            <a:off x="108000" y="0"/>
            <a:ext cx="885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. Щоб змінити розміри об'єкта необхідно потягнути за край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44"/>
          <p:cNvSpPr/>
          <p:nvPr/>
        </p:nvSpPr>
        <p:spPr>
          <a:xfrm>
            <a:off x="3851280" y="4508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 К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45"/>
          <p:cNvSpPr/>
          <p:nvPr/>
        </p:nvSpPr>
        <p:spPr>
          <a:xfrm>
            <a:off x="179280" y="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. Слайд не слід обтяжувати великою кількістю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46"/>
          <p:cNvSpPr/>
          <p:nvPr/>
        </p:nvSpPr>
        <p:spPr>
          <a:xfrm>
            <a:off x="900000" y="5084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І   Н  Ф О  Р М  А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Ц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І   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47"/>
          <p:cNvSpPr/>
          <p:nvPr/>
        </p:nvSpPr>
        <p:spPr>
          <a:xfrm>
            <a:off x="179280" y="115920"/>
            <a:ext cx="896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. Вид заливки, коли інтенсивність кольору змінюється від однієї частини поля до іншої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48"/>
          <p:cNvSpPr/>
          <p:nvPr/>
        </p:nvSpPr>
        <p:spPr>
          <a:xfrm>
            <a:off x="2411280" y="5661000"/>
            <a:ext cx="48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  Р  А  Д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І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Є  Н  Т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49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Що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еревірити, чи підійде саме цей колір фону до вашого слайду, можна п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дньо переглянути слайд за допомогою кнопки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50"/>
          <p:cNvSpPr/>
          <p:nvPr/>
        </p:nvSpPr>
        <p:spPr>
          <a:xfrm>
            <a:off x="1403280" y="62373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 Е  Р  Е  Г  Л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Comic Sans MS"/>
              </a:rPr>
              <a:t>Розробка слайдової презентації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Power Point.              </a:t>
            </a:r>
            <a:r>
              <a:rPr b="0" lang="uk-UA" sz="6600" spc="-1" strike="noStrike">
                <a:solidFill>
                  <a:srgbClr val="000000"/>
                </a:solidFill>
                <a:latin typeface="Comic Sans MS"/>
              </a:rPr>
              <a:t>Анімація в слайдових презентаціях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130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476360" y="812880"/>
            <a:ext cx="69832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МЕТА: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навчитися будувати  презентацію за сценарієм з використанням тексту, малюнків, ефектів анімації, гіперпосилань та керуючих кнопок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780000" y="4653000"/>
            <a:ext cx="153504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7451640" y="0"/>
            <a:ext cx="1487520" cy="18003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2252520" y="900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1.Які форми подання інформації ви знаєт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-333360" y="-333360"/>
            <a:ext cx="9477360" cy="7191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780000" y="4729320"/>
            <a:ext cx="1535040" cy="178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4"/>
          <a:stretch/>
        </p:blipFill>
        <p:spPr>
          <a:xfrm>
            <a:off x="7451640" y="0"/>
            <a:ext cx="1487520" cy="18003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"/>
          <p:cNvSpPr/>
          <p:nvPr/>
        </p:nvSpPr>
        <p:spPr>
          <a:xfrm>
            <a:off x="1403280" y="-100080"/>
            <a:ext cx="65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2.Згадайте, що таке пакет прикладних програм.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23760" y="-106200"/>
            <a:ext cx="9144000" cy="6964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3780000" y="4653000"/>
            <a:ext cx="1535040" cy="1785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7451640" y="0"/>
            <a:ext cx="1487520" cy="18003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"/>
          <p:cNvSpPr/>
          <p:nvPr/>
        </p:nvSpPr>
        <p:spPr>
          <a:xfrm>
            <a:off x="2235240" y="777960"/>
            <a:ext cx="457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3.Які програми входять до пакету прикладних програм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20:43:47Z</dcterms:created>
  <dc:creator>home</dc:creator>
  <dc:description/>
  <dc:language>en-US</dc:language>
  <cp:lastModifiedBy>Викусичка</cp:lastModifiedBy>
  <dcterms:modified xsi:type="dcterms:W3CDTF">2017-03-14T07:09:44Z</dcterms:modified>
  <cp:revision>12</cp:revision>
  <dc:subject/>
  <dc:title>Слайд 1</dc:title>
</cp:coreProperties>
</file>