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C78-0374-4572-A2BF-FD639EE21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A00-E251-43A3-A833-F9A6FEA7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3BE-B787-4239-9137-00BD3E97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EBD-8DF3-4391-A469-53E835620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1D6D-4714-49BA-9545-5E182234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BF11-73A5-4040-9995-EF811485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B794-8DEC-4FC3-A719-9FD7113B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1083-601F-4407-A3DC-A07E512D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2D72-AB36-4FA8-80CE-B6E1E8C2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524A-4F1C-4957-AADA-FF6B6003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0F4E-E4FF-4E00-BCAF-25364603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638-139F-42D6-81AA-35EF66A2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A687-7955-4A45-9ED2-1ED9EF2D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F7B0-742D-4667-86F6-E5F7EAA1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7965-CBE3-4958-863F-A08FCE77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2EDF-C79A-4992-B389-0A7615536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7DE1-0ADF-4642-8A06-B29813E5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351-71F9-404A-B5D5-D8826DB5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6277-CCED-44C6-98A8-CBD4E1C0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901-A159-4F1C-B225-D34384BC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B4D-96E2-4B63-8AC2-535591F6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8B57-BA0B-4936-915D-BA98DA1A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887B-619A-4A0C-AA39-8649E360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267-6681-45F4-99BF-4B9ACE5C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2CBF-88E3-4237-AE20-ADF069783C5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CF62-3C1B-4287-8EDA-5E60E860ED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Картинки по запросу картинки природи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-listening activ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71280" y="256500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) Finish the sentenc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Dora doesn’t turn off the tap while brushing…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She always brings a lot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She leaves the light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She never puts bottles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.She always takes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6.She always turns up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 Comprehen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reading ac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you understand “ to live in harmony with environment”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ost-reading activity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ay if the sentences below are True, False or Not mentione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Many years ago and nowadays the environmental situation in Ukraine is simil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Quite few people live in our country for such a territo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The intensive development of industry, forests disappearing, bad oxygen balance, and overpopulation could lead our planet to global catastroph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The Chernobyl nuclear power station accident in April 1986 influenced greatly the environment in Ukraine, Belarus, Poland and some other countri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. The Ministry of Environment controls and protects public organizations, Protection Campaigns and individua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e-pla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Картинки по запросу найти картинку  прес-конференція по темі Environment"/>
          <p:cNvPicPr/>
          <p:nvPr/>
        </p:nvPicPr>
        <p:blipFill>
          <a:blip r:embed="rId1"/>
          <a:stretch/>
        </p:blipFill>
        <p:spPr>
          <a:xfrm>
            <a:off x="1403280" y="2060640"/>
            <a:ext cx="59436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59817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400" y="995400"/>
            <a:ext cx="73152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00360" y="2781360"/>
            <a:ext cx="38005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87640" y="3284640"/>
            <a:ext cx="3714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e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.2 p.16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a letter to your friend. Share your opinions about the protection of natur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 about your school recycling drives and other things that you or your classmates do to make the world a better plac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Картинки по запросу картинки забруднення навколишнього середовища"/>
          <p:cNvPicPr/>
          <p:nvPr/>
        </p:nvPicPr>
        <p:blipFill>
          <a:blip r:embed="rId1"/>
          <a:stretch/>
        </p:blipFill>
        <p:spPr>
          <a:xfrm>
            <a:off x="1042920" y="404640"/>
            <a:ext cx="73454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 wish you always</a:t>
            </a:r>
            <a:r>
              <a:rPr b="0" lang="uk-UA" sz="3200" spc="-1" strike="noStrike">
                <a:solidFill>
                  <a:srgbClr val="00336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ir to breath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re to warm you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ater to drink and the Earth to live i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 wish this to you from my hear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Картинки по запросу найти картинка thank you for your attention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vironmental prote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Картинки по запросу найти картинка Environment protection"/>
          <p:cNvPicPr/>
          <p:nvPr/>
        </p:nvPicPr>
        <p:blipFill>
          <a:blip r:embed="rId1"/>
          <a:stretch/>
        </p:blipFill>
        <p:spPr>
          <a:xfrm>
            <a:off x="1042920" y="2349360"/>
            <a:ext cx="66582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Outloo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6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the end of the lesson the students are expected to be 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ak about different environmental problems and the ways of their solv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’ll kn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to do to avoid the pollution on the local and global leve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’ll underst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important to live in harmony with na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ent the quot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take care of the planet is to take care of our hous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alai La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every person swept their own door-step, the whole world would be clean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ther There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zzle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vironment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”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24000" y="2205000"/>
          <a:ext cx="4824000" cy="4271760"/>
        </p:xfrm>
        <a:graphic>
          <a:graphicData uri="http://schemas.openxmlformats.org/drawingml/2006/table">
            <a:tbl>
              <a:tblPr/>
              <a:tblGrid>
                <a:gridCol w="457560"/>
                <a:gridCol w="455040"/>
                <a:gridCol w="447840"/>
                <a:gridCol w="389160"/>
                <a:gridCol w="442440"/>
                <a:gridCol w="312840"/>
                <a:gridCol w="440280"/>
                <a:gridCol w="515880"/>
                <a:gridCol w="389520"/>
                <a:gridCol w="475200"/>
                <a:gridCol w="498240"/>
              </a:tblGrid>
              <a:tr h="38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the environmen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570708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istening Comprehen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listening activ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tch the words on the left with the words on the righ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) waste                              a) the heat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) have                                    b) pap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) plant                                    c) our plane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) turn up                                d) the light 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5) recycle                                e) dishwash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6) save                                     f) a bath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7) leave                                   g) wat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8) use                                      h) tre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ile-listening activ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Картинки по запросу найти картинку  учень з наушниками слухає текст"/>
          <p:cNvPicPr/>
          <p:nvPr/>
        </p:nvPicPr>
        <p:blipFill>
          <a:blip r:embed="rId1"/>
          <a:stretch/>
        </p:blipFill>
        <p:spPr>
          <a:xfrm>
            <a:off x="1547640" y="2205000"/>
            <a:ext cx="57913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0T09:25:01Z</dcterms:created>
  <dc:creator>АИ</dc:creator>
  <dc:description/>
  <dc:language>en-US</dc:language>
  <cp:lastModifiedBy>АИ</cp:lastModifiedBy>
  <dcterms:modified xsi:type="dcterms:W3CDTF">2019-02-28T14:11:03Z</dcterms:modified>
  <cp:revision>15</cp:revision>
  <dc:subject/>
  <dc:title>Слайд 1</dc:title>
</cp:coreProperties>
</file>