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B3C4D-9C44-4875-8A62-CCE2A360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5E536-073F-46D8-B465-4DB9C43C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7D996-E16E-4BA8-A3B7-A4AAE702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BABD-5391-4D06-AD7E-9E0F180D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43B0-912E-48FE-8710-F365537A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132E-5537-44D0-B9AE-212C4B9E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B973-C86C-4FFC-8BB9-22C5B52F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9702-6FE7-4746-B12F-69E050CD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AC5B-132F-453B-93F0-BBBA73E0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BFCA-B7C5-45FD-93BB-FCDA1E19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6781-2730-49E9-82F2-386A82D8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80E50-7FB7-454C-8D21-E44E9975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FEBD-D119-4A32-B4FB-3F0E8D81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EE0F-D851-470B-BA27-2384A1AC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634C-91D2-4C6C-8FFE-1ACE6625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2AFE-36C5-491A-A480-E68B87F3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BEA0-AAE3-432E-9E51-638BF729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8C37-25F8-4567-9C3F-142744BE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2673E-C8B3-4363-8277-4473508C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4096-143D-4AC9-9DD7-02938BBD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07FA-CA8A-4756-A875-620F83B7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49A1-D893-4EF5-9637-2385580E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8BDA-B5B4-48C7-BA93-AD100700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BAB58-EFDA-4388-9AE6-FFFCF8B2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7543-B9DB-4FF6-891F-7B18B1671D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27BA-D3CA-4E77-B64C-99473D7BA7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82072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e5ff"/>
                </a:solidFill>
                <a:latin typeface="Garamond"/>
              </a:rPr>
              <a:t>Основні види підрядних речень.</a:t>
            </a:r>
            <a:br>
              <a:rPr sz="4400"/>
            </a:br>
            <a:r>
              <a:rPr b="0" lang="uk-UA" sz="4400" spc="-1" strike="noStrike">
                <a:solidFill>
                  <a:srgbClr val="e5e5ff"/>
                </a:solidFill>
                <a:latin typeface="Garamond"/>
              </a:rPr>
              <a:t> Означальні, з’ясувальні,</a:t>
            </a:r>
            <a:br>
              <a:rPr sz="4400"/>
            </a:br>
            <a:r>
              <a:rPr b="0" lang="uk-UA" sz="4400" spc="-1" strike="noStrike">
                <a:solidFill>
                  <a:srgbClr val="e5e5ff"/>
                </a:solidFill>
                <a:latin typeface="Garamond"/>
              </a:rPr>
              <a:t>обставинні реченн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Домашнє завданн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60020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писати твір- роздум «Яким я бачу Домницький монастир у майбутньому»,  використавши подане речення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подобний Лаврентій Чернігівський пророкував, що Домницьку обитель відкриють, але вона буде чоловічий, великий і благоліпної, що храми повстануть з руїн і будуть сяяти, як і в минулі час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10" descr="images66"/>
          <p:cNvPicPr/>
          <p:nvPr/>
        </p:nvPicPr>
        <p:blipFill>
          <a:blip r:embed="rId1"/>
          <a:stretch/>
        </p:blipFill>
        <p:spPr>
          <a:xfrm>
            <a:off x="5076720" y="1484280"/>
            <a:ext cx="3672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29"/>
                </a:solidFill>
                <a:latin typeface="Garamond"/>
              </a:rPr>
              <a:t>Мета</a:t>
            </a:r>
            <a:r>
              <a:rPr b="0" lang="ru-RU" sz="3200" spc="-1" strike="noStrike">
                <a:solidFill>
                  <a:srgbClr val="292929"/>
                </a:solidFill>
                <a:latin typeface="Garamond"/>
              </a:rPr>
              <a:t>:  </a:t>
            </a:r>
            <a:r>
              <a:rPr b="0" lang="uk-UA" sz="2000" spc="-1" strike="noStrike">
                <a:solidFill>
                  <a:srgbClr val="e5e5ff"/>
                </a:solidFill>
                <a:latin typeface="Garamond"/>
              </a:rPr>
              <a:t>ознайомити з основними видами підрядних речень,    </a:t>
            </a:r>
            <a:br>
              <a:rPr sz="2000"/>
            </a:br>
            <a:r>
              <a:rPr b="0" lang="uk-UA" sz="2000" spc="-1" strike="noStrike">
                <a:solidFill>
                  <a:srgbClr val="e5e5ff"/>
                </a:solidFill>
                <a:latin typeface="Garamond"/>
              </a:rPr>
              <a:t>                       формувати вміння розрізняти  з’ясувальні, означальні    </a:t>
            </a:r>
            <a:br>
              <a:rPr sz="2000"/>
            </a:br>
            <a:r>
              <a:rPr b="0" lang="uk-UA" sz="2000" spc="-1" strike="noStrike">
                <a:solidFill>
                  <a:srgbClr val="e5e5ff"/>
                </a:solidFill>
                <a:latin typeface="Garamond"/>
              </a:rPr>
              <a:t>                        та обставинні підрядні частини, ставити до них питання   </a:t>
            </a:r>
            <a:br>
              <a:rPr sz="2000"/>
            </a:br>
            <a:r>
              <a:rPr b="0" lang="uk-UA" sz="2000" spc="-1" strike="noStrike">
                <a:solidFill>
                  <a:srgbClr val="e5e5ff"/>
                </a:solidFill>
                <a:latin typeface="Garamond"/>
              </a:rPr>
              <a:t>                            від головних частин, з’ясовувати місце підрядної частини  </a:t>
            </a:r>
            <a:br>
              <a:rPr sz="2000"/>
            </a:br>
            <a:r>
              <a:rPr b="0" lang="uk-UA" sz="2000" spc="-1" strike="noStrike">
                <a:solidFill>
                  <a:srgbClr val="e5e5ff"/>
                </a:solidFill>
                <a:latin typeface="Garamond"/>
              </a:rPr>
              <a:t>                            щодо головної, креслити схеми складнопідрядних речень;           </a:t>
            </a:r>
            <a:br>
              <a:rPr sz="2000"/>
            </a:br>
            <a:r>
              <a:rPr b="0" lang="uk-UA" sz="2000" spc="-1" strike="noStrike">
                <a:solidFill>
                  <a:srgbClr val="e5e5ff"/>
                </a:solidFill>
                <a:latin typeface="Garamond"/>
              </a:rPr>
              <a:t>                         виховувати повагу до пам’яток історії та культури; форму- </a:t>
            </a:r>
            <a:br>
              <a:rPr sz="2000"/>
            </a:br>
            <a:r>
              <a:rPr b="0" lang="uk-UA" sz="2000" spc="-1" strike="noStrike">
                <a:solidFill>
                  <a:srgbClr val="e5e5ff"/>
                </a:solidFill>
                <a:latin typeface="Garamond"/>
              </a:rPr>
              <a:t>                         вати навички правильного інтонування складнопідрядних  </a:t>
            </a:r>
            <a:br>
              <a:rPr sz="2000"/>
            </a:br>
            <a:r>
              <a:rPr b="0" lang="uk-UA" sz="2000" spc="-1" strike="noStrike">
                <a:solidFill>
                  <a:srgbClr val="e5e5ff"/>
                </a:solidFill>
                <a:latin typeface="Garamond"/>
              </a:rPr>
              <a:t>                         речень; удосконалювати пунктуаційну грамотність, навички  </a:t>
            </a:r>
            <a:br>
              <a:rPr sz="2000"/>
            </a:br>
            <a:r>
              <a:rPr b="0" lang="uk-UA" sz="2000" spc="-1" strike="noStrike">
                <a:solidFill>
                  <a:srgbClr val="e5e5ff"/>
                </a:solidFill>
                <a:latin typeface="Garamond"/>
              </a:rPr>
              <a:t>                        роботи з підручником і таблицею, розвивати увагу, логічне мислення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омницький монастир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іздва Богородиці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images4"/>
          <p:cNvPicPr/>
          <p:nvPr/>
        </p:nvPicPr>
        <p:blipFill>
          <a:blip r:embed="rId1"/>
          <a:stretch/>
        </p:blipFill>
        <p:spPr>
          <a:xfrm>
            <a:off x="2124000" y="2565360"/>
            <a:ext cx="5327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Прочитайте текст,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знайдіть складнопідрядні речення, поставте питання від головного до підрядного речення</a:t>
            </a:r>
            <a:r>
              <a:rPr b="1" lang="ru-RU" sz="2400" spc="-1" strike="noStrike">
                <a:solidFill>
                  <a:srgbClr val="a886e0"/>
                </a:solidFill>
                <a:latin typeface="Garamond"/>
              </a:rPr>
              <a:t>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1471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егенда свідчить про те, що диво трапилося зі сліпою дівчинкою. Начебто приснився їй сон, в якому невидимий голос говорить до неї, щоб ішла вона до лісу. 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лодним, морозяним днем дівчинка зі своєю мамою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 з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брели в лісові хащі, заблудилися і загубили одна одну. І тут безпорадній сліпій дитині почувся голос: «Іди до мене». Дівчинка злякалася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 і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прошепотіла: «Я сліпа і не знаю куди іти». «Підніми голову — і побачиш». Дитина підняла голову і в той час дивом-дивним прозріла. Вона побачила над головою, високо на дереві, ікону, від якої світилося сяйво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e5ff"/>
                </a:solidFill>
                <a:latin typeface="Garamond"/>
              </a:rPr>
              <a:t>Випишіть речення з підрядними обставинними. На які питання вони відповідають. Поясніть правопис власних назв.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Коли п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містили святиню в церкві найближчого містечка Березна, 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вона , неймовірним дивом,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знову повертала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ся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на своє попереднє місце. І тоді в глухому лісі, 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де вперше з’явився святий образ, була збудована дерев’яна капличка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.  У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693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. за розпорядженням та на кошти гетьмана І. Мазепи 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снува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ли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мницький Богородице-Різдвяний чоловічий монастир. </a:t>
            </a: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В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XVII</a:t>
            </a:r>
            <a:r>
              <a:rPr b="1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 місці старої каплички побудували дерев’яну церкву святої великомучениці Параскеви, бо вона є покровителькою полів і тварин, цілителькою різних людських недуг.    </a:t>
            </a: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. У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XVIII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 ст. вдруге відродив    монастир  граф Ілля Андрійович Безбородько, який поруч зі старим дерев’яним храмом заклав кам’яний храм Різдва Пресвятої Богородиці. 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 2.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Він розпорядився, щоб   побудували  кам’яні келії для настоятеля і братії, звели над вхідними воротами двоярусну дзвіницю, огорожу. 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 Восени 1806 року будівництво було завершено і через рік — освячено. 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 Автором цих будівель був відомий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італійський архітектор Джакомо Кваренгі, який створив проект садибного палацу Безбородьків  та Андріївської церкви у Стольному. 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 А у 1846 році на кошти княжни Параскеви Прозоровської побудовано Петро-Павлівську церкву, яка приймала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паломників та дітей-сиріт на виховання до повноліття.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5e5ff"/>
                </a:solidFill>
                <a:latin typeface="Garamond"/>
              </a:rPr>
              <a:t>Гра «Кмітливий»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5e5ff"/>
                </a:solidFill>
                <a:latin typeface="Garamond"/>
              </a:rPr>
              <a:t>Випишіть числівники, визначте їх розряд, поясніть їх правопис. Виправте помилки у написанні власних назв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Ікона Домницької Богородиці перебувала в особливому при головному іконостасі. Довжина ікони, була на той час —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4,2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м, ширина —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2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м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вколо образа — срібно-золочена чеканка. Зверху — Свята Трійця, на двох кутах — серафими і по боках — іоанн предтеча та Іоанн Златоуст, унизу — двоголовий орел. Навколо ікони на рамі — карбовані зі срібла визолочені зображення Бога Отця і Святого Духа. Рама і риза зроблені за заповітом Іллі безбородька його дружиною анною іванівною в 1822 році. Витрачено було понад двадцять дві тисячі асигнаці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11" descr="index44"/>
          <p:cNvPicPr/>
          <p:nvPr/>
        </p:nvPicPr>
        <p:blipFill>
          <a:blip r:embed="rId1"/>
          <a:stretch/>
        </p:blipFill>
        <p:spPr>
          <a:xfrm>
            <a:off x="250920" y="1268280"/>
            <a:ext cx="37447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5e5ff"/>
                </a:solidFill>
                <a:latin typeface="Garamond"/>
              </a:rPr>
              <a:t>Пояснювальний диктант. </a:t>
            </a:r>
            <a:r>
              <a:rPr b="1" lang="uk-UA" sz="1800" spc="-1" strike="noStrike">
                <a:solidFill>
                  <a:srgbClr val="e5e5ff"/>
                </a:solidFill>
                <a:latin typeface="Garamond"/>
              </a:rPr>
              <a:t>З-поміж записаних речень вказати складнопідрядні з підрядними означальними, з</a:t>
            </a: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’</a:t>
            </a:r>
            <a:r>
              <a:rPr b="1" lang="uk-UA" sz="1800" spc="-1" strike="noStrike">
                <a:solidFill>
                  <a:srgbClr val="e5e5ff"/>
                </a:solidFill>
                <a:latin typeface="Garamond"/>
              </a:rPr>
              <a:t>ясувальними та обставинними.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астир припинив існування у двадцятих роках двадцятого століття, бо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жкі випробування випали на долю обителі. Безбожники, які прийшли до влади, закрили монастир, церкви розграбували і позбивали з куполів хрести. До фундаменту була знищена Петро-Павлівська церква, на будматеріали розібрали склепіння центрального купола Свято-Різдвяного собору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, в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й же час зникла й чудотворна ікона Пресвятої Богородиці Домницької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41-му німці, аби привернути на свій бік віруючих, відкрили жіночий Свято-Параскевин монастир. У ньому оселилося близько 35 сестер-послушниць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на чолі з ігуменею Агнією, як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дуже тяжко працюва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л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у лісництві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исаджували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іс. </a:t>
            </a:r>
            <a:br>
              <a:rPr sz="1800"/>
            </a:b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1952 році Свято-Параскевневскую Домницький жіночу обитель закрили.</a:t>
            </a: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952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ці Свято-Параскевневскую Домницький жіночу обитель закрили.</a:t>
            </a: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992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ці парафіяльній громаді Домницького монастиря був переданий трапезний храм святої великомучениці Параскеви. У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011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році храм Різдва Пресвятої Богородиці був переданий монастирю, в якому </a:t>
            </a: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тепер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і ведуться реставраційні робо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5e5ff"/>
                </a:solidFill>
                <a:latin typeface="Garamond"/>
              </a:rPr>
              <a:t>Робота в парах. </a:t>
            </a:r>
            <a:r>
              <a:rPr b="1" lang="uk-UA" sz="2000" spc="-1" strike="noStrike">
                <a:solidFill>
                  <a:srgbClr val="e5e5ff"/>
                </a:solidFill>
                <a:latin typeface="Garamond"/>
              </a:rPr>
              <a:t>Поставте речення так, щоб вийшов текст, накресліть схеми СПР, визначте вид підрядних частин. 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7000"/>
            <a:ext cx="512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На початку червня в Домниці, біля криниці, відбувається велика відправа, бо приїжджають батюшки з навколишніх приходів, йдуть і їдуть хворі, щоб зцілитися. </a:t>
            </a:r>
            <a:br>
              <a:rPr sz="1800"/>
            </a:b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Щокожної десятої п’ятниці по Великодню в стінах Домницького монастиря багатолюдно. В цей день, ще від початку Х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VII</a:t>
            </a: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, ще святим Феодосієм Чернігівським, запроваджено і людьми підхоплено святкування явлення ікони Божої Матері Домницької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ряд з монастирем є криничка – з начебто чудодійною водою. В 70-х роках її </a:t>
            </a: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кидали камінням, а одного разу </a:t>
            </a: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засипали </a:t>
            </a: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гноєм. Але місцеві жителі її весь час розчищали. Неподалік ростуть два дуби, </a:t>
            </a: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 які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несені до книги пам’яті природи. Їм по 300-350 рокі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11" descr="images5"/>
          <p:cNvPicPr/>
          <p:nvPr/>
        </p:nvPicPr>
        <p:blipFill>
          <a:blip r:embed="rId1"/>
          <a:stretch/>
        </p:blipFill>
        <p:spPr>
          <a:xfrm>
            <a:off x="6012000" y="1628640"/>
            <a:ext cx="26398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3:05:08Z</dcterms:created>
  <dc:creator>SPA</dc:creator>
  <dc:description/>
  <dc:language>en-US</dc:language>
  <cp:lastModifiedBy>SPA</cp:lastModifiedBy>
  <dcterms:modified xsi:type="dcterms:W3CDTF">2013-12-11T11:11:41Z</dcterms:modified>
  <cp:revision>5</cp:revision>
  <dc:subject/>
  <dc:title>ЧИСЛІВНИКИ КІЛЬКІСНІ І ПОРЯДКОВІ;   ПРОСТІ, СКЛАДНІ І СКЛАДЕНІ</dc:title>
</cp:coreProperties>
</file>