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26C-23E6-4163-AF6B-9CD76120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DEA-0964-467E-AFE2-F3F24036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FF7-39A9-4A62-B4A8-9C1E5970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3E5-7E4B-4BA9-A664-EFADE169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C03-F5A7-4AD2-B39A-E33B7176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726B-4514-42D7-BB2E-3706D2B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6667-1C29-431F-AE1C-B796113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A81-BDB4-46EB-B5E2-02555E1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3316-E7C2-4295-815A-F44ABEB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5EFD-43D0-413E-803F-CC9D27B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FDF-2AC8-4C4A-A0FD-8603CFA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F4F-5824-42F1-85EA-9CA130B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C3B4-4BD0-4029-81E9-066C704F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693-5E41-4353-ADB0-91DB92C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E01-BDB3-42F9-A700-C36C9E4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720-46C1-4BA1-AB49-4AA68F5D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B31A-00B5-4542-AF62-F2E03486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AB13-473A-4C49-8B98-E2CA201A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B8A0-ED8B-40F6-AC37-F2CFD8A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76AE-36C6-402A-B036-916E022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C529-197D-4F9A-8F01-86EC1555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60F7-F928-40FC-BAE3-5C13AF8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1A4-074B-49DF-A95E-69D347A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4D5A-9B65-4CA5-B1DA-AFDB1D5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B465-A1AE-4522-88DA-2857F14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8999-7FE2-4343-B81C-AB00175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10F0-89A9-4608-BDA2-CD7D8BA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574C-86F5-41FE-97F6-1027C4F2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A1B8-D189-4A1D-B834-8969BEF4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AE15-8426-43CF-8A96-C406F234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2F15-2D7E-47BF-B119-4014AAEE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D747-4344-45B0-9222-8E9715B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10766-2C46-419A-B6FC-B4F8EC4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050-B8F7-4E37-874C-325EE46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60FF-2125-483F-8DB7-F618C90A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CAA8-D978-460B-A8A4-10DD141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D34B-5B05-408B-97ED-5D27C9D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FAC4-2C89-42FE-824F-71FD66D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25BB-1D7D-4A41-B70B-BDC9EA5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CC9A-20FF-4A68-B977-3B0F66FC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B702-962F-4768-B644-3DDFA5B4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3B79-2043-4C69-ADAA-7F9073BB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0164-AEDC-4C46-A979-BE6DF394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E1A6-1B73-4537-975A-41563B9D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48E-935B-42C6-94C3-C2305ED5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9967-262D-4587-AC4C-2A5A554E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47ED-96F8-4AAC-99EF-10BFACE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DF47-A53C-4FC4-8E51-279A833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D675-272B-48F9-9B51-B35A6AC7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8FF0-1812-4534-A601-F0425B28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347A-C35C-4F98-831B-94D1D5E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5E808-A4AA-4EAC-A65F-9B9B7A2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BA57-93A2-4BB8-B54E-993072D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82B4-C54A-4D00-9B01-98DFF617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3047-591F-4EDD-A265-EF9B4D59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D96-906E-444B-8B63-99810BD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E544-0D95-46CE-8988-218CAEB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15EE-8F51-4275-AB40-66FA1AC5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3942B-584F-46EE-BEAE-8C1E7C0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142EE-4CC2-492B-B481-BDD5E476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77AA-9EE0-4DBD-9CAF-FF4A1DC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1D45-7B9B-4198-A29B-6C432C7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8D33-5772-4B06-92EB-32B558B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3C4FF-82EC-4D0B-884A-03936E1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1888-2AA2-4CBF-8626-AAA5F3BC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0C2D8-7722-49BC-AB5D-D1B33BB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AB0-8414-46E2-88C8-873A230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DC33-305F-4C89-9100-5AC19D1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16D98-1ADA-4BF9-8794-0D668674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B0D3E-4237-41FC-A763-87F18742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C4BA-3A7E-4FCC-BC00-7EDA5C9E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422A-D77D-45D8-ACD7-77B1022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971C-FB17-4FCF-A92F-CC9E53F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336D-5B3B-471D-BD55-2C1E7DE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F4EE-FF0A-45B5-AD19-3FECB7B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A4DA-A57B-4908-B77C-B65E192F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092C-6907-443D-8462-6FB61BF4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FD1-4F24-43A9-896A-FFF1327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BA84-3DD7-4F2C-8E64-7F9DEE7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C68AB-7E25-4DA8-A6B6-8C73EAE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204A-503D-467F-BCC3-D7177644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68A5-15F4-4CED-8CC3-BDC8C0F1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DBB9-5037-4F02-AF38-0AB46C9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262-0EDC-4169-B80E-3475BA9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1E7-A1F6-4F75-80F6-CDD50CFCF0F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936-436E-4559-AD37-4A0E0BBAEF0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5580-27E5-49D8-BC83-F1398848E26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7FA6-58CC-4C9C-8221-63CA077A9D2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3B6-351B-4909-B0E9-F7358B97DF6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378-3F9A-4A04-A230-11C1949C325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2A5-557B-4A02-BA65-27094538493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58.radikal.ru/i162/1007/2d/0d2c12b4102c.png" TargetMode="External"/><Relationship Id="rId2" Type="http://schemas.openxmlformats.org/officeDocument/2006/relationships/hyperlink" Target="http://s58.radikal.ru/i162/1007/2d/0d2c12b4102c.png" TargetMode="External"/><Relationship Id="rId3" Type="http://schemas.openxmlformats.org/officeDocument/2006/relationships/hyperlink" Target="http://s58.radikal.ru/i162/1007/2d/0d2c12b4102c.png" TargetMode="External"/><Relationship Id="rId4" Type="http://schemas.openxmlformats.org/officeDocument/2006/relationships/hyperlink" Target="http://s58.radikal.ru/i162/1007/2d/0d2c12b4102c.png" TargetMode="External"/><Relationship Id="rId5" Type="http://schemas.openxmlformats.org/officeDocument/2006/relationships/hyperlink" Target="http://s58.radikal.ru/i162/1007/2d/0d2c12b4102c.png" TargetMode="External"/><Relationship Id="rId6" Type="http://schemas.openxmlformats.org/officeDocument/2006/relationships/hyperlink" Target="http://s58.radikal.ru/i162/1007/2d/0d2c12b4102c.png" TargetMode="External"/><Relationship Id="rId7" Type="http://schemas.openxmlformats.org/officeDocument/2006/relationships/hyperlink" Target="http://s58.radikal.ru/i162/1007/2d/0d2c12b4102c.png" TargetMode="External"/><Relationship Id="rId8" Type="http://schemas.openxmlformats.org/officeDocument/2006/relationships/hyperlink" Target="http://s58.radikal.ru/i162/1007/2d/0d2c12b4102c.png" TargetMode="External"/><Relationship Id="rId9" Type="http://schemas.openxmlformats.org/officeDocument/2006/relationships/hyperlink" Target="http://s58.radikal.ru/i162/1007/2d/0d2c12b4102c.png" TargetMode="External"/><Relationship Id="rId10" Type="http://schemas.openxmlformats.org/officeDocument/2006/relationships/hyperlink" Target="http://s58.radikal.ru/i162/1007/2d/0d2c12b4102c.png" TargetMode="External"/><Relationship Id="rId11" Type="http://schemas.openxmlformats.org/officeDocument/2006/relationships/hyperlink" Target="http://s58.radikal.ru/i162/1007/2d/0d2c12b4102c.png" TargetMode="External"/><Relationship Id="rId12" Type="http://schemas.openxmlformats.org/officeDocument/2006/relationships/hyperlink" Target="http://s58.radikal.ru/i162/1007/2d/0d2c12b4102c.png" TargetMode="External"/><Relationship Id="rId13" Type="http://schemas.openxmlformats.org/officeDocument/2006/relationships/hyperlink" Target="http://s58.radikal.ru/i162/1007/2d/0d2c12b4102c.png" TargetMode="External"/><Relationship Id="rId14" Type="http://schemas.openxmlformats.org/officeDocument/2006/relationships/hyperlink" Target="http://s58.radikal.ru/i162/1007/2d/0d2c12b4102c.png" TargetMode="External"/><Relationship Id="rId15" Type="http://schemas.openxmlformats.org/officeDocument/2006/relationships/hyperlink" Target="http://s58.radikal.ru/i162/1007/2d/0d2c12b4102c.png" TargetMode="External"/><Relationship Id="rId16" Type="http://schemas.openxmlformats.org/officeDocument/2006/relationships/hyperlink" Target="http://s58.radikal.ru/i162/1007/2d/0d2c12b4102c.png" TargetMode="External"/><Relationship Id="rId17" Type="http://schemas.openxmlformats.org/officeDocument/2006/relationships/hyperlink" Target="http://s58.radikal.ru/i162/1007/2d/0d2c12b4102c.png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337680"/>
            <a:ext cx="8218440" cy="54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ndara"/>
              </a:rPr>
              <a:t>Презентація до уроку</a:t>
            </a:r>
            <a:br>
              <a:rPr sz="5400"/>
            </a:br>
            <a:r>
              <a:rPr b="0" lang="uk-UA" sz="5400" spc="-1" strike="noStrike">
                <a:solidFill>
                  <a:srgbClr val="000000"/>
                </a:solidFill>
                <a:latin typeface="Candara"/>
              </a:rPr>
              <a:t>«Вживання займенників з прийменниками»</a:t>
            </a:r>
            <a:br>
              <a:rPr sz="5400"/>
            </a:br>
            <a:br>
              <a:rPr sz="5400"/>
            </a:br>
            <a:r>
              <a:rPr b="0" lang="uk-UA" sz="4000" spc="-1" strike="noStrike">
                <a:solidFill>
                  <a:srgbClr val="000000"/>
                </a:solidFill>
                <a:latin typeface="Candara"/>
              </a:rPr>
              <a:t>Вчитель Собакіна Л.М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5" descr="1261483430_garderob.jpg"/>
          <p:cNvPicPr/>
          <p:nvPr/>
        </p:nvPicPr>
        <p:blipFill>
          <a:blip r:embed="rId1"/>
          <a:stretch/>
        </p:blipFill>
        <p:spPr>
          <a:xfrm>
            <a:off x="7716960" y="4645080"/>
            <a:ext cx="1238040" cy="16462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garda_2.jpg"/>
          <p:cNvPicPr/>
          <p:nvPr/>
        </p:nvPicPr>
        <p:blipFill>
          <a:blip r:embed="rId2"/>
          <a:stretch/>
        </p:blipFill>
        <p:spPr>
          <a:xfrm>
            <a:off x="7218360" y="1285920"/>
            <a:ext cx="1736640" cy="1554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ndara"/>
              </a:rPr>
              <a:t>Приміщення в установі, театрі, де зберігається верхній одяг відвідувачі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ndara"/>
              </a:rPr>
              <a:t>Шафа для зберігання одяг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ndara"/>
              </a:rPr>
              <a:t>Увесь одяг однієї люди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ndara"/>
              </a:rPr>
              <a:t>Складіть речення зі словом гардероб, використовуючи займенни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ndara"/>
              </a:rPr>
              <a:t>Гардероб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Рисунок 4" descr="imagesCA52Y7EI.jpg"/>
          <p:cNvPicPr/>
          <p:nvPr/>
        </p:nvPicPr>
        <p:blipFill>
          <a:blip r:embed="rId3"/>
          <a:stretch/>
        </p:blipFill>
        <p:spPr>
          <a:xfrm>
            <a:off x="6784920" y="3144960"/>
            <a:ext cx="20415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16"/>
          <p:cNvSpPr/>
          <p:nvPr/>
        </p:nvSpPr>
        <p:spPr>
          <a:xfrm>
            <a:off x="2786040" y="2500200"/>
            <a:ext cx="3857760" cy="18576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ЗАЙМ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7"/>
          <p:cNvSpPr/>
          <p:nvPr/>
        </p:nvSpPr>
        <p:spPr>
          <a:xfrm>
            <a:off x="357120" y="285840"/>
            <a:ext cx="2357640" cy="1571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ВКАЗУЮТЬ НА ПРЕДМЕТ, ОЗНАКУ, ЇХ КІЛЬКІСТЬ, АЛЕ НЕ НАЗИВАЮТЬ Ї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3571920" y="428760"/>
            <a:ext cx="2143080" cy="1000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ЗАМІНЯЮТЬ ІМЕННИКИ, ПРИКМЕТНИКИ, ЧИСЛІ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9"/>
          <p:cNvSpPr/>
          <p:nvPr/>
        </p:nvSpPr>
        <p:spPr>
          <a:xfrm>
            <a:off x="6357960" y="500040"/>
            <a:ext cx="2286000" cy="128592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БУВАЮТЬ ОСОБОВІ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І,ІІ,ІІІ ОС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142920" y="2786040"/>
            <a:ext cx="2143080" cy="1000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ОСОБ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ЗМІНЮЮТЬСЯ ЗА 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1"/>
          <p:cNvSpPr/>
          <p:nvPr/>
        </p:nvSpPr>
        <p:spPr>
          <a:xfrm>
            <a:off x="1500120" y="4857840"/>
            <a:ext cx="2143080" cy="1000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ОСОБ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ЗМІНЮЮТЬСЯ ЗА ВІДМІН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2"/>
          <p:cNvSpPr/>
          <p:nvPr/>
        </p:nvSpPr>
        <p:spPr>
          <a:xfrm>
            <a:off x="5572080" y="4857840"/>
            <a:ext cx="2143080" cy="1000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3"/>
          <p:cNvSpPr/>
          <p:nvPr/>
        </p:nvSpPr>
        <p:spPr>
          <a:xfrm>
            <a:off x="7000920" y="2786040"/>
            <a:ext cx="2143080" cy="10000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406"/>
                </a:solidFill>
                <a:latin typeface="Times New Roman"/>
                <a:ea typeface="Times New Roman"/>
              </a:rPr>
              <a:t>В  ІІІ ОСОБІ МАЮТЬ Р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Рисунок 11" descr="ar9.gif"/>
          <p:cNvPicPr/>
          <p:nvPr/>
        </p:nvPicPr>
        <p:blipFill>
          <a:blip r:embed="rId1"/>
          <a:stretch/>
        </p:blipFill>
        <p:spPr>
          <a:xfrm rot="18580800">
            <a:off x="5857920" y="19285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351" name="Стрелка вверх 25"/>
          <p:cNvSpPr/>
          <p:nvPr/>
        </p:nvSpPr>
        <p:spPr>
          <a:xfrm>
            <a:off x="4429080" y="171468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трелка вверх 26"/>
          <p:cNvSpPr/>
          <p:nvPr/>
        </p:nvSpPr>
        <p:spPr>
          <a:xfrm rot="19284600">
            <a:off x="2959200" y="195876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трелка вверх 27"/>
          <p:cNvSpPr/>
          <p:nvPr/>
        </p:nvSpPr>
        <p:spPr>
          <a:xfrm rot="16200000">
            <a:off x="2286000" y="299988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трелка вверх 28"/>
          <p:cNvSpPr/>
          <p:nvPr/>
        </p:nvSpPr>
        <p:spPr>
          <a:xfrm rot="5400000">
            <a:off x="6584760" y="301320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трелка вверх 29"/>
          <p:cNvSpPr/>
          <p:nvPr/>
        </p:nvSpPr>
        <p:spPr>
          <a:xfrm rot="12998400">
            <a:off x="2957040" y="424260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трелка вверх 30"/>
          <p:cNvSpPr/>
          <p:nvPr/>
        </p:nvSpPr>
        <p:spPr>
          <a:xfrm rot="8695200">
            <a:off x="6027480" y="424152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Йому              </a:t>
            </a: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мені                   з нами         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обі                       нам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у ва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вам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нас                     з ним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вас                        т и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на тоб</a:t>
            </a:r>
            <a:r>
              <a:rPr b="1" lang="uk-UA" sz="3200" spc="-1" strike="noStrike">
                <a:solidFill>
                  <a:srgbClr val="000000"/>
                </a:solidFill>
                <a:latin typeface="Candara"/>
              </a:rPr>
              <a:t>і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500040" y="454680"/>
            <a:ext cx="792972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Arial"/>
              </a:rPr>
              <a:t>Робота над загад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Хтос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знайшов  колосок, змолов  борошна  мішо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Спік негайно у печі пиріжки і кал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ишенят не пригощав,бо жоден з них не помаг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У селі у діда й баби гарна курочка бу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Щось маленьке і кругленьке вона дідові зне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ишка, хоч і не хотіла, зачепила і розб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лося таке – і незграбне, і бридке,          Одиноке і нещасне стало лебедем прекрас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мініть відгадки займенниками, визначте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х особу,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http://t0.gstatic.com/images?q=tbn:ANd9GcS82Mi7y5vzEBng3ySp1pgFLbUZVZFSIV3x3Mvw2Up6Ex3o7qvfXNm_WQ"/>
          <p:cNvPicPr/>
          <p:nvPr/>
        </p:nvPicPr>
        <p:blipFill>
          <a:blip r:embed="rId1"/>
          <a:stretch/>
        </p:blipFill>
        <p:spPr>
          <a:xfrm>
            <a:off x="7429680" y="250020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http://t0.gstatic.com/images?q=tbn:ANd9GcTyCZSYSmfR3xjgJh7MzjGGDXtBY5ZDMasxkXqOp36TxhHeepOVvyYDfzI"/>
          <p:cNvPicPr/>
          <p:nvPr/>
        </p:nvPicPr>
        <p:blipFill>
          <a:blip r:embed="rId2"/>
          <a:stretch/>
        </p:blipFill>
        <p:spPr>
          <a:xfrm>
            <a:off x="7429680" y="3571920"/>
            <a:ext cx="1466640" cy="1285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Просмотреть подробности"/>
          <p:cNvPicPr/>
          <p:nvPr/>
        </p:nvPicPr>
        <p:blipFill>
          <a:blip r:embed="rId3"/>
          <a:stretch/>
        </p:blipFill>
        <p:spPr>
          <a:xfrm>
            <a:off x="7315200" y="4857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 Black"/>
                <a:ea typeface="Aharoni"/>
              </a:rPr>
              <a:t>Складіть сенка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Объект 3" descr="imagesCA1NZ9SN.jpg"/>
          <p:cNvPicPr/>
          <p:nvPr/>
        </p:nvPicPr>
        <p:blipFill>
          <a:blip r:embed="rId1"/>
          <a:stretch/>
        </p:blipFill>
        <p:spPr>
          <a:xfrm>
            <a:off x="1620720" y="1847880"/>
            <a:ext cx="61214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икористан</a:t>
            </a:r>
            <a:r>
              <a:rPr b="0" lang="uk-UA" sz="2400" spc="-1" strike="noStrike">
                <a:solidFill>
                  <a:srgbClr val="000000"/>
                </a:solidFill>
                <a:latin typeface="Candara"/>
              </a:rPr>
              <a:t>і джере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ndara"/>
              </a:rPr>
              <a:t>Інтернет -ресурс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s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4"/>
              </a:rPr>
              <a:t>58.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5"/>
              </a:rPr>
              <a:t>radikal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7"/>
              </a:rPr>
              <a:t>ru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9"/>
              </a:rPr>
              <a:t>i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10"/>
              </a:rPr>
              <a:t>162/1007/2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1"/>
              </a:rPr>
              <a:t>d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12"/>
              </a:rPr>
              <a:t>/0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3"/>
              </a:rPr>
              <a:t>d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14"/>
              </a:rPr>
              <a:t>2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5"/>
              </a:rPr>
              <a:t>c</a:t>
            </a:r>
            <a:r>
              <a:rPr b="0" lang="uk-UA" sz="2400" spc="-1" strike="noStrike" u="sng">
                <a:solidFill>
                  <a:srgbClr val="0080ff"/>
                </a:solidFill>
                <a:uFillTx/>
                <a:latin typeface="Candara"/>
                <a:hlinkClick r:id="rId16"/>
              </a:rPr>
              <a:t>12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7"/>
              </a:rPr>
              <a:t>b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andara"/>
              </a:rPr>
              <a:t>410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c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andara"/>
              </a:rPr>
              <a:t>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p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http://img-fotki.yandex.ru/get/9113/20573769.38/0_91f2f_2904f6ef_L.png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4:13:34Z</dcterms:created>
  <dc:creator>magistr</dc:creator>
  <dc:description/>
  <dc:language>en-US</dc:language>
  <cp:lastModifiedBy>Sobakina</cp:lastModifiedBy>
  <dcterms:modified xsi:type="dcterms:W3CDTF">2020-02-29T16:59:11Z</dcterms:modified>
  <cp:revision>35</cp:revision>
  <dc:subject/>
  <dc:title>ВПРАВА 1</dc:title>
</cp:coreProperties>
</file>