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png" ContentType="image/png"/>
  <Override PartName="/ppt/media/image19.png" ContentType="image/png"/>
  <Override PartName="/ppt/media/image4.jpeg" ContentType="image/jpeg"/>
  <Override PartName="/ppt/media/image31.jpeg" ContentType="image/jpeg"/>
  <Override PartName="/ppt/media/image32.png" ContentType="image/png"/>
  <Override PartName="/ppt/media/image25.jpeg" ContentType="image/jpeg"/>
  <Override PartName="/ppt/media/image29.png" ContentType="image/png"/>
  <Override PartName="/ppt/media/image6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2.jpeg" ContentType="image/jpeg"/>
  <Override PartName="/ppt/media/image9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C13-E931-44E9-A9EC-566D9BDC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B91-1119-4C94-9994-36162CCE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024-598B-4B6D-84FE-0019FC19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7C5-4309-468D-B0FE-C5B3DD8B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CC6-C12B-4018-B09E-AF9222C0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E6D-896B-4F3E-B66A-60CE97BE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135-05F2-4611-8EF7-C0B624E0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CCB-0EB6-4400-A5A4-B51524E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FF8-0CFA-4439-8799-4E261955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2C7-26A2-44C7-98E3-AA69EA2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FE3-D311-4003-895F-AB2A7EA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216-4C7B-48EA-AB47-7C6F7090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C5D-B91A-4021-A3CC-520BD98E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42920" y="765000"/>
            <a:ext cx="7274160" cy="532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МА У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даємо і віднімаємо числа част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находження периметр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ямокут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Урок-подорож підготув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читель початкових клас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КЗ “Івашківський ліцей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Золочівської селищної ра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Харківської обла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Новікова Марина Євгенії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Arial"/>
              </a:rPr>
              <a:t>Розв′яжіть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 м                 8 м                   5 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"/>
          <p:cNvPicPr/>
          <p:nvPr/>
        </p:nvPicPr>
        <p:blipFill>
          <a:blip r:embed="rId1"/>
          <a:srcRect l="5936" t="-1534" r="2605" b="93160"/>
          <a:stretch/>
        </p:blipFill>
        <p:spPr>
          <a:xfrm>
            <a:off x="755640" y="1700280"/>
            <a:ext cx="2743200" cy="399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"/>
          <p:cNvPicPr/>
          <p:nvPr/>
        </p:nvPicPr>
        <p:blipFill>
          <a:blip r:embed="rId2"/>
          <a:srcRect l="5936" t="-1534" r="2605" b="93160"/>
          <a:stretch/>
        </p:blipFill>
        <p:spPr>
          <a:xfrm>
            <a:off x="3419640" y="1700280"/>
            <a:ext cx="2857320" cy="399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"/>
          <p:cNvPicPr/>
          <p:nvPr/>
        </p:nvPicPr>
        <p:blipFill>
          <a:blip r:embed="rId3"/>
          <a:srcRect l="5936" t="-1534" r="2605" b="93160"/>
          <a:stretch/>
        </p:blipFill>
        <p:spPr>
          <a:xfrm>
            <a:off x="6372360" y="1700280"/>
            <a:ext cx="2057400" cy="399960"/>
          </a:xfrm>
          <a:prstGeom prst="rect">
            <a:avLst/>
          </a:prstGeom>
          <a:ln w="0">
            <a:noFill/>
          </a:ln>
        </p:spPr>
      </p:pic>
      <p:sp>
        <p:nvSpPr>
          <p:cNvPr id="85" name="Правая фигурная скобка 11"/>
          <p:cNvSpPr/>
          <p:nvPr/>
        </p:nvSpPr>
        <p:spPr>
          <a:xfrm rot="5400000">
            <a:off x="4440240" y="-1552320"/>
            <a:ext cx="457200" cy="8115120"/>
          </a:xfrm>
          <a:custGeom>
            <a:avLst/>
            <a:gdLst>
              <a:gd name="textAreaLeft" fmla="*/ 0 w 457200"/>
              <a:gd name="textAreaRight" fmla="*/ 164880 w 457200"/>
              <a:gd name="textAreaTop" fmla="*/ 57600 h 8115120"/>
              <a:gd name="textAreaBottom" fmla="*/ 8057520 h 811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4"/>
          <a:stretch/>
        </p:blipFill>
        <p:spPr>
          <a:xfrm>
            <a:off x="395280" y="2629080"/>
            <a:ext cx="2857680" cy="422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2.bp.blogspot.com/-jmZpHgVl-8o/UFoAf4a7NnI/AAAAAAAAAhw/v6GfQSE-6KE/s1600/cartoon-pirate.png"/>
          <p:cNvPicPr/>
          <p:nvPr/>
        </p:nvPicPr>
        <p:blipFill>
          <a:blip r:embed="rId5"/>
          <a:stretch/>
        </p:blipFill>
        <p:spPr>
          <a:xfrm>
            <a:off x="6515280" y="2971800"/>
            <a:ext cx="2628720" cy="38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img1.cliparto.com/pic/xl/214580/3657711-rope-frame.jpg"/>
          <p:cNvPicPr/>
          <p:nvPr/>
        </p:nvPicPr>
        <p:blipFill>
          <a:blip r:embed="rId6"/>
          <a:stretch/>
        </p:blipFill>
        <p:spPr>
          <a:xfrm>
            <a:off x="2411280" y="2867040"/>
            <a:ext cx="50421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Arial"/>
              </a:rPr>
              <a:t>Математична скринь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70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2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5257800" cy="25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27280" y="5589720"/>
            <a:ext cx="4248360" cy="1131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ТРІВ ВІДПОЧИ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71640" y="5373720"/>
            <a:ext cx="42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АЄМНИЧИЙ ОСТ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Розв′яжіть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 покупця було 50 грн. Він купив календар за 8 грн. Скільки грошей залишилося в покупц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Було – 50г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итратив – 8 г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лишилося –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rcRect l="0" t="0" r="0" b="124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672000" cy="46087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1" descr=""/>
          <p:cNvPicPr/>
          <p:nvPr/>
        </p:nvPicPr>
        <p:blipFill>
          <a:blip r:embed="rId3"/>
          <a:stretch/>
        </p:blipFill>
        <p:spPr>
          <a:xfrm>
            <a:off x="4572000" y="476280"/>
            <a:ext cx="42292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Розв′яжіть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острові пірати знайшли скарб, у якому було 74 золотих монети. Поки вони його намагалися його перенести на корабель, сундук відкрився і у воду випало спочатку 8 монет, а потім ще 6 монет. Скільки монет залишилося у пірат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уло – 74 мон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пало  – ?,   8 монет і 6  мо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лишилося 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20727600">
            <a:off x="4572000" y="3933720"/>
            <a:ext cx="33847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т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ралових риф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" descr=""/>
          <p:cNvPicPr/>
          <p:nvPr/>
        </p:nvPicPr>
        <p:blipFill>
          <a:blip r:embed="rId2"/>
          <a:stretch/>
        </p:blipFill>
        <p:spPr>
          <a:xfrm rot="425400">
            <a:off x="3238560" y="4365360"/>
            <a:ext cx="59054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27280" y="2276640"/>
            <a:ext cx="27367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Розв′яжі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м                       В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найдіть периметр прямоку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708280"/>
            <a:ext cx="662436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rot="20148000">
            <a:off x="5148360" y="4365720"/>
            <a:ext cx="3620880" cy="141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ЕВІРНИЙ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Картинки по запросу &quot;карта моря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 rot="21403800">
            <a:off x="160200" y="0"/>
            <a:ext cx="8791560" cy="667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riddle.su/icons/sailer256.png"/>
          <p:cNvPicPr/>
          <p:nvPr/>
        </p:nvPicPr>
        <p:blipFill>
          <a:blip r:embed="rId2"/>
          <a:stretch/>
        </p:blipFill>
        <p:spPr>
          <a:xfrm>
            <a:off x="5003640" y="1773360"/>
            <a:ext cx="4392720" cy="5084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0849400">
            <a:off x="1763280" y="2276280"/>
            <a:ext cx="273204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3 лю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ласн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ро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0148000">
            <a:off x="5148360" y="4365720"/>
            <a:ext cx="3620880" cy="141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ЕВІРНИЙ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3399"/>
                </a:solidFill>
                <a:latin typeface="Arial"/>
              </a:rPr>
              <a:t>Гра “Допоможи коку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papus666.narod.ru/clipart/v/vesy/vesy01.png"/>
          <p:cNvPicPr/>
          <p:nvPr/>
        </p:nvPicPr>
        <p:blipFill>
          <a:blip r:embed="rId1"/>
          <a:stretch/>
        </p:blipFill>
        <p:spPr>
          <a:xfrm>
            <a:off x="539640" y="907920"/>
            <a:ext cx="5472360" cy="51850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2"/>
          <a:stretch/>
        </p:blipFill>
        <p:spPr>
          <a:xfrm>
            <a:off x="4284720" y="5157720"/>
            <a:ext cx="148572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8" descr=""/>
          <p:cNvPicPr/>
          <p:nvPr/>
        </p:nvPicPr>
        <p:blipFill>
          <a:blip r:embed="rId3"/>
          <a:stretch/>
        </p:blipFill>
        <p:spPr>
          <a:xfrm>
            <a:off x="2556000" y="5300640"/>
            <a:ext cx="158436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6" descr=""/>
          <p:cNvPicPr/>
          <p:nvPr/>
        </p:nvPicPr>
        <p:blipFill>
          <a:blip r:embed="rId4"/>
          <a:stretch/>
        </p:blipFill>
        <p:spPr>
          <a:xfrm>
            <a:off x="900000" y="522936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724360" y="1125360"/>
            <a:ext cx="28321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3357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3141720"/>
            <a:ext cx="4643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Гра “Морський бій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9280" y="1268280"/>
          <a:ext cx="6264360" cy="5349960"/>
        </p:xfrm>
        <a:graphic>
          <a:graphicData uri="http://schemas.openxmlformats.org/drawingml/2006/table">
            <a:tbl>
              <a:tblPr/>
              <a:tblGrid>
                <a:gridCol w="1252800"/>
                <a:gridCol w="1252440"/>
                <a:gridCol w="1254240"/>
                <a:gridCol w="1252440"/>
                <a:gridCol w="125244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Рисунок 17" descr=""/>
          <p:cNvPicPr/>
          <p:nvPr/>
        </p:nvPicPr>
        <p:blipFill>
          <a:blip r:embed="rId1"/>
          <a:srcRect l="17625" t="0" r="17731" b="0"/>
          <a:stretch/>
        </p:blipFill>
        <p:spPr>
          <a:xfrm>
            <a:off x="5580000" y="955800"/>
            <a:ext cx="381492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48360" y="5300640"/>
            <a:ext cx="3527280" cy="1131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ТРІВ ПІРА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2T22:18:11Z</dcterms:created>
  <dc:creator>Марина</dc:creator>
  <dc:description/>
  <dc:language>en-US</dc:language>
  <cp:lastModifiedBy>Марина</cp:lastModifiedBy>
  <dcterms:modified xsi:type="dcterms:W3CDTF">2020-03-02T15:40:16Z</dcterms:modified>
  <cp:revision>5</cp:revision>
  <dc:subject/>
  <dc:title>Слайд 1</dc:title>
</cp:coreProperties>
</file>