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4CD0-1852-41EE-A14E-18B97110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95DC-D42B-453D-8E77-50FD8EAC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E745-E4BB-49A8-8AB9-7A652A90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5AD4-67C6-43A1-9C66-BF98A909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5AAD-0EB1-4C61-932C-F2B02C6B1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0683-0B4F-4A24-8DB6-FCA9C900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59D8-F20B-4E11-A35A-5C04FB51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30D6-E319-45E4-9342-47F67744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132F-4930-4D3F-8B79-A1BEB64B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4444-2B5B-4457-941B-6C8100E9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6819-A654-414B-8E67-3FE6D811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0B8D-C222-4336-B773-004654D9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C9CD-E6BC-4F84-AD77-F6734FCB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1E11-B9F7-4997-A450-99F06E67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9A3E-BA1F-481B-9939-D2D102AF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D6EE-D864-45A2-BEFF-A26CD0273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C309-DE38-4973-ADC9-9FA39F5E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57522-9B96-4391-B9CC-1B6BD500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44FAA-3A46-4599-9C75-2FC09A1E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35AAD-9B75-40DF-93FA-7B1466E8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EF653-9941-41A6-B71A-5C94FE04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1B4E1-8221-4449-9141-6A0DC001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3CF6-4582-4417-B3E9-45B3F208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5A7BC-4D05-48EF-ACC0-63ED493D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2566A-7C1D-411C-B1DF-05E8A0BE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CDA7B-05B4-49CC-9CDC-EB89F4D6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57EA2-93C5-4CC7-9B00-B86BBF89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CA733-71C0-41AA-A52E-CCB5F9F6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EA242-1A91-4AE3-8311-4B17730A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F4210-F1CE-4919-BF56-A6303941D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CFFCF-7724-4925-98A5-DE90C81B0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2EE8A-3EF6-4E23-9634-9F930066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EFED8-D572-478A-84B3-1225D7E7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EF86-8DB3-44E8-8E19-C5AA00FB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12CEE-2C2C-4338-AE8D-B6199AC4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0AC76-BFD0-47E2-B7B2-E7F446B0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AC2A3-0E84-47B7-9C48-10D3A977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9180C-44B0-40DD-8824-C5C0AFFF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D9C94-9105-4BBE-AD09-E09B5791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AB2C7-DA94-4F0F-9E1B-0957E6E3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36C12-E402-47D4-8B5C-B8205558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4F83E-AA4E-4644-8C29-BA233A04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5FDBA-9614-42C4-955A-45CBCD7C4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5D50E-FB15-41CA-8426-92DFF47F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1F46-980D-443E-B111-419934F2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95CC3-DAF1-4326-BEFB-806649DE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B8D96-60EC-4F5D-9157-E8E941B8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BDB93-4633-4013-80EB-F62F0D49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6A128-23DF-4AE7-98C9-226253D8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EE728-E737-421D-85C4-01B15056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595CD-4B12-43EE-A87A-EE72D611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84E1D-0C65-459C-81C5-5228292F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8802F-FF7D-4847-8116-1E372D48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535D2-9A65-4AED-898C-9F607F1D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990B1-4F9E-4CCF-B348-DF207D0A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A806-C276-49A8-9645-87CDD1D4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D47C3-C00B-449E-9A70-184421574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5D6E7-D16E-47FA-9B73-F3423E9B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3342B-CCEE-4B59-B029-BEFF57A3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E0977-EE20-47A3-943F-B3AC6006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D0DAD-A396-4AD4-BEA7-0AC544AD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5994B-D5B8-4371-A303-29906A51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C9ABA-97AD-46B6-B89F-475D0AF3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6FB80-ADF7-430F-A26F-2042B60F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CB33E-3669-40B9-8DB6-E77F121C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CE1DF-E729-4DC3-889A-D9DB625D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2EBA-C63E-49B9-83A3-7BA39094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89958-C021-483F-B0F5-57506E56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BF9E8-735E-4516-A830-14323A51E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8DF5C-CC5A-4A3E-8A3D-374CC184A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C658-74F4-4D27-B4A4-F7E44DFA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1C8E-F154-40D6-A26A-4C7A394E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D3C7-BB3F-4A7D-BBA7-13159F63E61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72BC-0719-4AA0-8D26-E9D8C7A9FC5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15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4F8B-D1AE-40C4-8ED4-72423996159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72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CD2A-8F2F-49FF-A802-64B65427B50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2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7809-EA6A-4584-950E-741AB9FBB5D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8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F213-3E57-435F-A70A-8D1608C90C8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2915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 u="sng">
                <a:solidFill>
                  <a:srgbClr val="3333ff"/>
                </a:solidFill>
                <a:uFillTx/>
                <a:latin typeface="Verdana"/>
              </a:rPr>
              <a:t>Квадратні корен</a:t>
            </a:r>
            <a:r>
              <a:rPr b="0" lang="uk-UA" sz="8800" spc="-1" strike="noStrike" u="sng">
                <a:solidFill>
                  <a:srgbClr val="3333ff"/>
                </a:solidFill>
                <a:uFillTx/>
                <a:latin typeface="Verdana"/>
              </a:rPr>
              <a:t>і</a:t>
            </a:r>
            <a:endParaRPr b="0" lang="en-US" sz="8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1" name=""/>
          <p:cNvSpPr/>
          <p:nvPr/>
        </p:nvSpPr>
        <p:spPr>
          <a:xfrm>
            <a:off x="539640" y="472428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0" y="4489560"/>
                <a:ext cx="3240000" cy="23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 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826920" y="4941720"/>
            <a:ext cx="1656000" cy="16560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7524720" y="0"/>
            <a:ext cx="161928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33333 L 0 0 E">
                                      <p:cBhvr>
                                        <p:cTn id="6" dur="2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82184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Відповідь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eaeaea"/>
                </a:solidFill>
                <a:latin typeface="Verdana"/>
              </a:rPr>
              <a:t>99</a:t>
            </a:r>
            <a:endParaRPr b="0" lang="en-US" sz="9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1476360" y="1914480"/>
                <a:ext cx="6095880" cy="21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Відповідь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eaeaea"/>
                </a:solidFill>
                <a:latin typeface="Verdana"/>
              </a:rPr>
              <a:t>0,6</a:t>
            </a:r>
            <a:endParaRPr b="0" lang="en-US" sz="9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1546200" y="2060640"/>
                <a:ext cx="6097680" cy="20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Відповідь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eaeaea"/>
                </a:solidFill>
                <a:latin typeface="Verdana"/>
              </a:rPr>
              <a:t>0,6</a:t>
            </a:r>
            <a:endParaRPr b="0" lang="en-US" sz="9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3059280" y="1125360"/>
                <a:ext cx="301932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Відповідь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3564000" y="1197000"/>
                <a:ext cx="209700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2700360" y="1197000"/>
                <a:ext cx="371628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Відповідь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3419640" y="1197000"/>
                <a:ext cx="222876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800" spc="-1" strike="noStrike">
                <a:solidFill>
                  <a:srgbClr val="eaeaea"/>
                </a:solidFill>
                <a:latin typeface="Verdana"/>
              </a:rPr>
              <a:t>Замінити вираз тотожно рівним:</a:t>
            </a:r>
            <a:endParaRPr b="0" lang="en-US" sz="8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9966"/>
                </a:solidFill>
                <a:latin typeface="Arial"/>
              </a:rPr>
              <a:t>ПРОТЯГОМ УРОКУ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828800" y="1871640"/>
            <a:ext cx="762120" cy="665280"/>
            <a:chOff x="1828800" y="1871640"/>
            <a:chExt cx="762120" cy="665280"/>
          </a:xfrm>
        </p:grpSpPr>
        <p:sp>
          <p:nvSpPr>
            <p:cNvPr id="347" name=""/>
            <p:cNvSpPr/>
            <p:nvPr/>
          </p:nvSpPr>
          <p:spPr>
            <a:xfrm>
              <a:off x="1834920" y="18828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828800" y="1871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73080" y="191088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eec85e"/>
                </a:gs>
                <a:gs pos="100000">
                  <a:srgbClr val="6d5c2b"/>
                </a:gs>
              </a:gsLst>
              <a:lin ang="13500000"/>
            </a:gra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1835280" y="2781360"/>
            <a:ext cx="761400" cy="665280"/>
            <a:chOff x="1835280" y="2781360"/>
            <a:chExt cx="761400" cy="665280"/>
          </a:xfrm>
        </p:grpSpPr>
        <p:sp>
          <p:nvSpPr>
            <p:cNvPr id="351" name=""/>
            <p:cNvSpPr/>
            <p:nvPr/>
          </p:nvSpPr>
          <p:spPr>
            <a:xfrm>
              <a:off x="1841400" y="2792520"/>
              <a:ext cx="755280" cy="654120"/>
            </a:xfrm>
            <a:prstGeom prst="hexagon">
              <a:avLst>
                <a:gd name="adj" fmla="val 2886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835280" y="278136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79560" y="2820600"/>
              <a:ext cx="663840" cy="575280"/>
            </a:xfrm>
            <a:prstGeom prst="hexagon">
              <a:avLst>
                <a:gd name="adj" fmla="val 28849"/>
                <a:gd name="vf" fmla="val 115470"/>
              </a:avLst>
            </a:prstGeom>
            <a:gradFill rotWithShape="0">
              <a:gsLst>
                <a:gs pos="0">
                  <a:srgbClr val="339966"/>
                </a:gs>
                <a:gs pos="100000">
                  <a:srgbClr val="17462f"/>
                </a:gs>
              </a:gsLst>
              <a:lin ang="13500000"/>
            </a:gra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2438280" y="24811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27520" y="1969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438280" y="33955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027520" y="2884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835280" y="3645000"/>
            <a:ext cx="761760" cy="664920"/>
            <a:chOff x="1835280" y="3645000"/>
            <a:chExt cx="761760" cy="664920"/>
          </a:xfrm>
        </p:grpSpPr>
        <p:sp>
          <p:nvSpPr>
            <p:cNvPr id="359" name=""/>
            <p:cNvSpPr/>
            <p:nvPr/>
          </p:nvSpPr>
          <p:spPr>
            <a:xfrm>
              <a:off x="1841400" y="36561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5280" y="364500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879560" y="3684240"/>
              <a:ext cx="663840" cy="574920"/>
            </a:xfrm>
            <a:prstGeom prst="hexagon">
              <a:avLst>
                <a:gd name="adj" fmla="val 28867"/>
                <a:gd name="vf" fmla="val 115470"/>
              </a:avLst>
            </a:prstGeom>
            <a:gradFill rotWithShape="0">
              <a:gsLst>
                <a:gs pos="0">
                  <a:srgbClr val="eec85e"/>
                </a:gs>
                <a:gs pos="100000">
                  <a:srgbClr val="6d5c2b"/>
                </a:gs>
              </a:gsLst>
              <a:lin ang="13500000"/>
            </a:gra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835280" y="4581360"/>
            <a:ext cx="761400" cy="665280"/>
            <a:chOff x="1835280" y="4581360"/>
            <a:chExt cx="761400" cy="665280"/>
          </a:xfrm>
        </p:grpSpPr>
        <p:sp>
          <p:nvSpPr>
            <p:cNvPr id="363" name=""/>
            <p:cNvSpPr/>
            <p:nvPr/>
          </p:nvSpPr>
          <p:spPr>
            <a:xfrm>
              <a:off x="1841400" y="4592520"/>
              <a:ext cx="755280" cy="654120"/>
            </a:xfrm>
            <a:prstGeom prst="hexagon">
              <a:avLst>
                <a:gd name="adj" fmla="val 2886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835280" y="458136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879560" y="4620600"/>
              <a:ext cx="663840" cy="575280"/>
            </a:xfrm>
            <a:prstGeom prst="hexagon">
              <a:avLst>
                <a:gd name="adj" fmla="val 28849"/>
                <a:gd name="vf" fmla="val 115470"/>
              </a:avLst>
            </a:prstGeom>
            <a:gradFill rotWithShape="0">
              <a:gsLst>
                <a:gs pos="0">
                  <a:srgbClr val="339966"/>
                </a:gs>
                <a:gs pos="100000">
                  <a:srgbClr val="17462f"/>
                </a:gs>
              </a:gsLst>
              <a:lin ang="13500000"/>
            </a:gra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2484360" y="4508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557440" y="4437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053080" y="3716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41128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627280" y="2637000"/>
            <a:ext cx="66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053080" y="465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700360" y="1700280"/>
            <a:ext cx="46800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aeaea"/>
                </a:solidFill>
                <a:latin typeface="Verdana"/>
              </a:rPr>
              <a:t>узагальнити та систематизувати матеріал з тем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aeaea"/>
                </a:solidFill>
                <a:latin typeface="Verdana"/>
              </a:rPr>
              <a:t>удосконалити обчислювальні навички при розв’язуванні завдань на добування коренів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aeaea"/>
                </a:solidFill>
                <a:latin typeface="Verdana"/>
              </a:rPr>
              <a:t>удосконалити вміння та навички застосовувати властивості   арифметичного квадратного кореня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uk-UA" sz="1800" spc="-1" strike="noStrike">
                <a:solidFill>
                  <a:srgbClr val="eaeaea"/>
                </a:solidFill>
                <a:latin typeface="Verdana"/>
              </a:rPr>
              <a:t>при розв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’</a:t>
            </a:r>
            <a:r>
              <a:rPr b="1" lang="uk-UA" sz="1800" spc="-1" strike="noStrike">
                <a:solidFill>
                  <a:srgbClr val="eaeaea"/>
                </a:solidFill>
                <a:latin typeface="Verdana"/>
              </a:rPr>
              <a:t>язуванні вправ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aeaea"/>
                </a:solidFill>
                <a:latin typeface="Verdana"/>
              </a:rPr>
              <a:t>набути навичок роботи в малих групах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aeaea"/>
                </a:solidFill>
                <a:latin typeface="Verdana"/>
              </a:rPr>
              <a:t>набути навичок логічних міркуван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835280" y="5734080"/>
            <a:ext cx="761400" cy="665280"/>
            <a:chOff x="1835280" y="5734080"/>
            <a:chExt cx="761400" cy="665280"/>
          </a:xfrm>
        </p:grpSpPr>
        <p:sp>
          <p:nvSpPr>
            <p:cNvPr id="374" name=""/>
            <p:cNvSpPr/>
            <p:nvPr/>
          </p:nvSpPr>
          <p:spPr>
            <a:xfrm>
              <a:off x="1841400" y="5745240"/>
              <a:ext cx="755280" cy="654120"/>
            </a:xfrm>
            <a:prstGeom prst="hexagon">
              <a:avLst>
                <a:gd name="adj" fmla="val 2886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835280" y="57340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79560" y="5773320"/>
              <a:ext cx="663840" cy="575280"/>
            </a:xfrm>
            <a:prstGeom prst="hexagon">
              <a:avLst>
                <a:gd name="adj" fmla="val 28849"/>
                <a:gd name="vf" fmla="val 115470"/>
              </a:avLst>
            </a:prstGeom>
            <a:gradFill rotWithShape="0">
              <a:gsLst>
                <a:gs pos="0">
                  <a:srgbClr val="339966"/>
                </a:gs>
                <a:gs pos="100000">
                  <a:srgbClr val="17462f"/>
                </a:gs>
              </a:gsLst>
              <a:lin ang="13500000"/>
            </a:gra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050920" y="5877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66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11280" y="6308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1763640" y="1125360"/>
                <a:ext cx="609624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Відповідь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eaeaea"/>
                </a:solidFill>
                <a:latin typeface="Verdana"/>
              </a:rPr>
              <a:t>15</a:t>
            </a:r>
            <a:endParaRPr b="0" lang="en-US" sz="9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2124000" y="1125360"/>
                <a:ext cx="535788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х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Відповідь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3276720" y="1197000"/>
                <a:ext cx="264132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х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1619280" y="1484280"/>
                <a:ext cx="6095880" cy="29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а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Відповідь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1692360" y="1268280"/>
                <a:ext cx="589284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1619280" y="1557360"/>
                <a:ext cx="6095880" cy="30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у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Відповідь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1619280" y="1197000"/>
                <a:ext cx="609588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у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1547640" y="1197000"/>
                <a:ext cx="6096240" cy="393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Відповідь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556000" y="981000"/>
                <a:ext cx="406404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6084360" y="5300640"/>
            <a:ext cx="289116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Зри в корень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Козьма          Прутк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11760" cy="68580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6443640" y="2492280"/>
            <a:ext cx="2370240" cy="27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1619280" y="1557360"/>
                <a:ext cx="6095880" cy="26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,2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Відповідь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1619280" y="1341360"/>
                <a:ext cx="6095880" cy="312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,2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800" spc="-1" strike="noStrike">
                <a:solidFill>
                  <a:srgbClr val="eaeaea"/>
                </a:solidFill>
                <a:latin typeface="Verdana"/>
              </a:rPr>
              <a:t>Подайте число у вигляді квадрата:</a:t>
            </a:r>
            <a:endParaRPr b="0" lang="en-US" sz="8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eaeaea"/>
                </a:solidFill>
                <a:latin typeface="Verdana"/>
              </a:rPr>
              <a:t>3</a:t>
            </a:r>
            <a:endParaRPr b="0" lang="en-US" sz="9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Відповідь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2124000" y="1268280"/>
                <a:ext cx="517212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eaeaea"/>
                </a:solidFill>
                <a:latin typeface="Verdana"/>
              </a:rPr>
              <a:t>-5</a:t>
            </a:r>
            <a:endParaRPr b="0" lang="en-US" sz="9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Відповідь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1258920" y="1413000"/>
                <a:ext cx="6095880" cy="36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eaeaea"/>
                </a:solidFill>
                <a:latin typeface="Verdana"/>
              </a:rPr>
              <a:t>10</a:t>
            </a:r>
            <a:endParaRPr b="0" lang="en-US" sz="9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Відповідь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1547640" y="1197000"/>
                <a:ext cx="609624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eaeaea"/>
                </a:solidFill>
                <a:latin typeface="Verdana"/>
              </a:rPr>
              <a:t>36</a:t>
            </a:r>
            <a:endParaRPr b="0" lang="en-US" sz="9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179280" y="115920"/>
            <a:ext cx="8964720" cy="53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8800" spc="-1" strike="noStrike">
                <a:solidFill>
                  <a:srgbClr val="cc3399"/>
                </a:solidFill>
                <a:latin typeface="Verdana"/>
              </a:rPr>
              <a:t>Ви – здібні, талановиті й працелюбні,</a:t>
            </a:r>
            <a:endParaRPr b="0" lang="en-US" sz="8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8800" spc="-1" strike="noStrike">
                <a:solidFill>
                  <a:srgbClr val="cc3399"/>
                </a:solidFill>
                <a:latin typeface="Verdana"/>
              </a:rPr>
              <a:t>успіхів вам!</a:t>
            </a:r>
            <a:r>
              <a:rPr b="1" i="1" lang="uk-UA" sz="8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8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3780000" y="5229360"/>
            <a:ext cx="19047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Відповідь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916360" y="1197000"/>
                <a:ext cx="355572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eaeaea"/>
                </a:solidFill>
                <a:latin typeface="Verdana"/>
              </a:rPr>
              <a:t>11</a:t>
            </a:r>
            <a:endParaRPr b="0" lang="en-US" sz="9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Відповідь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1763640" y="1125360"/>
                <a:ext cx="591192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eaeaea"/>
                </a:solidFill>
                <a:latin typeface="Verdana"/>
              </a:rPr>
              <a:t>-18</a:t>
            </a:r>
            <a:endParaRPr b="0" lang="en-US" sz="9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Відповідь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1476360" y="1484280"/>
                <a:ext cx="6095880" cy="319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812000" y="-1053000"/>
            <a:ext cx="874800" cy="43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2419200" y="37767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08000" y="458640"/>
            <a:ext cx="8642160" cy="639936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7308720" y="5661000"/>
            <a:ext cx="936720" cy="86364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1763640" y="4437000"/>
                <a:ext cx="72396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812000" y="-1053000"/>
            <a:ext cx="874800" cy="43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2419200" y="37767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108000" y="458640"/>
            <a:ext cx="8642160" cy="639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1763640" y="4597560"/>
                <a:ext cx="72396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63" name=""/>
          <p:cNvSpPr/>
          <p:nvPr/>
        </p:nvSpPr>
        <p:spPr>
          <a:xfrm>
            <a:off x="6516720" y="3500280"/>
            <a:ext cx="122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Verdana"/>
              </a:rPr>
              <a:t>24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812000" y="6308640"/>
            <a:ext cx="5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956720" y="6308640"/>
            <a:ext cx="36036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7200" spc="-1" strike="noStrike">
                <a:solidFill>
                  <a:srgbClr val="bf4949"/>
                </a:solidFill>
                <a:latin typeface="Verdana"/>
              </a:rPr>
              <a:t>Зібратися разом – це початок, працювати разом – це успіх.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3348000" y="4869000"/>
            <a:ext cx="23036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eaeaea"/>
                </a:solidFill>
                <a:latin typeface="Verdana"/>
              </a:rPr>
              <a:t>1% везіння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eaeaea"/>
                </a:solidFill>
                <a:latin typeface="Verdana"/>
              </a:rPr>
              <a:t>+ </a:t>
            </a:r>
            <a:r>
              <a:rPr b="1" lang="uk-UA" sz="7200" spc="-1" strike="noStrike" u="sng">
                <a:solidFill>
                  <a:srgbClr val="eaeaea"/>
                </a:solidFill>
                <a:uFillTx/>
                <a:latin typeface="Verdana"/>
              </a:rPr>
              <a:t>99% потіння</a:t>
            </a:r>
            <a:r>
              <a:rPr b="1" lang="uk-UA" sz="7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eaeaea"/>
                </a:solidFill>
                <a:latin typeface="Verdana"/>
              </a:rPr>
              <a:t>У С П І Х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aeaea"/>
                </a:solidFill>
                <a:latin typeface="Verdana"/>
              </a:rPr>
              <a:t>(Едісон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3f17e9"/>
                </a:solidFill>
                <a:latin typeface="Verdana"/>
              </a:rPr>
              <a:t>“</a:t>
            </a:r>
            <a:r>
              <a:rPr b="0" lang="uk-UA" sz="9600" spc="-1" strike="noStrike">
                <a:solidFill>
                  <a:srgbClr val="3f17e9"/>
                </a:solidFill>
                <a:latin typeface="Verdana"/>
              </a:rPr>
              <a:t>Робота в малих групах”</a:t>
            </a:r>
            <a:endParaRPr b="0" lang="en-US" sz="9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3564000" y="5084640"/>
            <a:ext cx="2143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Arial"/>
              </a:rPr>
              <a:t>В З А Є М О П Е Р Е В І Р К 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250920" y="1628640"/>
            <a:ext cx="1296360" cy="2943000"/>
            <a:chOff x="250920" y="1628640"/>
            <a:chExt cx="1296360" cy="2943000"/>
          </a:xfrm>
        </p:grpSpPr>
        <p:sp>
          <p:nvSpPr>
            <p:cNvPr id="386" name=""/>
            <p:cNvSpPr/>
            <p:nvPr/>
          </p:nvSpPr>
          <p:spPr>
            <a:xfrm>
              <a:off x="250920" y="1852920"/>
              <a:ext cx="1292760" cy="2084040"/>
            </a:xfrm>
            <a:custGeom>
              <a:avLst/>
              <a:gdLst>
                <a:gd name="textAreaLeft" fmla="*/ 66240 w 1292760"/>
                <a:gd name="textAreaRight" fmla="*/ 1226520 w 1292760"/>
                <a:gd name="textAreaTop" fmla="*/ 66240 h 2084040"/>
                <a:gd name="textAreaBottom" fmla="*/ 2017800 h 2084040"/>
              </a:gdLst>
              <a:ahLst/>
              <a:rect l="textAreaLeft" t="textAreaTop" r="textAreaRight" b="textAreaBottom"/>
              <a:pathLst>
                <a:path w="21600" h="34817">
                  <a:moveTo>
                    <a:pt x="3782" y="0"/>
                  </a:moveTo>
                  <a:arcTo wR="3782" hR="3782" stAng="16200000" swAng="-5400000"/>
                  <a:lnTo>
                    <a:pt x="0" y="31035"/>
                  </a:lnTo>
                  <a:arcTo wR="3782" hR="3782" stAng="10800000" swAng="-5400000"/>
                  <a:lnTo>
                    <a:pt x="17818" y="34817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0720" y="1859040"/>
              <a:ext cx="1253880" cy="2044440"/>
            </a:xfrm>
            <a:custGeom>
              <a:avLst/>
              <a:gdLst>
                <a:gd name="textAreaLeft" fmla="*/ 61200 w 1253880"/>
                <a:gd name="textAreaRight" fmla="*/ 1192680 w 1253880"/>
                <a:gd name="textAreaTop" fmla="*/ 61200 h 2044440"/>
                <a:gd name="textAreaBottom" fmla="*/ 1983240 h 2044440"/>
              </a:gdLst>
              <a:ahLst/>
              <a:rect l="textAreaLeft" t="textAreaTop" r="textAreaRight" b="textAreaBottom"/>
              <a:pathLst>
                <a:path w="21600" h="35215">
                  <a:moveTo>
                    <a:pt x="3600" y="0"/>
                  </a:moveTo>
                  <a:arcTo wR="3600" hR="3600" stAng="16200000" swAng="-5400000"/>
                  <a:lnTo>
                    <a:pt x="0" y="31615"/>
                  </a:lnTo>
                  <a:arcTo wR="3600" hR="3600" stAng="10800000" swAng="-5400000"/>
                  <a:lnTo>
                    <a:pt x="18000" y="352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1160" y="3364200"/>
              <a:ext cx="1236960" cy="517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1160" y="1874880"/>
              <a:ext cx="1236960" cy="516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4520" y="3937320"/>
              <a:ext cx="1292760" cy="6343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81160" y="3954600"/>
              <a:ext cx="1236960" cy="56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695520" y="1628640"/>
              <a:ext cx="384120" cy="468720"/>
              <a:chOff x="695520" y="1628640"/>
              <a:chExt cx="384120" cy="468720"/>
            </a:xfrm>
          </p:grpSpPr>
          <p:sp>
            <p:nvSpPr>
              <p:cNvPr id="393" name=""/>
              <p:cNvSpPr/>
              <p:nvPr/>
            </p:nvSpPr>
            <p:spPr>
              <a:xfrm>
                <a:off x="695520" y="1628640"/>
                <a:ext cx="384120" cy="4687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99480" y="1632240"/>
                <a:ext cx="371520" cy="4539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03800" y="1634760"/>
                <a:ext cx="362880" cy="442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08120" y="1639080"/>
                <a:ext cx="344880" cy="413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27920" y="1650240"/>
                <a:ext cx="306720" cy="335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709560" y="1695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7360" y="2184480"/>
              <a:ext cx="1229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763640" y="1628640"/>
            <a:ext cx="1223640" cy="2879640"/>
            <a:chOff x="1763640" y="1628640"/>
            <a:chExt cx="1223640" cy="2879640"/>
          </a:xfrm>
        </p:grpSpPr>
        <p:sp>
          <p:nvSpPr>
            <p:cNvPr id="401" name=""/>
            <p:cNvSpPr/>
            <p:nvPr/>
          </p:nvSpPr>
          <p:spPr>
            <a:xfrm>
              <a:off x="1763640" y="1848240"/>
              <a:ext cx="1222200" cy="2039400"/>
            </a:xfrm>
            <a:custGeom>
              <a:avLst/>
              <a:gdLst>
                <a:gd name="textAreaLeft" fmla="*/ 62640 w 1222200"/>
                <a:gd name="textAreaRight" fmla="*/ 1159560 w 1222200"/>
                <a:gd name="textAreaTop" fmla="*/ 62640 h 2039400"/>
                <a:gd name="textAreaBottom" fmla="*/ 1976760 h 2039400"/>
              </a:gdLst>
              <a:ahLst/>
              <a:rect l="textAreaLeft" t="textAreaTop" r="textAreaRight" b="textAreaBottom"/>
              <a:pathLst>
                <a:path w="21600" h="36038">
                  <a:moveTo>
                    <a:pt x="3782" y="0"/>
                  </a:moveTo>
                  <a:arcTo wR="3782" hR="3782" stAng="16200000" swAng="-5400000"/>
                  <a:lnTo>
                    <a:pt x="0" y="32256"/>
                  </a:lnTo>
                  <a:arcTo wR="3782" hR="3782" stAng="10800000" swAng="-5400000"/>
                  <a:lnTo>
                    <a:pt x="17818" y="3603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782000" y="1854000"/>
              <a:ext cx="1185480" cy="2000520"/>
            </a:xfrm>
            <a:custGeom>
              <a:avLst/>
              <a:gdLst>
                <a:gd name="textAreaLeft" fmla="*/ 57600 w 1185480"/>
                <a:gd name="textAreaRight" fmla="*/ 1127880 w 1185480"/>
                <a:gd name="textAreaTop" fmla="*/ 57600 h 2000520"/>
                <a:gd name="textAreaBottom" fmla="*/ 1942920 h 2000520"/>
              </a:gdLst>
              <a:ahLst/>
              <a:rect l="textAreaLeft" t="textAreaTop" r="textAreaRight" b="textAreaBottom"/>
              <a:pathLst>
                <a:path w="21600" h="36446">
                  <a:moveTo>
                    <a:pt x="3600" y="0"/>
                  </a:moveTo>
                  <a:arcTo wR="3600" hR="3600" stAng="16200000" swAng="-5400000"/>
                  <a:lnTo>
                    <a:pt x="0" y="32846"/>
                  </a:lnTo>
                  <a:arcTo wR="3600" hR="3600" stAng="10800000" swAng="-5400000"/>
                  <a:lnTo>
                    <a:pt x="18000" y="364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792080" y="3326760"/>
              <a:ext cx="1169280" cy="506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92080" y="1869840"/>
              <a:ext cx="1169280" cy="505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84120" y="1628640"/>
              <a:ext cx="363240" cy="458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1631880"/>
              <a:ext cx="351360" cy="4438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192040" y="1634040"/>
              <a:ext cx="343080" cy="4338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195640" y="1638720"/>
              <a:ext cx="326160" cy="404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215440" y="1649880"/>
              <a:ext cx="289800" cy="328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89520" y="1693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07560" y="2173320"/>
              <a:ext cx="11595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765080" y="3887640"/>
              <a:ext cx="1222200" cy="6206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90280" y="3904560"/>
              <a:ext cx="1169280" cy="551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132000" y="1628640"/>
            <a:ext cx="1295640" cy="2990520"/>
            <a:chOff x="3132000" y="1628640"/>
            <a:chExt cx="1295640" cy="2990520"/>
          </a:xfrm>
        </p:grpSpPr>
        <p:sp>
          <p:nvSpPr>
            <p:cNvPr id="415" name=""/>
            <p:cNvSpPr/>
            <p:nvPr/>
          </p:nvSpPr>
          <p:spPr>
            <a:xfrm>
              <a:off x="3135600" y="1856520"/>
              <a:ext cx="1292040" cy="2117880"/>
            </a:xfrm>
            <a:custGeom>
              <a:avLst/>
              <a:gdLst>
                <a:gd name="textAreaLeft" fmla="*/ 66240 w 1292040"/>
                <a:gd name="textAreaRight" fmla="*/ 1225800 w 1292040"/>
                <a:gd name="textAreaTop" fmla="*/ 66240 h 2117880"/>
                <a:gd name="textAreaBottom" fmla="*/ 2051640 h 2117880"/>
              </a:gdLst>
              <a:ahLst/>
              <a:rect l="textAreaLeft" t="textAreaTop" r="textAreaRight" b="textAreaBottom"/>
              <a:pathLst>
                <a:path w="21600" h="35402">
                  <a:moveTo>
                    <a:pt x="3782" y="0"/>
                  </a:moveTo>
                  <a:arcTo wR="3782" hR="3782" stAng="16200000" swAng="-5400000"/>
                  <a:lnTo>
                    <a:pt x="0" y="31620"/>
                  </a:lnTo>
                  <a:arcTo wR="3782" hR="3782" stAng="10800000" swAng="-5400000"/>
                  <a:lnTo>
                    <a:pt x="17818" y="3540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155400" y="1862640"/>
              <a:ext cx="1253160" cy="2077560"/>
            </a:xfrm>
            <a:custGeom>
              <a:avLst/>
              <a:gdLst>
                <a:gd name="textAreaLeft" fmla="*/ 60840 w 1253160"/>
                <a:gd name="textAreaRight" fmla="*/ 1192320 w 1253160"/>
                <a:gd name="textAreaTop" fmla="*/ 60840 h 2077560"/>
                <a:gd name="textAreaBottom" fmla="*/ 2016720 h 2077560"/>
              </a:gdLst>
              <a:ahLst/>
              <a:rect l="textAreaLeft" t="textAreaTop" r="textAreaRight" b="textAreaBottom"/>
              <a:pathLst>
                <a:path w="21600" h="35806">
                  <a:moveTo>
                    <a:pt x="3600" y="0"/>
                  </a:moveTo>
                  <a:arcTo wR="3600" hR="3600" stAng="16200000" swAng="-5400000"/>
                  <a:lnTo>
                    <a:pt x="0" y="32206"/>
                  </a:lnTo>
                  <a:arcTo wR="3600" hR="3600" stAng="10800000" swAng="-5400000"/>
                  <a:lnTo>
                    <a:pt x="18000" y="358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165840" y="3391920"/>
              <a:ext cx="1236240" cy="525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65840" y="1878840"/>
              <a:ext cx="1236240" cy="524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3579840" y="1628640"/>
              <a:ext cx="383760" cy="476280"/>
              <a:chOff x="3579840" y="1628640"/>
              <a:chExt cx="383760" cy="476280"/>
            </a:xfrm>
          </p:grpSpPr>
          <p:sp>
            <p:nvSpPr>
              <p:cNvPr id="420" name=""/>
              <p:cNvSpPr/>
              <p:nvPr/>
            </p:nvSpPr>
            <p:spPr>
              <a:xfrm>
                <a:off x="3579840" y="1628640"/>
                <a:ext cx="38376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583800" y="1632240"/>
                <a:ext cx="371160" cy="461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588120" y="1634760"/>
                <a:ext cx="362520" cy="450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592440" y="1639440"/>
                <a:ext cx="344880" cy="4197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612240" y="1650600"/>
                <a:ext cx="30636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3594240" y="1696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183120" y="2193480"/>
              <a:ext cx="1223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132000" y="3974400"/>
              <a:ext cx="1291680" cy="644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158280" y="3992040"/>
              <a:ext cx="1235880" cy="572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4572000" y="1628640"/>
            <a:ext cx="1296720" cy="2943000"/>
            <a:chOff x="4572000" y="1628640"/>
            <a:chExt cx="1296720" cy="2943000"/>
          </a:xfrm>
        </p:grpSpPr>
        <p:sp>
          <p:nvSpPr>
            <p:cNvPr id="430" name=""/>
            <p:cNvSpPr/>
            <p:nvPr/>
          </p:nvSpPr>
          <p:spPr>
            <a:xfrm>
              <a:off x="4572000" y="1852920"/>
              <a:ext cx="1293120" cy="2084040"/>
            </a:xfrm>
            <a:custGeom>
              <a:avLst/>
              <a:gdLst>
                <a:gd name="textAreaLeft" fmla="*/ 66240 w 1293120"/>
                <a:gd name="textAreaRight" fmla="*/ 1226880 w 1293120"/>
                <a:gd name="textAreaTop" fmla="*/ 66240 h 2084040"/>
                <a:gd name="textAreaBottom" fmla="*/ 2017800 h 2084040"/>
              </a:gdLst>
              <a:ahLst/>
              <a:rect l="textAreaLeft" t="textAreaTop" r="textAreaRight" b="textAreaBottom"/>
              <a:pathLst>
                <a:path w="21600" h="34808">
                  <a:moveTo>
                    <a:pt x="3782" y="0"/>
                  </a:moveTo>
                  <a:arcTo wR="3782" hR="3782" stAng="16200000" swAng="-5400000"/>
                  <a:lnTo>
                    <a:pt x="0" y="31026"/>
                  </a:lnTo>
                  <a:arcTo wR="3782" hR="3782" stAng="10800000" swAng="-5400000"/>
                  <a:lnTo>
                    <a:pt x="17818" y="3480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91800" y="1859040"/>
              <a:ext cx="1254240" cy="2044440"/>
            </a:xfrm>
            <a:custGeom>
              <a:avLst/>
              <a:gdLst>
                <a:gd name="textAreaLeft" fmla="*/ 61200 w 1254240"/>
                <a:gd name="textAreaRight" fmla="*/ 1193040 w 1254240"/>
                <a:gd name="textAreaTop" fmla="*/ 61200 h 2044440"/>
                <a:gd name="textAreaBottom" fmla="*/ 1983240 h 2044440"/>
              </a:gdLst>
              <a:ahLst/>
              <a:rect l="textAreaLeft" t="textAreaTop" r="textAreaRight" b="textAreaBottom"/>
              <a:pathLst>
                <a:path w="21600" h="35205">
                  <a:moveTo>
                    <a:pt x="3600" y="0"/>
                  </a:moveTo>
                  <a:arcTo wR="3600" hR="3600" stAng="16200000" swAng="-5400000"/>
                  <a:lnTo>
                    <a:pt x="0" y="31605"/>
                  </a:lnTo>
                  <a:arcTo wR="3600" hR="3600" stAng="10800000" swAng="-5400000"/>
                  <a:lnTo>
                    <a:pt x="18000" y="352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602240" y="3364200"/>
              <a:ext cx="1237320" cy="517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02240" y="1874880"/>
              <a:ext cx="1237320" cy="516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575600" y="3937320"/>
              <a:ext cx="1293120" cy="6343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02240" y="3954600"/>
              <a:ext cx="1237320" cy="56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5016960" y="1628640"/>
              <a:ext cx="384120" cy="468720"/>
              <a:chOff x="5016960" y="1628640"/>
              <a:chExt cx="384120" cy="468720"/>
            </a:xfrm>
          </p:grpSpPr>
          <p:sp>
            <p:nvSpPr>
              <p:cNvPr id="437" name=""/>
              <p:cNvSpPr/>
              <p:nvPr/>
            </p:nvSpPr>
            <p:spPr>
              <a:xfrm>
                <a:off x="5016960" y="1628640"/>
                <a:ext cx="384120" cy="4687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020920" y="1632240"/>
                <a:ext cx="371520" cy="4539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025240" y="1634760"/>
                <a:ext cx="362880" cy="442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029560" y="1639080"/>
                <a:ext cx="344880" cy="413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049360" y="1650240"/>
                <a:ext cx="306720" cy="335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>
              <a:off x="5031000" y="1695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18440" y="2184480"/>
              <a:ext cx="1229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6084720" y="1628640"/>
            <a:ext cx="1223640" cy="2879640"/>
            <a:chOff x="6084720" y="1628640"/>
            <a:chExt cx="1223640" cy="2879640"/>
          </a:xfrm>
        </p:grpSpPr>
        <p:sp>
          <p:nvSpPr>
            <p:cNvPr id="445" name=""/>
            <p:cNvSpPr/>
            <p:nvPr/>
          </p:nvSpPr>
          <p:spPr>
            <a:xfrm>
              <a:off x="6084720" y="1848240"/>
              <a:ext cx="1222200" cy="2039400"/>
            </a:xfrm>
            <a:custGeom>
              <a:avLst/>
              <a:gdLst>
                <a:gd name="textAreaLeft" fmla="*/ 62640 w 1222200"/>
                <a:gd name="textAreaRight" fmla="*/ 1159560 w 1222200"/>
                <a:gd name="textAreaTop" fmla="*/ 62640 h 2039400"/>
                <a:gd name="textAreaBottom" fmla="*/ 1976760 h 2039400"/>
              </a:gdLst>
              <a:ahLst/>
              <a:rect l="textAreaLeft" t="textAreaTop" r="textAreaRight" b="textAreaBottom"/>
              <a:pathLst>
                <a:path w="21600" h="36038">
                  <a:moveTo>
                    <a:pt x="3782" y="0"/>
                  </a:moveTo>
                  <a:arcTo wR="3782" hR="3782" stAng="16200000" swAng="-5400000"/>
                  <a:lnTo>
                    <a:pt x="0" y="32256"/>
                  </a:lnTo>
                  <a:arcTo wR="3782" hR="3782" stAng="10800000" swAng="-5400000"/>
                  <a:lnTo>
                    <a:pt x="17818" y="3603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103080" y="1854000"/>
              <a:ext cx="1185480" cy="2000520"/>
            </a:xfrm>
            <a:custGeom>
              <a:avLst/>
              <a:gdLst>
                <a:gd name="textAreaLeft" fmla="*/ 57600 w 1185480"/>
                <a:gd name="textAreaRight" fmla="*/ 1127880 w 1185480"/>
                <a:gd name="textAreaTop" fmla="*/ 57600 h 2000520"/>
                <a:gd name="textAreaBottom" fmla="*/ 1942920 h 2000520"/>
              </a:gdLst>
              <a:ahLst/>
              <a:rect l="textAreaLeft" t="textAreaTop" r="textAreaRight" b="textAreaBottom"/>
              <a:pathLst>
                <a:path w="21600" h="36446">
                  <a:moveTo>
                    <a:pt x="3600" y="0"/>
                  </a:moveTo>
                  <a:arcTo wR="3600" hR="3600" stAng="16200000" swAng="-5400000"/>
                  <a:lnTo>
                    <a:pt x="0" y="32846"/>
                  </a:lnTo>
                  <a:arcTo wR="3600" hR="3600" stAng="10800000" swAng="-5400000"/>
                  <a:lnTo>
                    <a:pt x="18000" y="364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13160" y="3326760"/>
              <a:ext cx="1169280" cy="506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13160" y="1869840"/>
              <a:ext cx="1169280" cy="505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505200" y="1628640"/>
              <a:ext cx="363240" cy="458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508440" y="1631880"/>
              <a:ext cx="351360" cy="4438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513120" y="1634040"/>
              <a:ext cx="343080" cy="4338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516720" y="1638720"/>
              <a:ext cx="326160" cy="404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536520" y="1649880"/>
              <a:ext cx="289800" cy="328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10600" y="1693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129360" y="2173320"/>
              <a:ext cx="11588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86160" y="3887640"/>
              <a:ext cx="1222200" cy="6206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111360" y="3904560"/>
              <a:ext cx="1169280" cy="551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7451640" y="1628640"/>
            <a:ext cx="1223640" cy="2990520"/>
            <a:chOff x="7451640" y="1628640"/>
            <a:chExt cx="1223640" cy="2990520"/>
          </a:xfrm>
        </p:grpSpPr>
        <p:sp>
          <p:nvSpPr>
            <p:cNvPr id="459" name=""/>
            <p:cNvSpPr/>
            <p:nvPr/>
          </p:nvSpPr>
          <p:spPr>
            <a:xfrm>
              <a:off x="7454880" y="1856520"/>
              <a:ext cx="1220400" cy="2117880"/>
            </a:xfrm>
            <a:custGeom>
              <a:avLst/>
              <a:gdLst>
                <a:gd name="textAreaLeft" fmla="*/ 62280 w 1220400"/>
                <a:gd name="textAreaRight" fmla="*/ 1158120 w 1220400"/>
                <a:gd name="textAreaTop" fmla="*/ 62280 h 2117880"/>
                <a:gd name="textAreaBottom" fmla="*/ 2055600 h 2117880"/>
              </a:gdLst>
              <a:ahLst/>
              <a:rect l="textAreaLeft" t="textAreaTop" r="textAreaRight" b="textAreaBottom"/>
              <a:pathLst>
                <a:path w="21600" h="37480">
                  <a:moveTo>
                    <a:pt x="3782" y="0"/>
                  </a:moveTo>
                  <a:arcTo wR="3782" hR="3782" stAng="16200000" swAng="-5400000"/>
                  <a:lnTo>
                    <a:pt x="0" y="33698"/>
                  </a:lnTo>
                  <a:arcTo wR="3782" hR="3782" stAng="10800000" swAng="-5400000"/>
                  <a:lnTo>
                    <a:pt x="17818" y="3748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473960" y="1862640"/>
              <a:ext cx="1183680" cy="2077560"/>
            </a:xfrm>
            <a:custGeom>
              <a:avLst/>
              <a:gdLst>
                <a:gd name="textAreaLeft" fmla="*/ 57600 w 1183680"/>
                <a:gd name="textAreaRight" fmla="*/ 1126080 w 1183680"/>
                <a:gd name="textAreaTop" fmla="*/ 57600 h 2077560"/>
                <a:gd name="textAreaBottom" fmla="*/ 2019960 h 2077560"/>
              </a:gdLst>
              <a:ahLst/>
              <a:rect l="textAreaLeft" t="textAreaTop" r="textAreaRight" b="textAreaBottom"/>
              <a:pathLst>
                <a:path w="21600" h="37907">
                  <a:moveTo>
                    <a:pt x="3600" y="0"/>
                  </a:moveTo>
                  <a:arcTo wR="3600" hR="3600" stAng="16200000" swAng="-5400000"/>
                  <a:lnTo>
                    <a:pt x="0" y="34307"/>
                  </a:lnTo>
                  <a:arcTo wR="3600" hR="3600" stAng="10800000" swAng="-5400000"/>
                  <a:lnTo>
                    <a:pt x="18000" y="379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3680" y="3391920"/>
              <a:ext cx="1167840" cy="525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483680" y="1878840"/>
              <a:ext cx="1167840" cy="524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7875000" y="1628640"/>
              <a:ext cx="362520" cy="476280"/>
              <a:chOff x="7875000" y="1628640"/>
              <a:chExt cx="362520" cy="476280"/>
            </a:xfrm>
          </p:grpSpPr>
          <p:sp>
            <p:nvSpPr>
              <p:cNvPr id="464" name=""/>
              <p:cNvSpPr/>
              <p:nvPr/>
            </p:nvSpPr>
            <p:spPr>
              <a:xfrm>
                <a:off x="7875000" y="1628640"/>
                <a:ext cx="36252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878600" y="1632240"/>
                <a:ext cx="350640" cy="461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882920" y="1634760"/>
                <a:ext cx="342360" cy="450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886880" y="1639440"/>
                <a:ext cx="325800" cy="4197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905600" y="1650600"/>
                <a:ext cx="28944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>
              <a:off x="7878960" y="1696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498800" y="2193480"/>
              <a:ext cx="1157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451640" y="3974400"/>
              <a:ext cx="1220400" cy="644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476480" y="3992040"/>
              <a:ext cx="1167480" cy="572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611280" y="2431080"/>
            <a:ext cx="7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eaeaea"/>
                </a:solidFill>
                <a:latin typeface="Arial"/>
              </a:rPr>
              <a:t>е</a:t>
            </a: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052720" y="2564640"/>
            <a:ext cx="56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aeaea"/>
                </a:solidFill>
                <a:latin typeface="Arial"/>
              </a:rPr>
              <a:t>д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565080" y="2564640"/>
            <a:ext cx="53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aeaea"/>
                </a:solidFill>
                <a:latin typeface="Arial"/>
              </a:rPr>
              <a:t>г</a:t>
            </a: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933800" y="2636280"/>
            <a:ext cx="63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aeaea"/>
                </a:solidFill>
                <a:latin typeface="Arial"/>
              </a:rPr>
              <a:t>в</a:t>
            </a: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373800" y="2636280"/>
            <a:ext cx="6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aeaea"/>
                </a:solidFill>
                <a:latin typeface="Arial"/>
              </a:rPr>
              <a:t>б</a:t>
            </a: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813800" y="256464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aeaea"/>
                </a:solidFill>
                <a:latin typeface="Arial"/>
              </a:rPr>
              <a:t>а</a:t>
            </a: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64072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eaeaea"/>
                </a:solidFill>
                <a:latin typeface="Verdana"/>
              </a:rPr>
              <a:t>Сьогодні на уроці я …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c0099"/>
                </a:solidFill>
                <a:latin typeface="Verdana"/>
              </a:rPr>
              <a:t>- дізнався …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9900"/>
                </a:solidFill>
                <a:latin typeface="Verdana"/>
              </a:rPr>
              <a:t>- зрозумів …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99"/>
                </a:solidFill>
                <a:latin typeface="Verdana"/>
              </a:rPr>
              <a:t>- навчився …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9900"/>
                </a:solidFill>
                <a:latin typeface="Verdana"/>
              </a:rPr>
              <a:t>- найбільший мій успіх-це …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ff"/>
                </a:solidFill>
                <a:latin typeface="Verdana"/>
              </a:rPr>
              <a:t>- найбільші труднощі я відчув …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ffff"/>
                </a:solidFill>
                <a:latin typeface="Verdana"/>
              </a:rPr>
              <a:t>- я не вмів, а тепер умію …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c3300"/>
                </a:solidFill>
                <a:latin typeface="Verdana"/>
              </a:rPr>
              <a:t>- на наступному уроці я хочу …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395280" y="1268280"/>
            <a:ext cx="770580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006666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339966"/>
                    </a:gs>
                  </a:gsLst>
                  <a:lin ang="10800000"/>
                </a:gradFill>
                <a:effectLst>
                  <a:outerShdw dist="71785" dir="2700000" blurRad="0" rotWithShape="0">
                    <a:srgbClr val="009999">
                      <a:alpha val="50000"/>
                    </a:srgbClr>
                  </a:outerShdw>
                </a:effectLst>
                <a:latin typeface="Verdana"/>
              </a:rPr>
              <a:t>ДЯКУЮ ЗА СПІВПРАЦЮ</a:t>
            </a:r>
            <a:endParaRPr b="1" lang="en-US" sz="5400" spc="1" strike="noStrike">
              <a:ln w="19080">
                <a:solidFill>
                  <a:srgbClr val="006666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339966"/>
                  </a:gs>
                </a:gsLst>
                <a:lin ang="10800000"/>
              </a:gradFill>
              <a:effectLst>
                <a:outerShdw dist="71785" dir="2700000" blurRad="0" rotWithShape="0">
                  <a:srgbClr val="009999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62071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2500" autoRev="1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66"/>
                                      </p:to>
                                    </p:animClr>
                                    <p:animClr clrSpc="rgb">
                                      <p:cBhvr>
                                        <p:cTn id="145" dur="2500" autoRev="1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66"/>
                                      </p:to>
                                    </p:animClr>
                                    <p:set>
                                      <p:cBhvr>
                                        <p:cTn id="146" dur="2500" autoRev="1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2771280" y="260280"/>
            <a:ext cx="47516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3399"/>
                </a:solidFill>
                <a:latin typeface="Verdana"/>
              </a:rPr>
              <a:t>М</a:t>
            </a:r>
            <a:r>
              <a:rPr b="0" lang="uk-UA" sz="3200" spc="-1" strike="noStrike">
                <a:solidFill>
                  <a:srgbClr val="cc3399"/>
                </a:solidFill>
                <a:latin typeface="Verdana"/>
              </a:rPr>
              <a:t>алинови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9900"/>
                </a:solidFill>
                <a:latin typeface="Verdana"/>
              </a:rPr>
              <a:t>О</a:t>
            </a:r>
            <a:r>
              <a:rPr b="0" lang="uk-UA" sz="3200" spc="-1" strike="noStrike">
                <a:solidFill>
                  <a:srgbClr val="ff9900"/>
                </a:solidFill>
                <a:latin typeface="Verdana"/>
              </a:rPr>
              <a:t>ранжеви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99"/>
                </a:solidFill>
                <a:latin typeface="Verdana"/>
              </a:rPr>
              <a:t>Л</a:t>
            </a:r>
            <a:r>
              <a:rPr b="0" lang="uk-UA" sz="3200" spc="-1" strike="noStrike">
                <a:solidFill>
                  <a:srgbClr val="ffff99"/>
                </a:solidFill>
                <a:latin typeface="Verdana"/>
              </a:rPr>
              <a:t>имонни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9900"/>
                </a:solidFill>
                <a:latin typeface="Verdana"/>
              </a:rPr>
              <a:t>О</a:t>
            </a:r>
            <a:r>
              <a:rPr b="0" lang="uk-UA" sz="3200" spc="-1" strike="noStrike">
                <a:solidFill>
                  <a:srgbClr val="ff9900"/>
                </a:solidFill>
                <a:latin typeface="Verdana"/>
              </a:rPr>
              <a:t>ранжеви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3333ff"/>
                </a:solidFill>
                <a:latin typeface="Verdana"/>
              </a:rPr>
              <a:t>Д</a:t>
            </a:r>
            <a:r>
              <a:rPr b="0" lang="uk-UA" sz="3200" spc="-1" strike="noStrike">
                <a:solidFill>
                  <a:srgbClr val="3333ff"/>
                </a:solidFill>
                <a:latin typeface="Verdana"/>
              </a:rPr>
              <a:t>жинсови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00ffff"/>
                </a:solidFill>
                <a:latin typeface="Verdana"/>
              </a:rPr>
              <a:t>Ц</a:t>
            </a:r>
            <a:r>
              <a:rPr b="0" lang="uk-UA" sz="3200" spc="-1" strike="noStrike">
                <a:solidFill>
                  <a:srgbClr val="00ffff"/>
                </a:solidFill>
                <a:latin typeface="Verdana"/>
              </a:rPr>
              <a:t>іа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cc3300"/>
                </a:solidFill>
                <a:latin typeface="Verdana"/>
              </a:rPr>
              <a:t>І</a:t>
            </a:r>
            <a:r>
              <a:rPr b="0" lang="uk-UA" sz="3200" spc="-1" strike="noStrike">
                <a:solidFill>
                  <a:srgbClr val="cc3300"/>
                </a:solidFill>
                <a:latin typeface="Verdana"/>
              </a:rPr>
              <a:t>ржави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aa8456"/>
                </a:solidFill>
                <a:latin typeface="Arial"/>
              </a:rPr>
              <a:t>О</a:t>
            </a:r>
            <a:r>
              <a:rPr b="0" lang="uk-UA" sz="9600" spc="-1" strike="noStrike">
                <a:solidFill>
                  <a:srgbClr val="aa8456"/>
                </a:solidFill>
                <a:latin typeface="Arial"/>
              </a:rPr>
              <a:t>бчислити</a:t>
            </a:r>
            <a:endParaRPr b="0" lang="en-US" sz="9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1476360" y="1268280"/>
                <a:ext cx="6095880" cy="30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Відповідь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eaeaea"/>
                </a:solidFill>
                <a:latin typeface="Verdana"/>
              </a:rPr>
              <a:t>12</a:t>
            </a:r>
            <a:endParaRPr b="0" lang="en-US" sz="9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1476360" y="1557360"/>
                <a:ext cx="6095880" cy="24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19:14:36Z</dcterms:created>
  <dc:creator>Дарья</dc:creator>
  <dc:description/>
  <dc:language>en-US</dc:language>
  <cp:lastModifiedBy>Дарья</cp:lastModifiedBy>
  <dcterms:modified xsi:type="dcterms:W3CDTF">2013-02-19T22:33:52Z</dcterms:modified>
  <cp:revision>8</cp:revision>
  <dc:subject/>
  <dc:title>Обчислити</dc:title>
</cp:coreProperties>
</file>