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89F-0C80-40E8-AE7B-04E9FE0A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673-9FA6-46E4-AFB2-FBF3554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369-B53B-4BAC-A17A-BD1A6C27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47A-CEA7-4F99-A34F-D87A023A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563-B8BD-4CB4-BE37-18EDF1F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F65-BA7A-4077-930A-19FD5AA5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F25-94AB-454D-B42A-43F43CF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C69-7EB4-485F-83F1-64D9B7DC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53A-F4D0-4959-B44F-D5E9DCF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890-5A9D-4D77-AC2E-4C8DF53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8E4-59CB-4900-ADBA-16944B5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011-104C-4738-8DBD-731B96A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9010-89EC-4CCF-950E-39ADE89A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рифметичний квадратний корі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1% везінн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uk-UA" sz="7200" spc="-1" strike="noStrike" u="sng">
                <a:solidFill>
                  <a:srgbClr val="000000"/>
                </a:solidFill>
                <a:uFillTx/>
                <a:latin typeface="Arial"/>
              </a:rPr>
              <a:t>99% потіння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У С П І 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(Едіс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рифметичний квадратний кор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Успіх – це сума всіх досягнень, що повторюються кожного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ановити відповід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981000"/>
            <a:ext cx="3024360" cy="7192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773360"/>
            <a:ext cx="3013200" cy="792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70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800" y="2133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75400" y="876600"/>
            <a:ext cx="813600" cy="5242320"/>
            <a:chOff x="275400" y="876600"/>
            <a:chExt cx="813600" cy="5242320"/>
          </a:xfrm>
        </p:grpSpPr>
        <p:grpSp>
          <p:nvGrpSpPr>
            <p:cNvPr id="52" name=""/>
            <p:cNvGrpSpPr/>
            <p:nvPr/>
          </p:nvGrpSpPr>
          <p:grpSpPr>
            <a:xfrm>
              <a:off x="494640" y="5007960"/>
              <a:ext cx="90000" cy="529920"/>
              <a:chOff x="494640" y="5007960"/>
              <a:chExt cx="90000" cy="529920"/>
            </a:xfrm>
          </p:grpSpPr>
          <p:sp>
            <p:nvSpPr>
              <p:cNvPr id="53" name=""/>
              <p:cNvSpPr/>
              <p:nvPr/>
            </p:nvSpPr>
            <p:spPr>
              <a:xfrm rot="16290600">
                <a:off x="489600" y="545364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90600">
                <a:off x="321120" y="522864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6290600">
                <a:off x="505440" y="501156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90600">
                <a:off x="533160" y="502344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47920" y="4146120"/>
              <a:ext cx="90000" cy="529920"/>
              <a:chOff x="547920" y="4146120"/>
              <a:chExt cx="90000" cy="529920"/>
            </a:xfrm>
          </p:grpSpPr>
          <p:sp>
            <p:nvSpPr>
              <p:cNvPr id="58" name=""/>
              <p:cNvSpPr/>
              <p:nvPr/>
            </p:nvSpPr>
            <p:spPr>
              <a:xfrm rot="16290600">
                <a:off x="542880" y="459180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90600">
                <a:off x="374400" y="436680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90600">
                <a:off x="559080" y="414972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6290600">
                <a:off x="586440" y="416160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rot="19710000">
              <a:off x="437040" y="371916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29560" y="3278160"/>
              <a:ext cx="90360" cy="529920"/>
              <a:chOff x="529560" y="3278160"/>
              <a:chExt cx="90360" cy="529920"/>
            </a:xfrm>
          </p:grpSpPr>
          <p:sp>
            <p:nvSpPr>
              <p:cNvPr id="64" name=""/>
              <p:cNvSpPr/>
              <p:nvPr/>
            </p:nvSpPr>
            <p:spPr>
              <a:xfrm rot="16290600">
                <a:off x="524520" y="372384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90600">
                <a:off x="356400" y="349884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90600">
                <a:off x="540720" y="328176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90600">
                <a:off x="568440" y="329364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rot="19710000">
              <a:off x="421920" y="278172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16240" y="2340000"/>
              <a:ext cx="90360" cy="530280"/>
              <a:chOff x="516240" y="2340000"/>
              <a:chExt cx="90360" cy="530280"/>
            </a:xfrm>
          </p:grpSpPr>
          <p:sp>
            <p:nvSpPr>
              <p:cNvPr id="70" name=""/>
              <p:cNvSpPr/>
              <p:nvPr/>
            </p:nvSpPr>
            <p:spPr>
              <a:xfrm rot="16290600">
                <a:off x="511200" y="278604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6290600">
                <a:off x="343080" y="2560680"/>
                <a:ext cx="43848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6290600">
                <a:off x="527400" y="234360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90600">
                <a:off x="555120" y="235548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rot="19710000">
              <a:off x="408600" y="184212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00760" y="1218240"/>
              <a:ext cx="94320" cy="692280"/>
              <a:chOff x="500760" y="1218240"/>
              <a:chExt cx="94320" cy="692280"/>
            </a:xfrm>
          </p:grpSpPr>
          <p:sp>
            <p:nvSpPr>
              <p:cNvPr id="76" name=""/>
              <p:cNvSpPr/>
              <p:nvPr/>
            </p:nvSpPr>
            <p:spPr>
              <a:xfrm rot="16290600">
                <a:off x="482400" y="1812600"/>
                <a:ext cx="11628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6290600">
                <a:off x="262440" y="1518480"/>
                <a:ext cx="57240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6290600">
                <a:off x="502920" y="1234080"/>
                <a:ext cx="10476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290600">
                <a:off x="540000" y="1242000"/>
                <a:ext cx="2916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9710000">
              <a:off x="401400" y="97632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710000">
              <a:off x="383760" y="458280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710000">
              <a:off x="401400" y="544896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03280" y="2637000"/>
            <a:ext cx="3013200" cy="792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50028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4365720"/>
            <a:ext cx="3013200" cy="792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530064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05264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Що називають квадратним коренем числа 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773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Чи існує квадратний корінь з від’ємного чис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7520" y="2683080"/>
            <a:ext cx="27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3. Як називають операці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числення арифмети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ачення квадратного корен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45204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 Що називають арифметичним квадратним коренем із числа 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44398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Скільки коренів має рівняння     = 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5301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6. Скільки значень має квадратний корінь з додатного числа 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48080" y="948240"/>
            <a:ext cx="811440" cy="5242320"/>
            <a:chOff x="7948080" y="948240"/>
            <a:chExt cx="811440" cy="5242320"/>
          </a:xfrm>
        </p:grpSpPr>
        <p:grpSp>
          <p:nvGrpSpPr>
            <p:cNvPr id="94" name=""/>
            <p:cNvGrpSpPr/>
            <p:nvPr/>
          </p:nvGrpSpPr>
          <p:grpSpPr>
            <a:xfrm>
              <a:off x="8449200" y="1528920"/>
              <a:ext cx="88920" cy="529920"/>
              <a:chOff x="8449200" y="1528920"/>
              <a:chExt cx="88920" cy="529920"/>
            </a:xfrm>
          </p:grpSpPr>
          <p:sp>
            <p:nvSpPr>
              <p:cNvPr id="95" name=""/>
              <p:cNvSpPr/>
              <p:nvPr/>
            </p:nvSpPr>
            <p:spPr>
              <a:xfrm rot="5480400">
                <a:off x="8453880" y="153540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5480400">
                <a:off x="8273520" y="176040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80400">
                <a:off x="8448120" y="198072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80400">
                <a:off x="8478360" y="202104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8398800" y="2391120"/>
              <a:ext cx="88560" cy="529560"/>
              <a:chOff x="8398800" y="2391120"/>
              <a:chExt cx="88560" cy="529560"/>
            </a:xfrm>
          </p:grpSpPr>
          <p:sp>
            <p:nvSpPr>
              <p:cNvPr id="100" name=""/>
              <p:cNvSpPr/>
              <p:nvPr/>
            </p:nvSpPr>
            <p:spPr>
              <a:xfrm rot="5480400">
                <a:off x="8403120" y="239760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80400">
                <a:off x="8223120" y="262260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80400">
                <a:off x="8397360" y="284256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80400">
                <a:off x="8427600" y="288288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 rot="8898600">
              <a:off x="8057160" y="277776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419680" y="3259080"/>
              <a:ext cx="88560" cy="529560"/>
              <a:chOff x="8419680" y="3259080"/>
              <a:chExt cx="88560" cy="529560"/>
            </a:xfrm>
          </p:grpSpPr>
          <p:sp>
            <p:nvSpPr>
              <p:cNvPr id="106" name=""/>
              <p:cNvSpPr/>
              <p:nvPr/>
            </p:nvSpPr>
            <p:spPr>
              <a:xfrm rot="5480400">
                <a:off x="8424000" y="326556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80400">
                <a:off x="8244000" y="3490560"/>
                <a:ext cx="43812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80400">
                <a:off x="8418240" y="371052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80400">
                <a:off x="8448480" y="375084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rot="8898600">
              <a:off x="8074800" y="371664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8435880" y="4196880"/>
              <a:ext cx="88560" cy="529920"/>
              <a:chOff x="8435880" y="4196880"/>
              <a:chExt cx="88560" cy="529920"/>
            </a:xfrm>
          </p:grpSpPr>
          <p:sp>
            <p:nvSpPr>
              <p:cNvPr id="112" name=""/>
              <p:cNvSpPr/>
              <p:nvPr/>
            </p:nvSpPr>
            <p:spPr>
              <a:xfrm rot="5480400">
                <a:off x="8440200" y="4203360"/>
                <a:ext cx="8892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80400">
                <a:off x="8259840" y="4429080"/>
                <a:ext cx="43848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80400">
                <a:off x="8434440" y="4648680"/>
                <a:ext cx="7992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80400">
                <a:off x="8464680" y="4689000"/>
                <a:ext cx="2232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8898600">
              <a:off x="8091000" y="465588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450640" y="5156280"/>
              <a:ext cx="92520" cy="692280"/>
              <a:chOff x="8450640" y="5156280"/>
              <a:chExt cx="92520" cy="692280"/>
            </a:xfrm>
          </p:grpSpPr>
          <p:sp>
            <p:nvSpPr>
              <p:cNvPr id="118" name=""/>
              <p:cNvSpPr/>
              <p:nvPr/>
            </p:nvSpPr>
            <p:spPr>
              <a:xfrm rot="5480400">
                <a:off x="8444880" y="5176440"/>
                <a:ext cx="116280" cy="7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80400">
                <a:off x="8209440" y="5470920"/>
                <a:ext cx="572400" cy="770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480400">
                <a:off x="8437680" y="5757840"/>
                <a:ext cx="104760" cy="74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480400">
                <a:off x="8476920" y="5802480"/>
                <a:ext cx="29160" cy="21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8898600">
              <a:off x="8101440" y="552024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8898600">
              <a:off x="8107560" y="1915560"/>
              <a:ext cx="542880" cy="568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898600">
              <a:off x="8087400" y="1047960"/>
              <a:ext cx="542880" cy="569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75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003640" y="90792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1773360"/>
            <a:ext cx="3013200" cy="792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2637000"/>
            <a:ext cx="3013200" cy="792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57336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443700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300640"/>
            <a:ext cx="3013200" cy="792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156360" y="2779560"/>
                <a:ext cx="576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32720" y="2781360"/>
                <a:ext cx="576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851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дв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81400" y="34279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78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) два 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а, -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878120"/>
            <a:ext cx="51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)  невід’ємне чис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вадрат якого дорівнює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92700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)  добування квадратного кореня із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46857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)  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4360" y="5373000"/>
            <a:ext cx="30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) називають чи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драт якого дорівнює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411280" y="4645080"/>
                <a:ext cx="373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З А Є М О П Е Р Е В І Р К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628640"/>
            <a:ext cx="1296360" cy="2943000"/>
            <a:chOff x="250920" y="1628640"/>
            <a:chExt cx="1296360" cy="2943000"/>
          </a:xfrm>
        </p:grpSpPr>
        <p:sp>
          <p:nvSpPr>
            <p:cNvPr id="143" name=""/>
            <p:cNvSpPr/>
            <p:nvPr/>
          </p:nvSpPr>
          <p:spPr>
            <a:xfrm>
              <a:off x="250920" y="1852920"/>
              <a:ext cx="1292760" cy="2084040"/>
            </a:xfrm>
            <a:custGeom>
              <a:avLst/>
              <a:gdLst>
                <a:gd name="textAreaLeft" fmla="*/ 66240 w 1292760"/>
                <a:gd name="textAreaRight" fmla="*/ 1226520 w 1292760"/>
                <a:gd name="textAreaTop" fmla="*/ 66240 h 2084040"/>
                <a:gd name="textAreaBottom" fmla="*/ 2017800 h 2084040"/>
              </a:gdLst>
              <a:ahLst/>
              <a:rect l="textAreaLeft" t="textAreaTop" r="textAreaRight" b="textAreaBottom"/>
              <a:pathLst>
                <a:path w="21600" h="34817">
                  <a:moveTo>
                    <a:pt x="3782" y="0"/>
                  </a:moveTo>
                  <a:arcTo wR="3782" hR="3782" stAng="16200000" swAng="-5400000"/>
                  <a:lnTo>
                    <a:pt x="0" y="31035"/>
                  </a:lnTo>
                  <a:arcTo wR="3782" hR="3782" stAng="10800000" swAng="-5400000"/>
                  <a:lnTo>
                    <a:pt x="17818" y="3481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720" y="1859040"/>
              <a:ext cx="1253880" cy="2044440"/>
            </a:xfrm>
            <a:custGeom>
              <a:avLst/>
              <a:gdLst>
                <a:gd name="textAreaLeft" fmla="*/ 61200 w 1253880"/>
                <a:gd name="textAreaRight" fmla="*/ 1192680 w 1253880"/>
                <a:gd name="textAreaTop" fmla="*/ 61200 h 2044440"/>
                <a:gd name="textAreaBottom" fmla="*/ 1983240 h 2044440"/>
              </a:gdLst>
              <a:ahLst/>
              <a:rect l="textAreaLeft" t="textAreaTop" r="textAreaRight" b="textAreaBottom"/>
              <a:pathLst>
                <a:path w="21600" h="35215">
                  <a:moveTo>
                    <a:pt x="3600" y="0"/>
                  </a:moveTo>
                  <a:arcTo wR="3600" hR="3600" stAng="16200000" swAng="-5400000"/>
                  <a:lnTo>
                    <a:pt x="0" y="31615"/>
                  </a:lnTo>
                  <a:arcTo wR="3600" hR="3600" stAng="10800000" swAng="-5400000"/>
                  <a:lnTo>
                    <a:pt x="18000" y="35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160" y="3364200"/>
              <a:ext cx="123696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160" y="1874880"/>
              <a:ext cx="1236960" cy="516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4520" y="3937320"/>
              <a:ext cx="1292760" cy="6343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160" y="3954600"/>
              <a:ext cx="1236960" cy="56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95520" y="1628640"/>
              <a:ext cx="384120" cy="468720"/>
              <a:chOff x="695520" y="1628640"/>
              <a:chExt cx="384120" cy="468720"/>
            </a:xfrm>
          </p:grpSpPr>
          <p:sp>
            <p:nvSpPr>
              <p:cNvPr id="150" name=""/>
              <p:cNvSpPr/>
              <p:nvPr/>
            </p:nvSpPr>
            <p:spPr>
              <a:xfrm>
                <a:off x="695520" y="1628640"/>
                <a:ext cx="384120" cy="468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9480" y="1632240"/>
                <a:ext cx="371520" cy="453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3800" y="1634760"/>
                <a:ext cx="362880" cy="442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120" y="1639080"/>
                <a:ext cx="344880" cy="4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7920" y="1650240"/>
                <a:ext cx="306720" cy="335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709560" y="1695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360" y="2184480"/>
              <a:ext cx="12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63640" y="1628640"/>
            <a:ext cx="1223640" cy="2879640"/>
            <a:chOff x="1763640" y="1628640"/>
            <a:chExt cx="1223640" cy="2879640"/>
          </a:xfrm>
        </p:grpSpPr>
        <p:sp>
          <p:nvSpPr>
            <p:cNvPr id="158" name=""/>
            <p:cNvSpPr/>
            <p:nvPr/>
          </p:nvSpPr>
          <p:spPr>
            <a:xfrm>
              <a:off x="1763640" y="1848240"/>
              <a:ext cx="1222200" cy="2039400"/>
            </a:xfrm>
            <a:custGeom>
              <a:avLst/>
              <a:gdLst>
                <a:gd name="textAreaLeft" fmla="*/ 62640 w 1222200"/>
                <a:gd name="textAreaRight" fmla="*/ 1159560 w 1222200"/>
                <a:gd name="textAreaTop" fmla="*/ 62640 h 2039400"/>
                <a:gd name="textAreaBottom" fmla="*/ 1976760 h 2039400"/>
              </a:gdLst>
              <a:ahLst/>
              <a:rect l="textAreaLeft" t="textAreaTop" r="textAreaRight" b="textAreaBottom"/>
              <a:pathLst>
                <a:path w="21600" h="36038">
                  <a:moveTo>
                    <a:pt x="3782" y="0"/>
                  </a:moveTo>
                  <a:arcTo wR="3782" hR="3782" stAng="16200000" swAng="-5400000"/>
                  <a:lnTo>
                    <a:pt x="0" y="32256"/>
                  </a:lnTo>
                  <a:arcTo wR="3782" hR="3782" stAng="10800000" swAng="-5400000"/>
                  <a:lnTo>
                    <a:pt x="17818" y="360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2000" y="1854000"/>
              <a:ext cx="1185480" cy="2000520"/>
            </a:xfrm>
            <a:custGeom>
              <a:avLst/>
              <a:gdLst>
                <a:gd name="textAreaLeft" fmla="*/ 57600 w 1185480"/>
                <a:gd name="textAreaRight" fmla="*/ 1127880 w 1185480"/>
                <a:gd name="textAreaTop" fmla="*/ 57600 h 2000520"/>
                <a:gd name="textAreaBottom" fmla="*/ 1942920 h 2000520"/>
              </a:gdLst>
              <a:ahLst/>
              <a:rect l="textAreaLeft" t="textAreaTop" r="textAreaRight" b="textAreaBottom"/>
              <a:pathLst>
                <a:path w="21600" h="36446">
                  <a:moveTo>
                    <a:pt x="3600" y="0"/>
                  </a:moveTo>
                  <a:arcTo wR="3600" hR="3600" stAng="16200000" swAng="-5400000"/>
                  <a:lnTo>
                    <a:pt x="0" y="32846"/>
                  </a:lnTo>
                  <a:arcTo wR="3600" hR="3600" stAng="10800000" swAng="-5400000"/>
                  <a:lnTo>
                    <a:pt x="18000" y="364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080" y="3326760"/>
              <a:ext cx="1169280" cy="50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080" y="1869840"/>
              <a:ext cx="1169280" cy="50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84120" y="1628640"/>
              <a:ext cx="363240" cy="458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87360" y="1631880"/>
              <a:ext cx="351360" cy="4438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92040" y="1634040"/>
              <a:ext cx="343080" cy="433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5640" y="1638720"/>
              <a:ext cx="326160" cy="404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5440" y="1649880"/>
              <a:ext cx="289800" cy="32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9520" y="169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7560" y="2173320"/>
              <a:ext cx="1159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5080" y="3887640"/>
              <a:ext cx="1222200" cy="620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0280" y="3904560"/>
              <a:ext cx="1169280" cy="551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132000" y="1628640"/>
            <a:ext cx="1295640" cy="2990520"/>
            <a:chOff x="3132000" y="1628640"/>
            <a:chExt cx="1295640" cy="2990520"/>
          </a:xfrm>
        </p:grpSpPr>
        <p:sp>
          <p:nvSpPr>
            <p:cNvPr id="172" name=""/>
            <p:cNvSpPr/>
            <p:nvPr/>
          </p:nvSpPr>
          <p:spPr>
            <a:xfrm>
              <a:off x="3135600" y="1856520"/>
              <a:ext cx="1292040" cy="2117880"/>
            </a:xfrm>
            <a:custGeom>
              <a:avLst/>
              <a:gdLst>
                <a:gd name="textAreaLeft" fmla="*/ 66240 w 1292040"/>
                <a:gd name="textAreaRight" fmla="*/ 1225800 w 1292040"/>
                <a:gd name="textAreaTop" fmla="*/ 66240 h 2117880"/>
                <a:gd name="textAreaBottom" fmla="*/ 2051640 h 2117880"/>
              </a:gdLst>
              <a:ahLst/>
              <a:rect l="textAreaLeft" t="textAreaTop" r="textAreaRight" b="textAreaBottom"/>
              <a:pathLst>
                <a:path w="21600" h="35402">
                  <a:moveTo>
                    <a:pt x="3782" y="0"/>
                  </a:moveTo>
                  <a:arcTo wR="3782" hR="3782" stAng="16200000" swAng="-5400000"/>
                  <a:lnTo>
                    <a:pt x="0" y="31620"/>
                  </a:lnTo>
                  <a:arcTo wR="3782" hR="3782" stAng="10800000" swAng="-5400000"/>
                  <a:lnTo>
                    <a:pt x="17818" y="3540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55400" y="1862640"/>
              <a:ext cx="1253160" cy="2077560"/>
            </a:xfrm>
            <a:custGeom>
              <a:avLst/>
              <a:gdLst>
                <a:gd name="textAreaLeft" fmla="*/ 60840 w 1253160"/>
                <a:gd name="textAreaRight" fmla="*/ 1192320 w 1253160"/>
                <a:gd name="textAreaTop" fmla="*/ 60840 h 2077560"/>
                <a:gd name="textAreaBottom" fmla="*/ 2016720 h 2077560"/>
              </a:gdLst>
              <a:ahLst/>
              <a:rect l="textAreaLeft" t="textAreaTop" r="textAreaRight" b="textAreaBottom"/>
              <a:pathLst>
                <a:path w="21600" h="35806">
                  <a:moveTo>
                    <a:pt x="3600" y="0"/>
                  </a:moveTo>
                  <a:arcTo wR="3600" hR="3600" stAng="16200000" swAng="-5400000"/>
                  <a:lnTo>
                    <a:pt x="0" y="32206"/>
                  </a:lnTo>
                  <a:arcTo wR="3600" hR="3600" stAng="10800000" swAng="-5400000"/>
                  <a:lnTo>
                    <a:pt x="18000" y="358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65840" y="3391920"/>
              <a:ext cx="1236240" cy="525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5840" y="1878840"/>
              <a:ext cx="1236240" cy="524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579840" y="1628640"/>
              <a:ext cx="383760" cy="476280"/>
              <a:chOff x="3579840" y="1628640"/>
              <a:chExt cx="383760" cy="476280"/>
            </a:xfrm>
          </p:grpSpPr>
          <p:sp>
            <p:nvSpPr>
              <p:cNvPr id="177" name=""/>
              <p:cNvSpPr/>
              <p:nvPr/>
            </p:nvSpPr>
            <p:spPr>
              <a:xfrm>
                <a:off x="3579840" y="1628640"/>
                <a:ext cx="38376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83800" y="1632240"/>
                <a:ext cx="371160" cy="461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88120" y="1634760"/>
                <a:ext cx="362520" cy="45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92440" y="1639440"/>
                <a:ext cx="344880" cy="419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12240" y="1650600"/>
                <a:ext cx="30636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594240" y="169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3120" y="2193480"/>
              <a:ext cx="12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2000" y="3974400"/>
              <a:ext cx="1291680" cy="644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8280" y="3992040"/>
              <a:ext cx="123588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1628640"/>
            <a:ext cx="1296720" cy="2943000"/>
            <a:chOff x="4572000" y="1628640"/>
            <a:chExt cx="1296720" cy="2943000"/>
          </a:xfrm>
        </p:grpSpPr>
        <p:sp>
          <p:nvSpPr>
            <p:cNvPr id="187" name=""/>
            <p:cNvSpPr/>
            <p:nvPr/>
          </p:nvSpPr>
          <p:spPr>
            <a:xfrm>
              <a:off x="4572000" y="1852920"/>
              <a:ext cx="1293120" cy="2084040"/>
            </a:xfrm>
            <a:custGeom>
              <a:avLst/>
              <a:gdLst>
                <a:gd name="textAreaLeft" fmla="*/ 66240 w 1293120"/>
                <a:gd name="textAreaRight" fmla="*/ 1226880 w 1293120"/>
                <a:gd name="textAreaTop" fmla="*/ 66240 h 2084040"/>
                <a:gd name="textAreaBottom" fmla="*/ 2017800 h 2084040"/>
              </a:gdLst>
              <a:ahLst/>
              <a:rect l="textAreaLeft" t="textAreaTop" r="textAreaRight" b="textAreaBottom"/>
              <a:pathLst>
                <a:path w="21600" h="34808">
                  <a:moveTo>
                    <a:pt x="3782" y="0"/>
                  </a:moveTo>
                  <a:arcTo wR="3782" hR="3782" stAng="16200000" swAng="-5400000"/>
                  <a:lnTo>
                    <a:pt x="0" y="31026"/>
                  </a:lnTo>
                  <a:arcTo wR="3782" hR="3782" stAng="10800000" swAng="-5400000"/>
                  <a:lnTo>
                    <a:pt x="17818" y="3480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91800" y="1859040"/>
              <a:ext cx="1254240" cy="2044440"/>
            </a:xfrm>
            <a:custGeom>
              <a:avLst/>
              <a:gdLst>
                <a:gd name="textAreaLeft" fmla="*/ 61200 w 1254240"/>
                <a:gd name="textAreaRight" fmla="*/ 1193040 w 1254240"/>
                <a:gd name="textAreaTop" fmla="*/ 61200 h 2044440"/>
                <a:gd name="textAreaBottom" fmla="*/ 1983240 h 2044440"/>
              </a:gdLst>
              <a:ahLst/>
              <a:rect l="textAreaLeft" t="textAreaTop" r="textAreaRight" b="textAreaBottom"/>
              <a:pathLst>
                <a:path w="21600" h="35205">
                  <a:moveTo>
                    <a:pt x="3600" y="0"/>
                  </a:moveTo>
                  <a:arcTo wR="3600" hR="3600" stAng="16200000" swAng="-5400000"/>
                  <a:lnTo>
                    <a:pt x="0" y="31605"/>
                  </a:lnTo>
                  <a:arcTo wR="3600" hR="3600" stAng="10800000" swAng="-5400000"/>
                  <a:lnTo>
                    <a:pt x="18000" y="352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02240" y="3364200"/>
              <a:ext cx="123732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02240" y="1874880"/>
              <a:ext cx="1237320" cy="516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5600" y="3937320"/>
              <a:ext cx="1293120" cy="6343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2240" y="3954600"/>
              <a:ext cx="1237320" cy="56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016960" y="1628640"/>
              <a:ext cx="384120" cy="468720"/>
              <a:chOff x="5016960" y="1628640"/>
              <a:chExt cx="384120" cy="468720"/>
            </a:xfrm>
          </p:grpSpPr>
          <p:sp>
            <p:nvSpPr>
              <p:cNvPr id="194" name=""/>
              <p:cNvSpPr/>
              <p:nvPr/>
            </p:nvSpPr>
            <p:spPr>
              <a:xfrm>
                <a:off x="5016960" y="1628640"/>
                <a:ext cx="384120" cy="468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20920" y="1632240"/>
                <a:ext cx="371520" cy="453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25240" y="1634760"/>
                <a:ext cx="362880" cy="442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29560" y="1639080"/>
                <a:ext cx="344880" cy="4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49360" y="1650240"/>
                <a:ext cx="306720" cy="335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031000" y="1695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18440" y="2184480"/>
              <a:ext cx="12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4720" y="1628640"/>
            <a:ext cx="1223640" cy="2879640"/>
            <a:chOff x="6084720" y="1628640"/>
            <a:chExt cx="1223640" cy="2879640"/>
          </a:xfrm>
        </p:grpSpPr>
        <p:sp>
          <p:nvSpPr>
            <p:cNvPr id="202" name=""/>
            <p:cNvSpPr/>
            <p:nvPr/>
          </p:nvSpPr>
          <p:spPr>
            <a:xfrm>
              <a:off x="6084720" y="1848240"/>
              <a:ext cx="1222200" cy="2039400"/>
            </a:xfrm>
            <a:custGeom>
              <a:avLst/>
              <a:gdLst>
                <a:gd name="textAreaLeft" fmla="*/ 62640 w 1222200"/>
                <a:gd name="textAreaRight" fmla="*/ 1159560 w 1222200"/>
                <a:gd name="textAreaTop" fmla="*/ 62640 h 2039400"/>
                <a:gd name="textAreaBottom" fmla="*/ 1976760 h 2039400"/>
              </a:gdLst>
              <a:ahLst/>
              <a:rect l="textAreaLeft" t="textAreaTop" r="textAreaRight" b="textAreaBottom"/>
              <a:pathLst>
                <a:path w="21600" h="36038">
                  <a:moveTo>
                    <a:pt x="3782" y="0"/>
                  </a:moveTo>
                  <a:arcTo wR="3782" hR="3782" stAng="16200000" swAng="-5400000"/>
                  <a:lnTo>
                    <a:pt x="0" y="32256"/>
                  </a:lnTo>
                  <a:arcTo wR="3782" hR="3782" stAng="10800000" swAng="-5400000"/>
                  <a:lnTo>
                    <a:pt x="17818" y="360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03080" y="1854000"/>
              <a:ext cx="1185480" cy="2000520"/>
            </a:xfrm>
            <a:custGeom>
              <a:avLst/>
              <a:gdLst>
                <a:gd name="textAreaLeft" fmla="*/ 57600 w 1185480"/>
                <a:gd name="textAreaRight" fmla="*/ 1127880 w 1185480"/>
                <a:gd name="textAreaTop" fmla="*/ 57600 h 2000520"/>
                <a:gd name="textAreaBottom" fmla="*/ 1942920 h 2000520"/>
              </a:gdLst>
              <a:ahLst/>
              <a:rect l="textAreaLeft" t="textAreaTop" r="textAreaRight" b="textAreaBottom"/>
              <a:pathLst>
                <a:path w="21600" h="36446">
                  <a:moveTo>
                    <a:pt x="3600" y="0"/>
                  </a:moveTo>
                  <a:arcTo wR="3600" hR="3600" stAng="16200000" swAng="-5400000"/>
                  <a:lnTo>
                    <a:pt x="0" y="32846"/>
                  </a:lnTo>
                  <a:arcTo wR="3600" hR="3600" stAng="10800000" swAng="-5400000"/>
                  <a:lnTo>
                    <a:pt x="18000" y="364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3160" y="3326760"/>
              <a:ext cx="1169280" cy="50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3160" y="1869840"/>
              <a:ext cx="1169280" cy="50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05200" y="1628640"/>
              <a:ext cx="363240" cy="458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08440" y="1631880"/>
              <a:ext cx="351360" cy="4438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13120" y="1634040"/>
              <a:ext cx="343080" cy="433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6720" y="1638720"/>
              <a:ext cx="326160" cy="404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36520" y="1649880"/>
              <a:ext cx="289800" cy="32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0600" y="169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9360" y="2173320"/>
              <a:ext cx="115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86160" y="3887640"/>
              <a:ext cx="1222200" cy="620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1360" y="3904560"/>
              <a:ext cx="1169280" cy="551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451640" y="1628640"/>
            <a:ext cx="1223640" cy="2990520"/>
            <a:chOff x="7451640" y="1628640"/>
            <a:chExt cx="1223640" cy="2990520"/>
          </a:xfrm>
        </p:grpSpPr>
        <p:sp>
          <p:nvSpPr>
            <p:cNvPr id="216" name=""/>
            <p:cNvSpPr/>
            <p:nvPr/>
          </p:nvSpPr>
          <p:spPr>
            <a:xfrm>
              <a:off x="7454880" y="1856520"/>
              <a:ext cx="1220400" cy="2117880"/>
            </a:xfrm>
            <a:custGeom>
              <a:avLst/>
              <a:gdLst>
                <a:gd name="textAreaLeft" fmla="*/ 62280 w 1220400"/>
                <a:gd name="textAreaRight" fmla="*/ 1158120 w 1220400"/>
                <a:gd name="textAreaTop" fmla="*/ 62280 h 2117880"/>
                <a:gd name="textAreaBottom" fmla="*/ 2055600 h 21178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782" y="0"/>
                  </a:moveTo>
                  <a:arcTo wR="3782" hR="3782" stAng="16200000" swAng="-5400000"/>
                  <a:lnTo>
                    <a:pt x="0" y="33698"/>
                  </a:lnTo>
                  <a:arcTo wR="3782" hR="3782" stAng="10800000" swAng="-5400000"/>
                  <a:lnTo>
                    <a:pt x="17818" y="3748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3960" y="1862640"/>
              <a:ext cx="1183680" cy="2077560"/>
            </a:xfrm>
            <a:custGeom>
              <a:avLst/>
              <a:gdLst>
                <a:gd name="textAreaLeft" fmla="*/ 57600 w 1183680"/>
                <a:gd name="textAreaRight" fmla="*/ 1126080 w 1183680"/>
                <a:gd name="textAreaTop" fmla="*/ 57600 h 2077560"/>
                <a:gd name="textAreaBottom" fmla="*/ 2019960 h 2077560"/>
              </a:gdLst>
              <a:ahLst/>
              <a:rect l="textAreaLeft" t="textAreaTop" r="textAreaRight" b="textAreaBottom"/>
              <a:pathLst>
                <a:path w="21600" h="37907">
                  <a:moveTo>
                    <a:pt x="3600" y="0"/>
                  </a:moveTo>
                  <a:arcTo wR="3600" hR="3600" stAng="16200000" swAng="-5400000"/>
                  <a:lnTo>
                    <a:pt x="0" y="34307"/>
                  </a:lnTo>
                  <a:arcTo wR="3600" hR="3600" stAng="10800000" swAng="-5400000"/>
                  <a:lnTo>
                    <a:pt x="18000" y="37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83680" y="3391920"/>
              <a:ext cx="1167840" cy="525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83680" y="1878840"/>
              <a:ext cx="1167840" cy="524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875000" y="1628640"/>
              <a:ext cx="362520" cy="476280"/>
              <a:chOff x="7875000" y="1628640"/>
              <a:chExt cx="362520" cy="476280"/>
            </a:xfrm>
          </p:grpSpPr>
          <p:sp>
            <p:nvSpPr>
              <p:cNvPr id="221" name=""/>
              <p:cNvSpPr/>
              <p:nvPr/>
            </p:nvSpPr>
            <p:spPr>
              <a:xfrm>
                <a:off x="7875000" y="1628640"/>
                <a:ext cx="3625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78600" y="1632240"/>
                <a:ext cx="350640" cy="461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82920" y="1634760"/>
                <a:ext cx="342360" cy="45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86880" y="1639440"/>
                <a:ext cx="325800" cy="419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905600" y="1650600"/>
                <a:ext cx="2894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878960" y="169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8800" y="2193480"/>
              <a:ext cx="115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1640" y="3974400"/>
              <a:ext cx="1220400" cy="644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76480" y="3992040"/>
              <a:ext cx="1167480" cy="57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11280" y="24310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2720" y="2564640"/>
            <a:ext cx="5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5080" y="2564640"/>
            <a:ext cx="5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33800" y="2636280"/>
            <a:ext cx="6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73800" y="26362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3800" y="2564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рифметичний квадратний корі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000000"/>
                </a:solidFill>
                <a:latin typeface="Arial"/>
              </a:rPr>
              <a:t>Зібратися разом – це початок, працювати разом – це успіх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5905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740720" y="5157720"/>
            <a:ext cx="718920" cy="792360"/>
          </a:xfrm>
          <a:prstGeom prst="wedgeRectCallout">
            <a:avLst>
              <a:gd name="adj1" fmla="val -44259"/>
              <a:gd name="adj2" fmla="val 37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7:18:54Z</dcterms:created>
  <dc:creator>Дарья</dc:creator>
  <dc:description/>
  <dc:language>en-US</dc:language>
  <cp:lastModifiedBy>Дарья</cp:lastModifiedBy>
  <dcterms:modified xsi:type="dcterms:W3CDTF">2013-02-18T20:16:29Z</dcterms:modified>
  <cp:revision>3</cp:revision>
  <dc:subject/>
  <dc:title>ПРОТЯГОМ УРОКУ:</dc:title>
</cp:coreProperties>
</file>